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422-E23A-483F-AB7B-9069786E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F3F-EEFE-4BF5-A1BD-B12885A9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9B7-6CE5-444C-9BC4-4B3ECE55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61E-1EF3-4839-9054-CE284644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3D6-EC4B-448A-BBF7-E189784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E7A-DF40-42D3-AA65-0ADBB6B5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36A-05ED-445F-88DE-A36FC8DF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665-FD8B-47A7-9190-BAB0394F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705-2FBF-4B0A-A7B5-D21188C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BCA-C6EC-4C17-B637-E08D226E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6F3-29B5-409E-BEC5-AE9F48A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1F8-2074-423A-B50F-42647A6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CA1E-FB0D-47A2-9C2D-FDDF5E3342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6/Pascal%27s_triangle_5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Find the value for x such that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= 28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680" y="3170160"/>
            <a:ext cx="955440" cy="1187640"/>
          </a:xfrm>
          <a:custGeom>
            <a:avLst/>
            <a:gdLst/>
            <a:ahLst/>
            <a:rect l="l" t="t" r="r" b="b"/>
            <a:pathLst>
              <a:path w="2655" h="3300">
                <a:moveTo>
                  <a:pt x="2307" y="9922"/>
                </a:moveTo>
                <a:cubicBezTo>
                  <a:pt x="2307" y="10066"/>
                  <a:pt x="2316" y="10209"/>
                  <a:pt x="2282" y="10344"/>
                </a:cubicBezTo>
                <a:cubicBezTo>
                  <a:pt x="2263" y="10418"/>
                  <a:pt x="2282" y="10435"/>
                  <a:pt x="2282" y="10344"/>
                </a:cubicBezTo>
                <a:cubicBezTo>
                  <a:pt x="2282" y="10247"/>
                  <a:pt x="2282" y="10138"/>
                  <a:pt x="2307" y="10046"/>
                </a:cubicBezTo>
                <a:cubicBezTo>
                  <a:pt x="2336" y="9942"/>
                  <a:pt x="2395" y="9848"/>
                  <a:pt x="2431" y="9748"/>
                </a:cubicBezTo>
                <a:cubicBezTo>
                  <a:pt x="2454" y="9686"/>
                  <a:pt x="2495" y="9578"/>
                  <a:pt x="2555" y="9550"/>
                </a:cubicBezTo>
                <a:cubicBezTo>
                  <a:pt x="2622" y="9519"/>
                  <a:pt x="2684" y="9571"/>
                  <a:pt x="2729" y="9599"/>
                </a:cubicBezTo>
                <a:cubicBezTo>
                  <a:pt x="2804" y="9645"/>
                  <a:pt x="2841" y="9742"/>
                  <a:pt x="2877" y="9823"/>
                </a:cubicBezTo>
                <a:cubicBezTo>
                  <a:pt x="2919" y="9918"/>
                  <a:pt x="2941" y="10044"/>
                  <a:pt x="2952" y="10145"/>
                </a:cubicBezTo>
                <a:cubicBezTo>
                  <a:pt x="2961" y="10224"/>
                  <a:pt x="2977" y="10287"/>
                  <a:pt x="2977" y="10368"/>
                </a:cubicBezTo>
                <a:cubicBezTo>
                  <a:pt x="2977" y="10344"/>
                  <a:pt x="2977" y="10336"/>
                  <a:pt x="3001" y="10344"/>
                </a:cubicBezTo>
              </a:path>
              <a:path w="2655" h="3300">
                <a:moveTo>
                  <a:pt x="3473" y="8806"/>
                </a:moveTo>
                <a:cubicBezTo>
                  <a:pt x="3501" y="8894"/>
                  <a:pt x="3518" y="8985"/>
                  <a:pt x="3522" y="9079"/>
                </a:cubicBezTo>
                <a:cubicBezTo>
                  <a:pt x="3529" y="9277"/>
                  <a:pt x="3522" y="9476"/>
                  <a:pt x="3522" y="9674"/>
                </a:cubicBezTo>
              </a:path>
              <a:path w="2655" h="3300">
                <a:moveTo>
                  <a:pt x="3721" y="10492"/>
                </a:moveTo>
                <a:cubicBezTo>
                  <a:pt x="3721" y="10541"/>
                  <a:pt x="3727" y="10547"/>
                  <a:pt x="3696" y="10567"/>
                </a:cubicBezTo>
              </a:path>
              <a:path w="2655" h="3300">
                <a:moveTo>
                  <a:pt x="1637" y="10691"/>
                </a:moveTo>
                <a:cubicBezTo>
                  <a:pt x="1683" y="10708"/>
                  <a:pt x="1677" y="10716"/>
                  <a:pt x="1786" y="10716"/>
                </a:cubicBezTo>
                <a:cubicBezTo>
                  <a:pt x="1932" y="10716"/>
                  <a:pt x="2066" y="10657"/>
                  <a:pt x="2208" y="10641"/>
                </a:cubicBezTo>
                <a:cubicBezTo>
                  <a:pt x="2484" y="10609"/>
                  <a:pt x="2776" y="10617"/>
                  <a:pt x="3051" y="10592"/>
                </a:cubicBezTo>
                <a:cubicBezTo>
                  <a:pt x="3385" y="10562"/>
                  <a:pt x="3968" y="10704"/>
                  <a:pt x="4242" y="10567"/>
                </a:cubicBezTo>
              </a:path>
              <a:path w="2655" h="3300">
                <a:moveTo>
                  <a:pt x="1687" y="11757"/>
                </a:moveTo>
                <a:cubicBezTo>
                  <a:pt x="1687" y="11802"/>
                  <a:pt x="1687" y="12105"/>
                  <a:pt x="1687" y="12080"/>
                </a:cubicBezTo>
                <a:cubicBezTo>
                  <a:pt x="1649" y="12016"/>
                  <a:pt x="1654" y="11956"/>
                  <a:pt x="1637" y="11881"/>
                </a:cubicBezTo>
                <a:cubicBezTo>
                  <a:pt x="1620" y="11807"/>
                  <a:pt x="1576" y="11710"/>
                  <a:pt x="1588" y="11633"/>
                </a:cubicBezTo>
                <a:cubicBezTo>
                  <a:pt x="1604" y="11533"/>
                  <a:pt x="1608" y="11510"/>
                  <a:pt x="1687" y="11460"/>
                </a:cubicBezTo>
                <a:cubicBezTo>
                  <a:pt x="1754" y="11417"/>
                  <a:pt x="1854" y="11379"/>
                  <a:pt x="1935" y="11361"/>
                </a:cubicBezTo>
                <a:cubicBezTo>
                  <a:pt x="1951" y="11361"/>
                  <a:pt x="1968" y="11361"/>
                  <a:pt x="1984" y="11361"/>
                </a:cubicBezTo>
              </a:path>
              <a:path w="2655" h="3300">
                <a:moveTo>
                  <a:pt x="2456" y="10988"/>
                </a:moveTo>
                <a:cubicBezTo>
                  <a:pt x="2449" y="11086"/>
                  <a:pt x="2431" y="11162"/>
                  <a:pt x="2431" y="11261"/>
                </a:cubicBezTo>
                <a:cubicBezTo>
                  <a:pt x="2431" y="11345"/>
                  <a:pt x="2427" y="11408"/>
                  <a:pt x="2456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8800" y="4697280"/>
            <a:ext cx="1063440" cy="1177920"/>
          </a:xfrm>
          <a:custGeom>
            <a:avLst/>
            <a:gdLst/>
            <a:ahLst/>
            <a:rect l="l" t="t" r="r" b="b"/>
            <a:pathLst>
              <a:path w="2952" h="3275">
                <a:moveTo>
                  <a:pt x="3547" y="13395"/>
                </a:moveTo>
                <a:cubicBezTo>
                  <a:pt x="3580" y="13362"/>
                  <a:pt x="3639" y="13326"/>
                  <a:pt x="3621" y="13271"/>
                </a:cubicBezTo>
                <a:cubicBezTo>
                  <a:pt x="3606" y="13225"/>
                  <a:pt x="3488" y="13131"/>
                  <a:pt x="3448" y="13122"/>
                </a:cubicBezTo>
                <a:cubicBezTo>
                  <a:pt x="3366" y="13104"/>
                  <a:pt x="3287" y="13097"/>
                  <a:pt x="3200" y="13097"/>
                </a:cubicBezTo>
                <a:cubicBezTo>
                  <a:pt x="3144" y="13097"/>
                  <a:pt x="3092" y="13112"/>
                  <a:pt x="3051" y="13146"/>
                </a:cubicBezTo>
                <a:cubicBezTo>
                  <a:pt x="3019" y="13172"/>
                  <a:pt x="3012" y="13282"/>
                  <a:pt x="3026" y="13320"/>
                </a:cubicBezTo>
                <a:cubicBezTo>
                  <a:pt x="3091" y="13494"/>
                  <a:pt x="3221" y="13644"/>
                  <a:pt x="3299" y="13816"/>
                </a:cubicBezTo>
                <a:cubicBezTo>
                  <a:pt x="3363" y="13959"/>
                  <a:pt x="3416" y="14133"/>
                  <a:pt x="3423" y="14288"/>
                </a:cubicBezTo>
                <a:cubicBezTo>
                  <a:pt x="3426" y="14347"/>
                  <a:pt x="3411" y="14349"/>
                  <a:pt x="3373" y="14387"/>
                </a:cubicBezTo>
                <a:cubicBezTo>
                  <a:pt x="3340" y="14368"/>
                  <a:pt x="3300" y="14352"/>
                  <a:pt x="3274" y="14312"/>
                </a:cubicBezTo>
                <a:cubicBezTo>
                  <a:pt x="3226" y="14238"/>
                  <a:pt x="3249" y="14124"/>
                  <a:pt x="3249" y="14039"/>
                </a:cubicBezTo>
                <a:cubicBezTo>
                  <a:pt x="3249" y="13937"/>
                  <a:pt x="3305" y="13856"/>
                  <a:pt x="3349" y="13767"/>
                </a:cubicBezTo>
                <a:cubicBezTo>
                  <a:pt x="3390" y="13683"/>
                  <a:pt x="3420" y="13603"/>
                  <a:pt x="3448" y="13519"/>
                </a:cubicBezTo>
                <a:cubicBezTo>
                  <a:pt x="3472" y="13447"/>
                  <a:pt x="3519" y="13363"/>
                  <a:pt x="3547" y="13295"/>
                </a:cubicBezTo>
              </a:path>
              <a:path w="2952" h="3275">
                <a:moveTo>
                  <a:pt x="3820" y="13047"/>
                </a:moveTo>
                <a:cubicBezTo>
                  <a:pt x="3837" y="13202"/>
                  <a:pt x="3845" y="13340"/>
                  <a:pt x="3845" y="13494"/>
                </a:cubicBezTo>
                <a:cubicBezTo>
                  <a:pt x="3845" y="13684"/>
                  <a:pt x="3845" y="13874"/>
                  <a:pt x="3845" y="14064"/>
                </a:cubicBezTo>
              </a:path>
              <a:path w="2952" h="3275">
                <a:moveTo>
                  <a:pt x="3894" y="14585"/>
                </a:moveTo>
                <a:cubicBezTo>
                  <a:pt x="3917" y="14608"/>
                  <a:pt x="3925" y="14612"/>
                  <a:pt x="3919" y="14635"/>
                </a:cubicBezTo>
              </a:path>
              <a:path w="2952" h="3275">
                <a:moveTo>
                  <a:pt x="2580" y="14858"/>
                </a:moveTo>
                <a:cubicBezTo>
                  <a:pt x="2764" y="14836"/>
                  <a:pt x="2939" y="14833"/>
                  <a:pt x="3125" y="14833"/>
                </a:cubicBezTo>
                <a:cubicBezTo>
                  <a:pt x="3343" y="14833"/>
                  <a:pt x="3554" y="14819"/>
                  <a:pt x="3770" y="14808"/>
                </a:cubicBezTo>
                <a:cubicBezTo>
                  <a:pt x="3993" y="14797"/>
                  <a:pt x="4217" y="14788"/>
                  <a:pt x="4440" y="14784"/>
                </a:cubicBezTo>
                <a:cubicBezTo>
                  <a:pt x="4609" y="14781"/>
                  <a:pt x="4771" y="14773"/>
                  <a:pt x="4936" y="14759"/>
                </a:cubicBezTo>
                <a:cubicBezTo>
                  <a:pt x="5066" y="14748"/>
                  <a:pt x="5206" y="14761"/>
                  <a:pt x="5333" y="14734"/>
                </a:cubicBezTo>
                <a:cubicBezTo>
                  <a:pt x="5396" y="14721"/>
                  <a:pt x="5439" y="14709"/>
                  <a:pt x="5507" y="14709"/>
                </a:cubicBezTo>
                <a:cubicBezTo>
                  <a:pt x="5562" y="14709"/>
                  <a:pt x="5437" y="14667"/>
                  <a:pt x="5407" y="14660"/>
                </a:cubicBezTo>
              </a:path>
              <a:path w="2952" h="3275">
                <a:moveTo>
                  <a:pt x="3051" y="15180"/>
                </a:moveTo>
                <a:cubicBezTo>
                  <a:pt x="3091" y="15151"/>
                  <a:pt x="3112" y="15175"/>
                  <a:pt x="3150" y="15156"/>
                </a:cubicBezTo>
                <a:cubicBezTo>
                  <a:pt x="3187" y="15137"/>
                  <a:pt x="3208" y="15116"/>
                  <a:pt x="3249" y="15106"/>
                </a:cubicBezTo>
                <a:cubicBezTo>
                  <a:pt x="3295" y="15094"/>
                  <a:pt x="3361" y="15106"/>
                  <a:pt x="3398" y="15131"/>
                </a:cubicBezTo>
                <a:cubicBezTo>
                  <a:pt x="3451" y="15167"/>
                  <a:pt x="3470" y="15247"/>
                  <a:pt x="3473" y="15304"/>
                </a:cubicBezTo>
                <a:cubicBezTo>
                  <a:pt x="3478" y="15421"/>
                  <a:pt x="3459" y="15516"/>
                  <a:pt x="3423" y="15627"/>
                </a:cubicBezTo>
                <a:cubicBezTo>
                  <a:pt x="3392" y="15723"/>
                  <a:pt x="3356" y="15843"/>
                  <a:pt x="3299" y="15925"/>
                </a:cubicBezTo>
                <a:cubicBezTo>
                  <a:pt x="3254" y="15991"/>
                  <a:pt x="3185" y="16028"/>
                  <a:pt x="3125" y="16073"/>
                </a:cubicBezTo>
                <a:cubicBezTo>
                  <a:pt x="3090" y="16099"/>
                  <a:pt x="3095" y="16098"/>
                  <a:pt x="3051" y="16098"/>
                </a:cubicBezTo>
                <a:cubicBezTo>
                  <a:pt x="3021" y="16048"/>
                  <a:pt x="3026" y="16011"/>
                  <a:pt x="3026" y="15949"/>
                </a:cubicBezTo>
                <a:cubicBezTo>
                  <a:pt x="3026" y="15891"/>
                  <a:pt x="3050" y="15813"/>
                  <a:pt x="3101" y="15776"/>
                </a:cubicBezTo>
                <a:cubicBezTo>
                  <a:pt x="3127" y="15758"/>
                  <a:pt x="3164" y="15751"/>
                  <a:pt x="3200" y="15751"/>
                </a:cubicBezTo>
                <a:cubicBezTo>
                  <a:pt x="3211" y="15793"/>
                  <a:pt x="3232" y="15858"/>
                  <a:pt x="3249" y="15900"/>
                </a:cubicBezTo>
                <a:cubicBezTo>
                  <a:pt x="3282" y="15984"/>
                  <a:pt x="3336" y="16100"/>
                  <a:pt x="3373" y="16173"/>
                </a:cubicBezTo>
                <a:cubicBezTo>
                  <a:pt x="3398" y="16197"/>
                  <a:pt x="3407" y="16205"/>
                  <a:pt x="3423" y="16222"/>
                </a:cubicBezTo>
                <a:cubicBezTo>
                  <a:pt x="3478" y="16167"/>
                  <a:pt x="3495" y="16124"/>
                  <a:pt x="3522" y="16049"/>
                </a:cubicBezTo>
              </a:path>
              <a:path w="2952" h="3275">
                <a:moveTo>
                  <a:pt x="3894" y="14858"/>
                </a:moveTo>
                <a:cubicBezTo>
                  <a:pt x="3903" y="14942"/>
                  <a:pt x="3934" y="15023"/>
                  <a:pt x="3944" y="15106"/>
                </a:cubicBezTo>
                <a:cubicBezTo>
                  <a:pt x="3964" y="15277"/>
                  <a:pt x="3943" y="15461"/>
                  <a:pt x="3919" y="15627"/>
                </a:cubicBezTo>
                <a:cubicBezTo>
                  <a:pt x="3919" y="15679"/>
                  <a:pt x="3918" y="15697"/>
                  <a:pt x="3894" y="15726"/>
                </a:cubicBezTo>
              </a:path>
              <a:path w="2952" h="3275">
                <a:moveTo>
                  <a:pt x="3870" y="16123"/>
                </a:moveTo>
                <a:cubicBezTo>
                  <a:pt x="3886" y="16131"/>
                  <a:pt x="3903" y="16140"/>
                  <a:pt x="3919" y="16148"/>
                </a:cubicBezTo>
              </a:path>
              <a:path w="2952" h="3275">
                <a:moveTo>
                  <a:pt x="4762" y="15056"/>
                </a:moveTo>
                <a:cubicBezTo>
                  <a:pt x="4734" y="15095"/>
                  <a:pt x="4713" y="15133"/>
                  <a:pt x="4688" y="15180"/>
                </a:cubicBezTo>
                <a:cubicBezTo>
                  <a:pt x="4647" y="15257"/>
                  <a:pt x="4634" y="15323"/>
                  <a:pt x="4614" y="15404"/>
                </a:cubicBezTo>
                <a:cubicBezTo>
                  <a:pt x="4582" y="15530"/>
                  <a:pt x="4589" y="15644"/>
                  <a:pt x="4589" y="15776"/>
                </a:cubicBezTo>
                <a:cubicBezTo>
                  <a:pt x="4589" y="15844"/>
                  <a:pt x="4602" y="15939"/>
                  <a:pt x="4638" y="15999"/>
                </a:cubicBezTo>
                <a:cubicBezTo>
                  <a:pt x="4681" y="16070"/>
                  <a:pt x="4753" y="16050"/>
                  <a:pt x="4812" y="16024"/>
                </a:cubicBezTo>
                <a:cubicBezTo>
                  <a:pt x="4890" y="15989"/>
                  <a:pt x="4938" y="15946"/>
                  <a:pt x="4986" y="15875"/>
                </a:cubicBezTo>
                <a:cubicBezTo>
                  <a:pt x="5031" y="15808"/>
                  <a:pt x="5035" y="15754"/>
                  <a:pt x="5035" y="15677"/>
                </a:cubicBezTo>
                <a:cubicBezTo>
                  <a:pt x="5035" y="15634"/>
                  <a:pt x="5036" y="15637"/>
                  <a:pt x="5011" y="15602"/>
                </a:cubicBezTo>
                <a:cubicBezTo>
                  <a:pt x="4965" y="15602"/>
                  <a:pt x="4938" y="15609"/>
                  <a:pt x="4911" y="15652"/>
                </a:cubicBezTo>
                <a:cubicBezTo>
                  <a:pt x="4866" y="15722"/>
                  <a:pt x="4887" y="15820"/>
                  <a:pt x="4887" y="15900"/>
                </a:cubicBezTo>
                <a:cubicBezTo>
                  <a:pt x="4887" y="15955"/>
                  <a:pt x="4864" y="16063"/>
                  <a:pt x="4936" y="16073"/>
                </a:cubicBezTo>
                <a:cubicBezTo>
                  <a:pt x="4953" y="16073"/>
                  <a:pt x="4969" y="16073"/>
                  <a:pt x="4986" y="16073"/>
                </a:cubicBezTo>
              </a:path>
              <a:path w="2952" h="3275">
                <a:moveTo>
                  <a:pt x="5407" y="14908"/>
                </a:moveTo>
                <a:cubicBezTo>
                  <a:pt x="5407" y="15025"/>
                  <a:pt x="5430" y="15138"/>
                  <a:pt x="5432" y="15255"/>
                </a:cubicBezTo>
                <a:cubicBezTo>
                  <a:pt x="5435" y="15446"/>
                  <a:pt x="5458" y="15665"/>
                  <a:pt x="5407" y="15850"/>
                </a:cubicBezTo>
              </a:path>
              <a:path w="2952" h="3275">
                <a:moveTo>
                  <a:pt x="5432" y="16272"/>
                </a:moveTo>
                <a:cubicBezTo>
                  <a:pt x="5470" y="16322"/>
                  <a:pt x="5457" y="16333"/>
                  <a:pt x="5407" y="162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4348080"/>
            <a:ext cx="27000" cy="46080"/>
          </a:xfrm>
          <a:custGeom>
            <a:avLst/>
            <a:gdLst/>
            <a:ahLst/>
            <a:rect l="l" t="t" r="r" b="b"/>
            <a:pathLst>
              <a:path w="76" h="125">
                <a:moveTo>
                  <a:pt x="2505" y="12204"/>
                </a:moveTo>
                <a:cubicBezTo>
                  <a:pt x="2571" y="12187"/>
                  <a:pt x="2572" y="12144"/>
                  <a:pt x="2580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1720" y="3803760"/>
            <a:ext cx="1054080" cy="617400"/>
          </a:xfrm>
          <a:custGeom>
            <a:avLst/>
            <a:gdLst/>
            <a:ahLst/>
            <a:rect l="l" t="t" r="r" b="b"/>
            <a:pathLst>
              <a:path w="2928" h="1712">
                <a:moveTo>
                  <a:pt x="3175" y="10988"/>
                </a:moveTo>
                <a:cubicBezTo>
                  <a:pt x="3093" y="11047"/>
                  <a:pt x="3099" y="11098"/>
                  <a:pt x="3051" y="11187"/>
                </a:cubicBezTo>
                <a:cubicBezTo>
                  <a:pt x="2979" y="11319"/>
                  <a:pt x="2977" y="11409"/>
                  <a:pt x="2977" y="11559"/>
                </a:cubicBezTo>
                <a:cubicBezTo>
                  <a:pt x="2977" y="11693"/>
                  <a:pt x="2950" y="11855"/>
                  <a:pt x="3001" y="11981"/>
                </a:cubicBezTo>
                <a:cubicBezTo>
                  <a:pt x="3031" y="12054"/>
                  <a:pt x="3084" y="12178"/>
                  <a:pt x="3150" y="12229"/>
                </a:cubicBezTo>
                <a:cubicBezTo>
                  <a:pt x="3200" y="12254"/>
                  <a:pt x="3216" y="12262"/>
                  <a:pt x="3249" y="12278"/>
                </a:cubicBezTo>
              </a:path>
              <a:path w="2928" h="1712">
                <a:moveTo>
                  <a:pt x="3398" y="11782"/>
                </a:moveTo>
                <a:cubicBezTo>
                  <a:pt x="3376" y="11839"/>
                  <a:pt x="3355" y="11917"/>
                  <a:pt x="3373" y="11981"/>
                </a:cubicBezTo>
                <a:cubicBezTo>
                  <a:pt x="3388" y="12033"/>
                  <a:pt x="3418" y="12080"/>
                  <a:pt x="3423" y="12129"/>
                </a:cubicBezTo>
                <a:cubicBezTo>
                  <a:pt x="3423" y="12154"/>
                  <a:pt x="3423" y="12162"/>
                  <a:pt x="3423" y="12129"/>
                </a:cubicBezTo>
                <a:cubicBezTo>
                  <a:pt x="3423" y="12034"/>
                  <a:pt x="3437" y="11946"/>
                  <a:pt x="3448" y="11857"/>
                </a:cubicBezTo>
                <a:cubicBezTo>
                  <a:pt x="3457" y="11785"/>
                  <a:pt x="3443" y="11699"/>
                  <a:pt x="3473" y="11633"/>
                </a:cubicBezTo>
                <a:cubicBezTo>
                  <a:pt x="3517" y="11536"/>
                  <a:pt x="3638" y="11637"/>
                  <a:pt x="3671" y="11683"/>
                </a:cubicBezTo>
                <a:cubicBezTo>
                  <a:pt x="3730" y="11767"/>
                  <a:pt x="3784" y="11860"/>
                  <a:pt x="3820" y="11956"/>
                </a:cubicBezTo>
                <a:cubicBezTo>
                  <a:pt x="3851" y="12039"/>
                  <a:pt x="3893" y="12131"/>
                  <a:pt x="3944" y="12204"/>
                </a:cubicBezTo>
                <a:cubicBezTo>
                  <a:pt x="3952" y="12212"/>
                  <a:pt x="3961" y="12221"/>
                  <a:pt x="3969" y="12229"/>
                </a:cubicBezTo>
              </a:path>
              <a:path w="2928" h="1712">
                <a:moveTo>
                  <a:pt x="4093" y="11807"/>
                </a:moveTo>
                <a:cubicBezTo>
                  <a:pt x="4195" y="11763"/>
                  <a:pt x="4294" y="11737"/>
                  <a:pt x="4390" y="11683"/>
                </a:cubicBezTo>
                <a:cubicBezTo>
                  <a:pt x="4407" y="11675"/>
                  <a:pt x="4423" y="11666"/>
                  <a:pt x="4440" y="11658"/>
                </a:cubicBezTo>
              </a:path>
              <a:path w="2928" h="1712">
                <a:moveTo>
                  <a:pt x="4564" y="11683"/>
                </a:moveTo>
                <a:cubicBezTo>
                  <a:pt x="4584" y="11774"/>
                  <a:pt x="4593" y="11868"/>
                  <a:pt x="4614" y="11956"/>
                </a:cubicBezTo>
                <a:cubicBezTo>
                  <a:pt x="4628" y="12015"/>
                  <a:pt x="4635" y="12083"/>
                  <a:pt x="4663" y="12129"/>
                </a:cubicBezTo>
                <a:cubicBezTo>
                  <a:pt x="4636" y="12120"/>
                  <a:pt x="4619" y="12064"/>
                  <a:pt x="4614" y="12030"/>
                </a:cubicBezTo>
                <a:cubicBezTo>
                  <a:pt x="4602" y="11951"/>
                  <a:pt x="4593" y="11861"/>
                  <a:pt x="4589" y="11782"/>
                </a:cubicBezTo>
                <a:cubicBezTo>
                  <a:pt x="4586" y="11724"/>
                  <a:pt x="4611" y="11666"/>
                  <a:pt x="4663" y="11633"/>
                </a:cubicBezTo>
                <a:cubicBezTo>
                  <a:pt x="4715" y="11600"/>
                  <a:pt x="4802" y="11587"/>
                  <a:pt x="4862" y="11584"/>
                </a:cubicBezTo>
                <a:cubicBezTo>
                  <a:pt x="4913" y="11584"/>
                  <a:pt x="4932" y="11583"/>
                  <a:pt x="4961" y="11559"/>
                </a:cubicBezTo>
              </a:path>
              <a:path w="2928" h="1712">
                <a:moveTo>
                  <a:pt x="4961" y="10716"/>
                </a:moveTo>
                <a:cubicBezTo>
                  <a:pt x="5057" y="10729"/>
                  <a:pt x="5068" y="10776"/>
                  <a:pt x="5110" y="10864"/>
                </a:cubicBezTo>
                <a:cubicBezTo>
                  <a:pt x="5181" y="11011"/>
                  <a:pt x="5253" y="11133"/>
                  <a:pt x="5308" y="11286"/>
                </a:cubicBezTo>
                <a:cubicBezTo>
                  <a:pt x="5366" y="11449"/>
                  <a:pt x="5383" y="11560"/>
                  <a:pt x="5383" y="11733"/>
                </a:cubicBezTo>
                <a:cubicBezTo>
                  <a:pt x="5383" y="11859"/>
                  <a:pt x="5360" y="11965"/>
                  <a:pt x="5308" y="12080"/>
                </a:cubicBezTo>
                <a:cubicBezTo>
                  <a:pt x="5299" y="12100"/>
                  <a:pt x="5259" y="12226"/>
                  <a:pt x="5234" y="12229"/>
                </a:cubicBezTo>
                <a:cubicBezTo>
                  <a:pt x="5211" y="12206"/>
                  <a:pt x="5203" y="12202"/>
                  <a:pt x="5209" y="12179"/>
                </a:cubicBezTo>
              </a:path>
              <a:path w="2928" h="1712">
                <a:moveTo>
                  <a:pt x="5482" y="10567"/>
                </a:moveTo>
                <a:cubicBezTo>
                  <a:pt x="5528" y="10706"/>
                  <a:pt x="5543" y="10847"/>
                  <a:pt x="5581" y="10988"/>
                </a:cubicBezTo>
                <a:cubicBezTo>
                  <a:pt x="5615" y="11117"/>
                  <a:pt x="5666" y="11251"/>
                  <a:pt x="5680" y="11385"/>
                </a:cubicBezTo>
                <a:cubicBezTo>
                  <a:pt x="5680" y="11418"/>
                  <a:pt x="5680" y="11452"/>
                  <a:pt x="5680" y="11485"/>
                </a:cubicBezTo>
              </a:path>
              <a:path w="2928" h="1712">
                <a:moveTo>
                  <a:pt x="5879" y="12254"/>
                </a:moveTo>
                <a:cubicBezTo>
                  <a:pt x="5907" y="12254"/>
                  <a:pt x="5913" y="12252"/>
                  <a:pt x="5879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6960" y="1285920"/>
            <a:ext cx="812880" cy="992160"/>
          </a:xfrm>
          <a:custGeom>
            <a:avLst/>
            <a:gdLst/>
            <a:ahLst/>
            <a:rect l="l" t="t" r="r" b="b"/>
            <a:pathLst>
              <a:path w="2258" h="2754">
                <a:moveTo>
                  <a:pt x="2257" y="5655"/>
                </a:moveTo>
                <a:cubicBezTo>
                  <a:pt x="2247" y="5625"/>
                  <a:pt x="2224" y="5623"/>
                  <a:pt x="2183" y="5631"/>
                </a:cubicBezTo>
                <a:cubicBezTo>
                  <a:pt x="2101" y="5648"/>
                  <a:pt x="2045" y="5674"/>
                  <a:pt x="1984" y="5730"/>
                </a:cubicBezTo>
                <a:cubicBezTo>
                  <a:pt x="1966" y="5747"/>
                  <a:pt x="1928" y="5804"/>
                  <a:pt x="1935" y="5829"/>
                </a:cubicBezTo>
                <a:cubicBezTo>
                  <a:pt x="1953" y="5893"/>
                  <a:pt x="2034" y="5966"/>
                  <a:pt x="2084" y="6003"/>
                </a:cubicBezTo>
                <a:cubicBezTo>
                  <a:pt x="2146" y="6048"/>
                  <a:pt x="2234" y="6093"/>
                  <a:pt x="2257" y="6176"/>
                </a:cubicBezTo>
                <a:cubicBezTo>
                  <a:pt x="2265" y="6204"/>
                  <a:pt x="2253" y="6286"/>
                  <a:pt x="2232" y="6300"/>
                </a:cubicBezTo>
                <a:cubicBezTo>
                  <a:pt x="2199" y="6322"/>
                  <a:pt x="2147" y="6319"/>
                  <a:pt x="2108" y="6300"/>
                </a:cubicBezTo>
                <a:cubicBezTo>
                  <a:pt x="2074" y="6283"/>
                  <a:pt x="2038" y="6234"/>
                  <a:pt x="2034" y="6201"/>
                </a:cubicBezTo>
                <a:cubicBezTo>
                  <a:pt x="2028" y="6143"/>
                  <a:pt x="2026" y="6077"/>
                  <a:pt x="2059" y="6028"/>
                </a:cubicBezTo>
                <a:cubicBezTo>
                  <a:pt x="2101" y="5966"/>
                  <a:pt x="2167" y="5917"/>
                  <a:pt x="2208" y="5854"/>
                </a:cubicBezTo>
                <a:cubicBezTo>
                  <a:pt x="2228" y="5824"/>
                  <a:pt x="2259" y="5721"/>
                  <a:pt x="2282" y="5705"/>
                </a:cubicBezTo>
                <a:cubicBezTo>
                  <a:pt x="2307" y="5705"/>
                  <a:pt x="2315" y="5705"/>
                  <a:pt x="2307" y="5680"/>
                </a:cubicBezTo>
              </a:path>
              <a:path w="2258" h="2754">
                <a:moveTo>
                  <a:pt x="3200" y="3597"/>
                </a:moveTo>
                <a:cubicBezTo>
                  <a:pt x="3214" y="3624"/>
                  <a:pt x="3231" y="3703"/>
                  <a:pt x="3249" y="3721"/>
                </a:cubicBezTo>
                <a:cubicBezTo>
                  <a:pt x="3257" y="3721"/>
                  <a:pt x="3266" y="3721"/>
                  <a:pt x="3274" y="3721"/>
                </a:cubicBezTo>
                <a:cubicBezTo>
                  <a:pt x="3243" y="3701"/>
                  <a:pt x="3210" y="3672"/>
                  <a:pt x="3175" y="3646"/>
                </a:cubicBezTo>
                <a:cubicBezTo>
                  <a:pt x="3136" y="3617"/>
                  <a:pt x="3051" y="3566"/>
                  <a:pt x="3001" y="3572"/>
                </a:cubicBezTo>
                <a:cubicBezTo>
                  <a:pt x="2902" y="3583"/>
                  <a:pt x="2776" y="3694"/>
                  <a:pt x="2729" y="3770"/>
                </a:cubicBezTo>
                <a:cubicBezTo>
                  <a:pt x="2634" y="3926"/>
                  <a:pt x="2567" y="4106"/>
                  <a:pt x="2580" y="4291"/>
                </a:cubicBezTo>
                <a:cubicBezTo>
                  <a:pt x="2591" y="4452"/>
                  <a:pt x="2634" y="4585"/>
                  <a:pt x="2679" y="4738"/>
                </a:cubicBezTo>
                <a:cubicBezTo>
                  <a:pt x="2704" y="4824"/>
                  <a:pt x="2742" y="5067"/>
                  <a:pt x="2828" y="5135"/>
                </a:cubicBezTo>
                <a:cubicBezTo>
                  <a:pt x="2909" y="5200"/>
                  <a:pt x="3098" y="5254"/>
                  <a:pt x="3200" y="5234"/>
                </a:cubicBezTo>
                <a:cubicBezTo>
                  <a:pt x="3294" y="5216"/>
                  <a:pt x="3344" y="5210"/>
                  <a:pt x="3398" y="5135"/>
                </a:cubicBezTo>
              </a:path>
              <a:path w="2258" h="2754">
                <a:moveTo>
                  <a:pt x="3621" y="4713"/>
                </a:moveTo>
                <a:cubicBezTo>
                  <a:pt x="3724" y="4708"/>
                  <a:pt x="3923" y="4668"/>
                  <a:pt x="3894" y="4862"/>
                </a:cubicBezTo>
                <a:cubicBezTo>
                  <a:pt x="3883" y="4933"/>
                  <a:pt x="3815" y="5011"/>
                  <a:pt x="3770" y="5060"/>
                </a:cubicBezTo>
                <a:cubicBezTo>
                  <a:pt x="3737" y="5096"/>
                  <a:pt x="3680" y="5119"/>
                  <a:pt x="3671" y="5159"/>
                </a:cubicBezTo>
                <a:cubicBezTo>
                  <a:pt x="3671" y="5167"/>
                  <a:pt x="3671" y="5176"/>
                  <a:pt x="3671" y="5184"/>
                </a:cubicBezTo>
                <a:cubicBezTo>
                  <a:pt x="3751" y="5184"/>
                  <a:pt x="3818" y="5168"/>
                  <a:pt x="3894" y="5159"/>
                </a:cubicBezTo>
                <a:cubicBezTo>
                  <a:pt x="3987" y="5149"/>
                  <a:pt x="4072" y="5135"/>
                  <a:pt x="4167" y="5135"/>
                </a:cubicBezTo>
                <a:cubicBezTo>
                  <a:pt x="4213" y="5135"/>
                  <a:pt x="4204" y="5131"/>
                  <a:pt x="4142" y="5135"/>
                </a:cubicBezTo>
                <a:cubicBezTo>
                  <a:pt x="4126" y="5135"/>
                  <a:pt x="4109" y="5135"/>
                  <a:pt x="4093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03640" y="928800"/>
            <a:ext cx="1046160" cy="1187280"/>
          </a:xfrm>
          <a:custGeom>
            <a:avLst/>
            <a:gdLst/>
            <a:ahLst/>
            <a:rect l="l" t="t" r="r" b="b"/>
            <a:pathLst>
              <a:path w="2903" h="3300">
                <a:moveTo>
                  <a:pt x="7367" y="2729"/>
                </a:moveTo>
                <a:cubicBezTo>
                  <a:pt x="7348" y="2655"/>
                  <a:pt x="7371" y="2650"/>
                  <a:pt x="7293" y="2604"/>
                </a:cubicBezTo>
                <a:cubicBezTo>
                  <a:pt x="7212" y="2556"/>
                  <a:pt x="7086" y="2580"/>
                  <a:pt x="6995" y="2580"/>
                </a:cubicBezTo>
                <a:cubicBezTo>
                  <a:pt x="6851" y="2580"/>
                  <a:pt x="6711" y="2613"/>
                  <a:pt x="6573" y="2654"/>
                </a:cubicBezTo>
                <a:cubicBezTo>
                  <a:pt x="6508" y="2673"/>
                  <a:pt x="6414" y="2698"/>
                  <a:pt x="6400" y="2778"/>
                </a:cubicBezTo>
                <a:cubicBezTo>
                  <a:pt x="6390" y="2837"/>
                  <a:pt x="6412" y="2905"/>
                  <a:pt x="6449" y="2952"/>
                </a:cubicBezTo>
                <a:cubicBezTo>
                  <a:pt x="6512" y="3032"/>
                  <a:pt x="6597" y="3086"/>
                  <a:pt x="6672" y="3150"/>
                </a:cubicBezTo>
                <a:cubicBezTo>
                  <a:pt x="6775" y="3238"/>
                  <a:pt x="6903" y="3324"/>
                  <a:pt x="6995" y="3423"/>
                </a:cubicBezTo>
                <a:cubicBezTo>
                  <a:pt x="7065" y="3497"/>
                  <a:pt x="7211" y="3655"/>
                  <a:pt x="7243" y="3746"/>
                </a:cubicBezTo>
                <a:cubicBezTo>
                  <a:pt x="7262" y="3800"/>
                  <a:pt x="7244" y="3797"/>
                  <a:pt x="7268" y="3845"/>
                </a:cubicBezTo>
                <a:cubicBezTo>
                  <a:pt x="7207" y="3876"/>
                  <a:pt x="7208" y="3864"/>
                  <a:pt x="7144" y="3845"/>
                </a:cubicBezTo>
                <a:cubicBezTo>
                  <a:pt x="7136" y="3845"/>
                  <a:pt x="7127" y="3845"/>
                  <a:pt x="7119" y="3845"/>
                </a:cubicBezTo>
              </a:path>
              <a:path w="2903" h="3300">
                <a:moveTo>
                  <a:pt x="7491" y="5159"/>
                </a:moveTo>
                <a:cubicBezTo>
                  <a:pt x="7412" y="5169"/>
                  <a:pt x="7342" y="5199"/>
                  <a:pt x="7268" y="5234"/>
                </a:cubicBezTo>
                <a:cubicBezTo>
                  <a:pt x="7208" y="5263"/>
                  <a:pt x="7173" y="5315"/>
                  <a:pt x="7169" y="5383"/>
                </a:cubicBezTo>
                <a:cubicBezTo>
                  <a:pt x="7165" y="5445"/>
                  <a:pt x="7265" y="5515"/>
                  <a:pt x="7317" y="5556"/>
                </a:cubicBezTo>
                <a:cubicBezTo>
                  <a:pt x="7394" y="5616"/>
                  <a:pt x="7460" y="5656"/>
                  <a:pt x="7491" y="5755"/>
                </a:cubicBezTo>
                <a:cubicBezTo>
                  <a:pt x="7520" y="5849"/>
                  <a:pt x="7376" y="5873"/>
                  <a:pt x="7317" y="5879"/>
                </a:cubicBezTo>
                <a:cubicBezTo>
                  <a:pt x="7224" y="5888"/>
                  <a:pt x="7189" y="5880"/>
                  <a:pt x="7169" y="5779"/>
                </a:cubicBezTo>
                <a:cubicBezTo>
                  <a:pt x="7153" y="5700"/>
                  <a:pt x="7198" y="5592"/>
                  <a:pt x="7243" y="5531"/>
                </a:cubicBezTo>
                <a:cubicBezTo>
                  <a:pt x="7340" y="5400"/>
                  <a:pt x="7465" y="5296"/>
                  <a:pt x="7516" y="5135"/>
                </a:cubicBezTo>
                <a:cubicBezTo>
                  <a:pt x="7549" y="5029"/>
                  <a:pt x="7570" y="4939"/>
                  <a:pt x="7615" y="4837"/>
                </a:cubicBezTo>
              </a:path>
              <a:path w="2903" h="3300">
                <a:moveTo>
                  <a:pt x="8682" y="3522"/>
                </a:moveTo>
                <a:cubicBezTo>
                  <a:pt x="8707" y="3522"/>
                  <a:pt x="8731" y="3522"/>
                  <a:pt x="8756" y="3522"/>
                </a:cubicBezTo>
                <a:cubicBezTo>
                  <a:pt x="8756" y="3470"/>
                  <a:pt x="8766" y="3418"/>
                  <a:pt x="8731" y="3373"/>
                </a:cubicBezTo>
                <a:cubicBezTo>
                  <a:pt x="8681" y="3309"/>
                  <a:pt x="8613" y="3264"/>
                  <a:pt x="8533" y="3249"/>
                </a:cubicBezTo>
                <a:cubicBezTo>
                  <a:pt x="8448" y="3233"/>
                  <a:pt x="8322" y="3298"/>
                  <a:pt x="8260" y="3349"/>
                </a:cubicBezTo>
                <a:cubicBezTo>
                  <a:pt x="8131" y="3454"/>
                  <a:pt x="8016" y="3572"/>
                  <a:pt x="7938" y="3721"/>
                </a:cubicBezTo>
                <a:cubicBezTo>
                  <a:pt x="7856" y="3879"/>
                  <a:pt x="7817" y="4015"/>
                  <a:pt x="7813" y="4192"/>
                </a:cubicBezTo>
                <a:cubicBezTo>
                  <a:pt x="7809" y="4332"/>
                  <a:pt x="7811" y="4489"/>
                  <a:pt x="7888" y="4614"/>
                </a:cubicBezTo>
                <a:cubicBezTo>
                  <a:pt x="7937" y="4694"/>
                  <a:pt x="8001" y="4709"/>
                  <a:pt x="8086" y="4713"/>
                </a:cubicBezTo>
                <a:cubicBezTo>
                  <a:pt x="8184" y="4718"/>
                  <a:pt x="8236" y="4704"/>
                  <a:pt x="8310" y="4638"/>
                </a:cubicBezTo>
                <a:cubicBezTo>
                  <a:pt x="8326" y="4622"/>
                  <a:pt x="8343" y="4605"/>
                  <a:pt x="8359" y="4589"/>
                </a:cubicBezTo>
              </a:path>
              <a:path w="2903" h="3300">
                <a:moveTo>
                  <a:pt x="8682" y="4688"/>
                </a:moveTo>
                <a:cubicBezTo>
                  <a:pt x="8656" y="4828"/>
                  <a:pt x="8612" y="4969"/>
                  <a:pt x="8607" y="5110"/>
                </a:cubicBezTo>
                <a:cubicBezTo>
                  <a:pt x="8603" y="5220"/>
                  <a:pt x="8594" y="5284"/>
                  <a:pt x="8706" y="5333"/>
                </a:cubicBezTo>
                <a:cubicBezTo>
                  <a:pt x="8853" y="5397"/>
                  <a:pt x="8952" y="5349"/>
                  <a:pt x="9079" y="5259"/>
                </a:cubicBezTo>
                <a:cubicBezTo>
                  <a:pt x="9126" y="5225"/>
                  <a:pt x="9335" y="5092"/>
                  <a:pt x="9302" y="4986"/>
                </a:cubicBezTo>
                <a:cubicBezTo>
                  <a:pt x="9283" y="4924"/>
                  <a:pt x="9147" y="4926"/>
                  <a:pt x="9103" y="4936"/>
                </a:cubicBezTo>
                <a:cubicBezTo>
                  <a:pt x="9043" y="4950"/>
                  <a:pt x="8952" y="5031"/>
                  <a:pt x="8930" y="5085"/>
                </a:cubicBezTo>
                <a:cubicBezTo>
                  <a:pt x="8909" y="5135"/>
                  <a:pt x="8949" y="5220"/>
                  <a:pt x="8979" y="5259"/>
                </a:cubicBezTo>
                <a:cubicBezTo>
                  <a:pt x="9029" y="5323"/>
                  <a:pt x="9092" y="5388"/>
                  <a:pt x="9153" y="54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73680" y="1062000"/>
            <a:ext cx="911160" cy="1287360"/>
          </a:xfrm>
          <a:custGeom>
            <a:avLst/>
            <a:gdLst/>
            <a:ahLst/>
            <a:rect l="l" t="t" r="r" b="b"/>
            <a:pathLst>
              <a:path w="2531" h="3573">
                <a:moveTo>
                  <a:pt x="12452" y="3324"/>
                </a:moveTo>
                <a:cubicBezTo>
                  <a:pt x="12312" y="3268"/>
                  <a:pt x="12253" y="3269"/>
                  <a:pt x="12105" y="3299"/>
                </a:cubicBezTo>
                <a:cubicBezTo>
                  <a:pt x="11966" y="3327"/>
                  <a:pt x="11816" y="3331"/>
                  <a:pt x="11708" y="3423"/>
                </a:cubicBezTo>
                <a:cubicBezTo>
                  <a:pt x="11636" y="3484"/>
                  <a:pt x="11617" y="3517"/>
                  <a:pt x="11683" y="3597"/>
                </a:cubicBezTo>
                <a:cubicBezTo>
                  <a:pt x="11783" y="3719"/>
                  <a:pt x="11918" y="3810"/>
                  <a:pt x="12030" y="3919"/>
                </a:cubicBezTo>
                <a:cubicBezTo>
                  <a:pt x="12115" y="4002"/>
                  <a:pt x="12203" y="4096"/>
                  <a:pt x="12229" y="4217"/>
                </a:cubicBezTo>
                <a:cubicBezTo>
                  <a:pt x="12238" y="4260"/>
                  <a:pt x="12200" y="4374"/>
                  <a:pt x="12154" y="4390"/>
                </a:cubicBezTo>
                <a:cubicBezTo>
                  <a:pt x="12075" y="4418"/>
                  <a:pt x="11991" y="4389"/>
                  <a:pt x="11931" y="4341"/>
                </a:cubicBezTo>
                <a:cubicBezTo>
                  <a:pt x="11931" y="4234"/>
                  <a:pt x="11955" y="4188"/>
                  <a:pt x="12005" y="4093"/>
                </a:cubicBezTo>
                <a:cubicBezTo>
                  <a:pt x="12106" y="3903"/>
                  <a:pt x="12253" y="3746"/>
                  <a:pt x="12378" y="3572"/>
                </a:cubicBezTo>
                <a:cubicBezTo>
                  <a:pt x="12442" y="3483"/>
                  <a:pt x="12518" y="3392"/>
                  <a:pt x="12576" y="3299"/>
                </a:cubicBezTo>
                <a:cubicBezTo>
                  <a:pt x="12584" y="3282"/>
                  <a:pt x="12593" y="3266"/>
                  <a:pt x="12601" y="3249"/>
                </a:cubicBezTo>
              </a:path>
              <a:path w="2531" h="3573">
                <a:moveTo>
                  <a:pt x="12824" y="2952"/>
                </a:moveTo>
                <a:cubicBezTo>
                  <a:pt x="12843" y="3113"/>
                  <a:pt x="12849" y="3261"/>
                  <a:pt x="12849" y="3423"/>
                </a:cubicBezTo>
                <a:cubicBezTo>
                  <a:pt x="12849" y="3539"/>
                  <a:pt x="12882" y="3687"/>
                  <a:pt x="12874" y="3795"/>
                </a:cubicBezTo>
                <a:cubicBezTo>
                  <a:pt x="12847" y="3876"/>
                  <a:pt x="12839" y="3908"/>
                  <a:pt x="12849" y="3969"/>
                </a:cubicBezTo>
              </a:path>
              <a:path w="2531" h="3573">
                <a:moveTo>
                  <a:pt x="12923" y="4366"/>
                </a:moveTo>
                <a:cubicBezTo>
                  <a:pt x="12988" y="4462"/>
                  <a:pt x="12981" y="4442"/>
                  <a:pt x="12898" y="4490"/>
                </a:cubicBezTo>
              </a:path>
              <a:path w="2531" h="3573">
                <a:moveTo>
                  <a:pt x="11237" y="4887"/>
                </a:moveTo>
                <a:cubicBezTo>
                  <a:pt x="11388" y="4826"/>
                  <a:pt x="11547" y="4811"/>
                  <a:pt x="11708" y="4787"/>
                </a:cubicBezTo>
                <a:cubicBezTo>
                  <a:pt x="11992" y="4745"/>
                  <a:pt x="12265" y="4738"/>
                  <a:pt x="12551" y="4738"/>
                </a:cubicBezTo>
                <a:cubicBezTo>
                  <a:pt x="12867" y="4738"/>
                  <a:pt x="13183" y="4749"/>
                  <a:pt x="13494" y="4713"/>
                </a:cubicBezTo>
                <a:cubicBezTo>
                  <a:pt x="13593" y="4701"/>
                  <a:pt x="13520" y="4708"/>
                  <a:pt x="13494" y="4688"/>
                </a:cubicBezTo>
              </a:path>
              <a:path w="2531" h="3573">
                <a:moveTo>
                  <a:pt x="11187" y="5457"/>
                </a:moveTo>
                <a:cubicBezTo>
                  <a:pt x="11161" y="5618"/>
                  <a:pt x="11125" y="5770"/>
                  <a:pt x="11088" y="5928"/>
                </a:cubicBezTo>
                <a:cubicBezTo>
                  <a:pt x="11057" y="6058"/>
                  <a:pt x="11038" y="6166"/>
                  <a:pt x="11038" y="6300"/>
                </a:cubicBezTo>
                <a:cubicBezTo>
                  <a:pt x="11038" y="6379"/>
                  <a:pt x="11076" y="6499"/>
                  <a:pt x="11162" y="6524"/>
                </a:cubicBezTo>
                <a:cubicBezTo>
                  <a:pt x="11242" y="6548"/>
                  <a:pt x="11365" y="6511"/>
                  <a:pt x="11435" y="6474"/>
                </a:cubicBezTo>
                <a:cubicBezTo>
                  <a:pt x="11499" y="6440"/>
                  <a:pt x="11616" y="6353"/>
                  <a:pt x="11633" y="6276"/>
                </a:cubicBezTo>
                <a:cubicBezTo>
                  <a:pt x="11650" y="6197"/>
                  <a:pt x="11635" y="6154"/>
                  <a:pt x="11584" y="6102"/>
                </a:cubicBezTo>
                <a:cubicBezTo>
                  <a:pt x="11502" y="6116"/>
                  <a:pt x="11386" y="6141"/>
                  <a:pt x="11336" y="6226"/>
                </a:cubicBezTo>
                <a:cubicBezTo>
                  <a:pt x="11298" y="6290"/>
                  <a:pt x="11297" y="6387"/>
                  <a:pt x="11336" y="6449"/>
                </a:cubicBezTo>
                <a:cubicBezTo>
                  <a:pt x="11364" y="6493"/>
                  <a:pt x="11458" y="6535"/>
                  <a:pt x="11509" y="6524"/>
                </a:cubicBezTo>
                <a:cubicBezTo>
                  <a:pt x="11526" y="6516"/>
                  <a:pt x="11542" y="6507"/>
                  <a:pt x="11559" y="6499"/>
                </a:cubicBezTo>
              </a:path>
              <a:path w="2531" h="3573">
                <a:moveTo>
                  <a:pt x="11881" y="4986"/>
                </a:moveTo>
                <a:cubicBezTo>
                  <a:pt x="11881" y="5132"/>
                  <a:pt x="11868" y="5265"/>
                  <a:pt x="11857" y="5407"/>
                </a:cubicBezTo>
                <a:cubicBezTo>
                  <a:pt x="11846" y="5541"/>
                  <a:pt x="11811" y="5670"/>
                  <a:pt x="11807" y="5804"/>
                </a:cubicBezTo>
                <a:cubicBezTo>
                  <a:pt x="11805" y="5878"/>
                  <a:pt x="11807" y="5953"/>
                  <a:pt x="11807" y="6028"/>
                </a:cubicBezTo>
              </a:path>
              <a:path w="2531" h="3573">
                <a:moveTo>
                  <a:pt x="12105" y="6449"/>
                </a:moveTo>
                <a:cubicBezTo>
                  <a:pt x="12129" y="6474"/>
                  <a:pt x="12137" y="6482"/>
                  <a:pt x="12154" y="6449"/>
                </a:cubicBezTo>
              </a:path>
              <a:path w="2531" h="3573">
                <a:moveTo>
                  <a:pt x="12452" y="5358"/>
                </a:moveTo>
                <a:cubicBezTo>
                  <a:pt x="12559" y="5314"/>
                  <a:pt x="12611" y="5256"/>
                  <a:pt x="12700" y="5333"/>
                </a:cubicBezTo>
                <a:cubicBezTo>
                  <a:pt x="12788" y="5409"/>
                  <a:pt x="12846" y="5510"/>
                  <a:pt x="12824" y="5631"/>
                </a:cubicBezTo>
                <a:cubicBezTo>
                  <a:pt x="12792" y="5808"/>
                  <a:pt x="12718" y="5919"/>
                  <a:pt x="12650" y="6077"/>
                </a:cubicBezTo>
                <a:cubicBezTo>
                  <a:pt x="12607" y="6176"/>
                  <a:pt x="12546" y="6262"/>
                  <a:pt x="12477" y="6350"/>
                </a:cubicBezTo>
                <a:cubicBezTo>
                  <a:pt x="12454" y="6373"/>
                  <a:pt x="12446" y="6377"/>
                  <a:pt x="12452" y="6400"/>
                </a:cubicBezTo>
                <a:cubicBezTo>
                  <a:pt x="12510" y="6428"/>
                  <a:pt x="12553" y="6446"/>
                  <a:pt x="12626" y="6449"/>
                </a:cubicBezTo>
                <a:cubicBezTo>
                  <a:pt x="12761" y="6454"/>
                  <a:pt x="12973" y="6486"/>
                  <a:pt x="13097" y="6424"/>
                </a:cubicBezTo>
                <a:cubicBezTo>
                  <a:pt x="13169" y="6388"/>
                  <a:pt x="13210" y="6288"/>
                  <a:pt x="13246" y="6226"/>
                </a:cubicBezTo>
              </a:path>
              <a:path w="2531" h="3573">
                <a:moveTo>
                  <a:pt x="13246" y="5035"/>
                </a:moveTo>
                <a:cubicBezTo>
                  <a:pt x="13295" y="5193"/>
                  <a:pt x="13316" y="5338"/>
                  <a:pt x="13320" y="5507"/>
                </a:cubicBezTo>
                <a:cubicBezTo>
                  <a:pt x="13323" y="5645"/>
                  <a:pt x="13349" y="5768"/>
                  <a:pt x="13320" y="5904"/>
                </a:cubicBezTo>
                <a:cubicBezTo>
                  <a:pt x="13312" y="5929"/>
                  <a:pt x="13303" y="5953"/>
                  <a:pt x="13295" y="5978"/>
                </a:cubicBezTo>
              </a:path>
              <a:path w="2531" h="3573">
                <a:moveTo>
                  <a:pt x="13568" y="6276"/>
                </a:moveTo>
                <a:cubicBezTo>
                  <a:pt x="13532" y="6371"/>
                  <a:pt x="13523" y="6437"/>
                  <a:pt x="13419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59680" y="3375000"/>
            <a:ext cx="866520" cy="2455920"/>
          </a:xfrm>
          <a:custGeom>
            <a:avLst/>
            <a:gdLst/>
            <a:ahLst/>
            <a:rect l="l" t="t" r="r" b="b"/>
            <a:pathLst>
              <a:path w="2407" h="6822">
                <a:moveTo>
                  <a:pt x="19273" y="9451"/>
                </a:moveTo>
                <a:cubicBezTo>
                  <a:pt x="19287" y="9468"/>
                  <a:pt x="19305" y="9493"/>
                  <a:pt x="19323" y="9525"/>
                </a:cubicBezTo>
                <a:cubicBezTo>
                  <a:pt x="19365" y="9597"/>
                  <a:pt x="19292" y="9494"/>
                  <a:pt x="19273" y="9475"/>
                </a:cubicBezTo>
                <a:cubicBezTo>
                  <a:pt x="19217" y="9419"/>
                  <a:pt x="19198" y="9385"/>
                  <a:pt x="19124" y="9376"/>
                </a:cubicBezTo>
                <a:cubicBezTo>
                  <a:pt x="19012" y="9362"/>
                  <a:pt x="18962" y="9391"/>
                  <a:pt x="18876" y="9451"/>
                </a:cubicBezTo>
                <a:cubicBezTo>
                  <a:pt x="18737" y="9549"/>
                  <a:pt x="18640" y="9664"/>
                  <a:pt x="18579" y="9823"/>
                </a:cubicBezTo>
                <a:cubicBezTo>
                  <a:pt x="18526" y="9962"/>
                  <a:pt x="18508" y="10123"/>
                  <a:pt x="18504" y="10269"/>
                </a:cubicBezTo>
                <a:cubicBezTo>
                  <a:pt x="18500" y="10400"/>
                  <a:pt x="18546" y="10538"/>
                  <a:pt x="18628" y="10641"/>
                </a:cubicBezTo>
                <a:cubicBezTo>
                  <a:pt x="18703" y="10736"/>
                  <a:pt x="18816" y="10836"/>
                  <a:pt x="18926" y="10889"/>
                </a:cubicBezTo>
                <a:cubicBezTo>
                  <a:pt x="19004" y="10927"/>
                  <a:pt x="19090" y="10914"/>
                  <a:pt x="19174" y="10914"/>
                </a:cubicBezTo>
              </a:path>
              <a:path w="2407" h="6822">
                <a:moveTo>
                  <a:pt x="19447" y="10641"/>
                </a:moveTo>
                <a:cubicBezTo>
                  <a:pt x="19447" y="10707"/>
                  <a:pt x="19446" y="10756"/>
                  <a:pt x="19422" y="10815"/>
                </a:cubicBezTo>
                <a:cubicBezTo>
                  <a:pt x="19399" y="10871"/>
                  <a:pt x="19372" y="10903"/>
                  <a:pt x="19372" y="10964"/>
                </a:cubicBezTo>
                <a:cubicBezTo>
                  <a:pt x="19372" y="10997"/>
                  <a:pt x="19372" y="11030"/>
                  <a:pt x="19372" y="11063"/>
                </a:cubicBezTo>
                <a:cubicBezTo>
                  <a:pt x="19419" y="11063"/>
                  <a:pt x="19435" y="11080"/>
                  <a:pt x="19472" y="11088"/>
                </a:cubicBezTo>
                <a:cubicBezTo>
                  <a:pt x="19570" y="11109"/>
                  <a:pt x="19701" y="11089"/>
                  <a:pt x="19794" y="11063"/>
                </a:cubicBezTo>
              </a:path>
              <a:path w="2407" h="6822">
                <a:moveTo>
                  <a:pt x="19695" y="10740"/>
                </a:moveTo>
                <a:cubicBezTo>
                  <a:pt x="19619" y="10976"/>
                  <a:pt x="19586" y="11168"/>
                  <a:pt x="19596" y="11410"/>
                </a:cubicBezTo>
                <a:cubicBezTo>
                  <a:pt x="19602" y="11571"/>
                  <a:pt x="19616" y="11724"/>
                  <a:pt x="19645" y="11881"/>
                </a:cubicBezTo>
              </a:path>
              <a:path w="2407" h="6822">
                <a:moveTo>
                  <a:pt x="17884" y="12551"/>
                </a:moveTo>
                <a:cubicBezTo>
                  <a:pt x="17904" y="12719"/>
                  <a:pt x="17909" y="12878"/>
                  <a:pt x="17909" y="13047"/>
                </a:cubicBezTo>
                <a:cubicBezTo>
                  <a:pt x="17909" y="13167"/>
                  <a:pt x="17929" y="13277"/>
                  <a:pt x="17934" y="13395"/>
                </a:cubicBezTo>
                <a:cubicBezTo>
                  <a:pt x="17935" y="13422"/>
                  <a:pt x="17934" y="13601"/>
                  <a:pt x="17934" y="13543"/>
                </a:cubicBezTo>
                <a:cubicBezTo>
                  <a:pt x="17975" y="13503"/>
                  <a:pt x="17989" y="13473"/>
                  <a:pt x="17983" y="13419"/>
                </a:cubicBezTo>
              </a:path>
              <a:path w="2407" h="6822">
                <a:moveTo>
                  <a:pt x="18231" y="12774"/>
                </a:moveTo>
                <a:cubicBezTo>
                  <a:pt x="18366" y="12721"/>
                  <a:pt x="18398" y="12734"/>
                  <a:pt x="18529" y="12750"/>
                </a:cubicBezTo>
                <a:cubicBezTo>
                  <a:pt x="18616" y="12761"/>
                  <a:pt x="18633" y="12740"/>
                  <a:pt x="18703" y="12700"/>
                </a:cubicBezTo>
              </a:path>
              <a:path w="2407" h="6822">
                <a:moveTo>
                  <a:pt x="18207" y="12750"/>
                </a:moveTo>
                <a:cubicBezTo>
                  <a:pt x="18176" y="12832"/>
                  <a:pt x="18125" y="12884"/>
                  <a:pt x="18182" y="12948"/>
                </a:cubicBezTo>
                <a:cubicBezTo>
                  <a:pt x="18217" y="12987"/>
                  <a:pt x="18255" y="13030"/>
                  <a:pt x="18306" y="13047"/>
                </a:cubicBezTo>
                <a:cubicBezTo>
                  <a:pt x="18364" y="13066"/>
                  <a:pt x="18421" y="13071"/>
                  <a:pt x="18479" y="13097"/>
                </a:cubicBezTo>
                <a:cubicBezTo>
                  <a:pt x="18551" y="13129"/>
                  <a:pt x="18610" y="13219"/>
                  <a:pt x="18628" y="13295"/>
                </a:cubicBezTo>
                <a:cubicBezTo>
                  <a:pt x="18652" y="13393"/>
                  <a:pt x="18708" y="13552"/>
                  <a:pt x="18628" y="13643"/>
                </a:cubicBezTo>
                <a:cubicBezTo>
                  <a:pt x="18590" y="13687"/>
                  <a:pt x="18484" y="13715"/>
                  <a:pt x="18430" y="13717"/>
                </a:cubicBezTo>
                <a:cubicBezTo>
                  <a:pt x="18313" y="13722"/>
                  <a:pt x="18278" y="13724"/>
                  <a:pt x="18207" y="13643"/>
                </a:cubicBezTo>
                <a:cubicBezTo>
                  <a:pt x="18143" y="13571"/>
                  <a:pt x="18157" y="13540"/>
                  <a:pt x="18157" y="13444"/>
                </a:cubicBezTo>
              </a:path>
              <a:path w="2407" h="6822">
                <a:moveTo>
                  <a:pt x="18876" y="12477"/>
                </a:moveTo>
                <a:cubicBezTo>
                  <a:pt x="18948" y="12613"/>
                  <a:pt x="18987" y="12720"/>
                  <a:pt x="19000" y="12874"/>
                </a:cubicBezTo>
                <a:cubicBezTo>
                  <a:pt x="19010" y="12991"/>
                  <a:pt x="19025" y="13102"/>
                  <a:pt x="19025" y="13221"/>
                </a:cubicBezTo>
              </a:path>
              <a:path w="2407" h="6822">
                <a:moveTo>
                  <a:pt x="19050" y="13891"/>
                </a:moveTo>
                <a:cubicBezTo>
                  <a:pt x="19102" y="13984"/>
                  <a:pt x="19123" y="13965"/>
                  <a:pt x="19050" y="13965"/>
                </a:cubicBezTo>
              </a:path>
              <a:path w="2407" h="6822">
                <a:moveTo>
                  <a:pt x="17388" y="14089"/>
                </a:moveTo>
                <a:cubicBezTo>
                  <a:pt x="17500" y="14124"/>
                  <a:pt x="17588" y="14137"/>
                  <a:pt x="17711" y="14139"/>
                </a:cubicBezTo>
                <a:cubicBezTo>
                  <a:pt x="17957" y="14143"/>
                  <a:pt x="18210" y="14166"/>
                  <a:pt x="18455" y="14188"/>
                </a:cubicBezTo>
                <a:cubicBezTo>
                  <a:pt x="18674" y="14208"/>
                  <a:pt x="18879" y="14238"/>
                  <a:pt x="19100" y="14238"/>
                </a:cubicBezTo>
                <a:cubicBezTo>
                  <a:pt x="19227" y="14238"/>
                  <a:pt x="19361" y="14247"/>
                  <a:pt x="19472" y="14213"/>
                </a:cubicBezTo>
                <a:cubicBezTo>
                  <a:pt x="19480" y="14213"/>
                  <a:pt x="19488" y="14213"/>
                  <a:pt x="19496" y="14213"/>
                </a:cubicBezTo>
                <a:cubicBezTo>
                  <a:pt x="19468" y="14142"/>
                  <a:pt x="19469" y="14128"/>
                  <a:pt x="19397" y="14089"/>
                </a:cubicBezTo>
                <a:cubicBezTo>
                  <a:pt x="19349" y="14065"/>
                  <a:pt x="19335" y="14056"/>
                  <a:pt x="19298" y="14064"/>
                </a:cubicBezTo>
              </a:path>
              <a:path w="2407" h="6822">
                <a:moveTo>
                  <a:pt x="17636" y="14560"/>
                </a:moveTo>
                <a:cubicBezTo>
                  <a:pt x="17607" y="14618"/>
                  <a:pt x="17557" y="14674"/>
                  <a:pt x="17537" y="14734"/>
                </a:cubicBezTo>
                <a:cubicBezTo>
                  <a:pt x="17525" y="14771"/>
                  <a:pt x="17497" y="14812"/>
                  <a:pt x="17512" y="14858"/>
                </a:cubicBezTo>
                <a:cubicBezTo>
                  <a:pt x="17534" y="14923"/>
                  <a:pt x="17538" y="14958"/>
                  <a:pt x="17587" y="15007"/>
                </a:cubicBezTo>
                <a:cubicBezTo>
                  <a:pt x="17661" y="15081"/>
                  <a:pt x="17700" y="15126"/>
                  <a:pt x="17810" y="15131"/>
                </a:cubicBezTo>
                <a:cubicBezTo>
                  <a:pt x="17878" y="15131"/>
                  <a:pt x="17897" y="15134"/>
                  <a:pt x="17934" y="15106"/>
                </a:cubicBezTo>
              </a:path>
              <a:path w="2407" h="6822">
                <a:moveTo>
                  <a:pt x="17909" y="14660"/>
                </a:moveTo>
                <a:cubicBezTo>
                  <a:pt x="17814" y="14916"/>
                  <a:pt x="17812" y="15027"/>
                  <a:pt x="17785" y="15280"/>
                </a:cubicBezTo>
                <a:cubicBezTo>
                  <a:pt x="17767" y="15449"/>
                  <a:pt x="17770" y="15611"/>
                  <a:pt x="17760" y="15776"/>
                </a:cubicBezTo>
                <a:cubicBezTo>
                  <a:pt x="17759" y="15795"/>
                  <a:pt x="17757" y="15935"/>
                  <a:pt x="17785" y="15850"/>
                </a:cubicBezTo>
              </a:path>
              <a:path w="2407" h="6822">
                <a:moveTo>
                  <a:pt x="18355" y="14585"/>
                </a:moveTo>
                <a:cubicBezTo>
                  <a:pt x="18338" y="14750"/>
                  <a:pt x="18349" y="14917"/>
                  <a:pt x="18331" y="15081"/>
                </a:cubicBezTo>
                <a:cubicBezTo>
                  <a:pt x="18321" y="15176"/>
                  <a:pt x="18306" y="15239"/>
                  <a:pt x="18306" y="15329"/>
                </a:cubicBezTo>
              </a:path>
              <a:path w="2407" h="6822">
                <a:moveTo>
                  <a:pt x="18355" y="15825"/>
                </a:moveTo>
                <a:cubicBezTo>
                  <a:pt x="18399" y="15771"/>
                  <a:pt x="18422" y="15717"/>
                  <a:pt x="18455" y="15652"/>
                </a:cubicBezTo>
              </a:path>
              <a:path w="2407" h="6822">
                <a:moveTo>
                  <a:pt x="18901" y="14833"/>
                </a:moveTo>
                <a:cubicBezTo>
                  <a:pt x="18918" y="15068"/>
                  <a:pt x="18926" y="15293"/>
                  <a:pt x="18926" y="15528"/>
                </a:cubicBezTo>
                <a:cubicBezTo>
                  <a:pt x="18926" y="15660"/>
                  <a:pt x="18926" y="15793"/>
                  <a:pt x="18926" y="15925"/>
                </a:cubicBezTo>
              </a:path>
              <a:path w="2407" h="6822">
                <a:moveTo>
                  <a:pt x="19149" y="14957"/>
                </a:moveTo>
                <a:cubicBezTo>
                  <a:pt x="19173" y="15181"/>
                  <a:pt x="19219" y="15403"/>
                  <a:pt x="19224" y="15627"/>
                </a:cubicBezTo>
                <a:cubicBezTo>
                  <a:pt x="19225" y="15696"/>
                  <a:pt x="19187" y="15953"/>
                  <a:pt x="19248" y="15974"/>
                </a:cubicBezTo>
              </a:path>
              <a:path w="2407" h="6822">
                <a:moveTo>
                  <a:pt x="19496" y="14784"/>
                </a:moveTo>
                <a:cubicBezTo>
                  <a:pt x="19519" y="14920"/>
                  <a:pt x="19521" y="15042"/>
                  <a:pt x="19521" y="15180"/>
                </a:cubicBezTo>
                <a:cubicBezTo>
                  <a:pt x="19521" y="15272"/>
                  <a:pt x="19451" y="15446"/>
                  <a:pt x="19472" y="15528"/>
                </a:cubicBezTo>
                <a:cubicBezTo>
                  <a:pt x="19488" y="15553"/>
                  <a:pt x="19505" y="15577"/>
                  <a:pt x="19521" y="15602"/>
                </a:cubicBezTo>
              </a:path>
              <a:path w="2407" h="6822">
                <a:moveTo>
                  <a:pt x="19571" y="16123"/>
                </a:moveTo>
                <a:cubicBezTo>
                  <a:pt x="19596" y="16182"/>
                  <a:pt x="19596" y="16220"/>
                  <a:pt x="19596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92880" y="3911760"/>
            <a:ext cx="198360" cy="214200"/>
          </a:xfrm>
          <a:custGeom>
            <a:avLst/>
            <a:gdLst/>
            <a:ahLst/>
            <a:rect l="l" t="t" r="r" b="b"/>
            <a:pathLst>
              <a:path w="547" h="597">
                <a:moveTo>
                  <a:pt x="17785" y="10864"/>
                </a:moveTo>
                <a:cubicBezTo>
                  <a:pt x="17785" y="10940"/>
                  <a:pt x="17826" y="11438"/>
                  <a:pt x="17760" y="11460"/>
                </a:cubicBezTo>
              </a:path>
              <a:path w="547" h="597">
                <a:moveTo>
                  <a:pt x="17959" y="10939"/>
                </a:moveTo>
                <a:cubicBezTo>
                  <a:pt x="18058" y="10921"/>
                  <a:pt x="18133" y="10914"/>
                  <a:pt x="18231" y="10914"/>
                </a:cubicBezTo>
                <a:cubicBezTo>
                  <a:pt x="18266" y="10914"/>
                  <a:pt x="18284" y="10909"/>
                  <a:pt x="18306" y="10889"/>
                </a:cubicBezTo>
              </a:path>
              <a:path w="547" h="597">
                <a:moveTo>
                  <a:pt x="17959" y="11013"/>
                </a:moveTo>
                <a:cubicBezTo>
                  <a:pt x="17920" y="11052"/>
                  <a:pt x="17903" y="11054"/>
                  <a:pt x="17909" y="11088"/>
                </a:cubicBezTo>
                <a:cubicBezTo>
                  <a:pt x="17952" y="11119"/>
                  <a:pt x="17963" y="11096"/>
                  <a:pt x="18008" y="11112"/>
                </a:cubicBezTo>
                <a:cubicBezTo>
                  <a:pt x="18077" y="11137"/>
                  <a:pt x="18142" y="11147"/>
                  <a:pt x="18207" y="11187"/>
                </a:cubicBezTo>
                <a:cubicBezTo>
                  <a:pt x="18282" y="11233"/>
                  <a:pt x="18338" y="11277"/>
                  <a:pt x="18281" y="11361"/>
                </a:cubicBezTo>
                <a:cubicBezTo>
                  <a:pt x="18255" y="11399"/>
                  <a:pt x="18200" y="11446"/>
                  <a:pt x="18157" y="11460"/>
                </a:cubicBezTo>
                <a:cubicBezTo>
                  <a:pt x="18101" y="11479"/>
                  <a:pt x="18057" y="11447"/>
                  <a:pt x="18008" y="11435"/>
                </a:cubicBezTo>
                <a:cubicBezTo>
                  <a:pt x="17974" y="11427"/>
                  <a:pt x="17984" y="11420"/>
                  <a:pt x="17959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46960" y="3510000"/>
            <a:ext cx="696960" cy="2544840"/>
          </a:xfrm>
          <a:custGeom>
            <a:avLst/>
            <a:gdLst/>
            <a:ahLst/>
            <a:rect l="l" t="t" r="r" b="b"/>
            <a:pathLst>
              <a:path w="1936" h="7071">
                <a:moveTo>
                  <a:pt x="21704" y="10120"/>
                </a:moveTo>
                <a:cubicBezTo>
                  <a:pt x="21747" y="10182"/>
                  <a:pt x="21756" y="10192"/>
                  <a:pt x="21779" y="10220"/>
                </a:cubicBezTo>
                <a:cubicBezTo>
                  <a:pt x="21779" y="10130"/>
                  <a:pt x="21765" y="10061"/>
                  <a:pt x="21754" y="9971"/>
                </a:cubicBezTo>
                <a:cubicBezTo>
                  <a:pt x="21747" y="9916"/>
                  <a:pt x="21722" y="9816"/>
                  <a:pt x="21679" y="9773"/>
                </a:cubicBezTo>
                <a:cubicBezTo>
                  <a:pt x="21647" y="9741"/>
                  <a:pt x="21549" y="9737"/>
                  <a:pt x="21506" y="9748"/>
                </a:cubicBezTo>
                <a:cubicBezTo>
                  <a:pt x="21410" y="9773"/>
                  <a:pt x="21356" y="9896"/>
                  <a:pt x="21307" y="9971"/>
                </a:cubicBezTo>
                <a:cubicBezTo>
                  <a:pt x="21227" y="10092"/>
                  <a:pt x="21196" y="10202"/>
                  <a:pt x="21183" y="10344"/>
                </a:cubicBezTo>
                <a:cubicBezTo>
                  <a:pt x="21171" y="10477"/>
                  <a:pt x="21178" y="10611"/>
                  <a:pt x="21208" y="10740"/>
                </a:cubicBezTo>
                <a:cubicBezTo>
                  <a:pt x="21241" y="10885"/>
                  <a:pt x="21321" y="11011"/>
                  <a:pt x="21431" y="11112"/>
                </a:cubicBezTo>
                <a:cubicBezTo>
                  <a:pt x="21526" y="11200"/>
                  <a:pt x="21636" y="11294"/>
                  <a:pt x="21779" y="11261"/>
                </a:cubicBezTo>
                <a:cubicBezTo>
                  <a:pt x="21808" y="11232"/>
                  <a:pt x="21819" y="11217"/>
                  <a:pt x="21828" y="11187"/>
                </a:cubicBezTo>
              </a:path>
              <a:path w="1936" h="7071">
                <a:moveTo>
                  <a:pt x="20687" y="11509"/>
                </a:moveTo>
                <a:cubicBezTo>
                  <a:pt x="20687" y="11597"/>
                  <a:pt x="20678" y="11676"/>
                  <a:pt x="20712" y="11757"/>
                </a:cubicBezTo>
                <a:cubicBezTo>
                  <a:pt x="20738" y="11819"/>
                  <a:pt x="20730" y="11877"/>
                  <a:pt x="20786" y="11906"/>
                </a:cubicBezTo>
              </a:path>
              <a:path w="1936" h="7071">
                <a:moveTo>
                  <a:pt x="20960" y="11509"/>
                </a:moveTo>
                <a:cubicBezTo>
                  <a:pt x="21099" y="11490"/>
                  <a:pt x="21132" y="11507"/>
                  <a:pt x="21183" y="11435"/>
                </a:cubicBezTo>
              </a:path>
              <a:path w="1936" h="7071">
                <a:moveTo>
                  <a:pt x="20910" y="11460"/>
                </a:moveTo>
                <a:cubicBezTo>
                  <a:pt x="20921" y="11582"/>
                  <a:pt x="20954" y="11613"/>
                  <a:pt x="21059" y="11683"/>
                </a:cubicBezTo>
                <a:cubicBezTo>
                  <a:pt x="21132" y="11732"/>
                  <a:pt x="21212" y="11788"/>
                  <a:pt x="21233" y="11881"/>
                </a:cubicBezTo>
                <a:cubicBezTo>
                  <a:pt x="21243" y="11928"/>
                  <a:pt x="21237" y="11973"/>
                  <a:pt x="21208" y="12005"/>
                </a:cubicBezTo>
                <a:cubicBezTo>
                  <a:pt x="21179" y="12037"/>
                  <a:pt x="21137" y="12045"/>
                  <a:pt x="21109" y="12005"/>
                </a:cubicBezTo>
                <a:cubicBezTo>
                  <a:pt x="21077" y="11959"/>
                  <a:pt x="21084" y="11934"/>
                  <a:pt x="21084" y="11881"/>
                </a:cubicBezTo>
              </a:path>
              <a:path w="1936" h="7071">
                <a:moveTo>
                  <a:pt x="22101" y="11683"/>
                </a:moveTo>
                <a:cubicBezTo>
                  <a:pt x="22114" y="11757"/>
                  <a:pt x="22067" y="11859"/>
                  <a:pt x="22126" y="11906"/>
                </a:cubicBezTo>
                <a:cubicBezTo>
                  <a:pt x="22151" y="11906"/>
                  <a:pt x="22159" y="11906"/>
                  <a:pt x="22175" y="11906"/>
                </a:cubicBezTo>
              </a:path>
              <a:path w="1936" h="7071">
                <a:moveTo>
                  <a:pt x="22448" y="11584"/>
                </a:moveTo>
                <a:cubicBezTo>
                  <a:pt x="22464" y="11730"/>
                  <a:pt x="22473" y="11860"/>
                  <a:pt x="22473" y="12005"/>
                </a:cubicBezTo>
                <a:cubicBezTo>
                  <a:pt x="22473" y="12038"/>
                  <a:pt x="22473" y="12072"/>
                  <a:pt x="22473" y="12105"/>
                </a:cubicBezTo>
              </a:path>
              <a:path w="1936" h="7071">
                <a:moveTo>
                  <a:pt x="21109" y="13146"/>
                </a:moveTo>
                <a:cubicBezTo>
                  <a:pt x="21099" y="13270"/>
                  <a:pt x="21067" y="13391"/>
                  <a:pt x="21084" y="13519"/>
                </a:cubicBezTo>
                <a:cubicBezTo>
                  <a:pt x="21102" y="13659"/>
                  <a:pt x="21143" y="13799"/>
                  <a:pt x="21158" y="13940"/>
                </a:cubicBezTo>
                <a:cubicBezTo>
                  <a:pt x="21168" y="14034"/>
                  <a:pt x="21160" y="14154"/>
                  <a:pt x="21208" y="14238"/>
                </a:cubicBezTo>
                <a:cubicBezTo>
                  <a:pt x="21264" y="14294"/>
                  <a:pt x="21292" y="14263"/>
                  <a:pt x="21307" y="14114"/>
                </a:cubicBezTo>
              </a:path>
              <a:path w="1936" h="7071">
                <a:moveTo>
                  <a:pt x="21431" y="13246"/>
                </a:moveTo>
                <a:cubicBezTo>
                  <a:pt x="21541" y="13197"/>
                  <a:pt x="21637" y="13152"/>
                  <a:pt x="21754" y="13196"/>
                </a:cubicBezTo>
                <a:cubicBezTo>
                  <a:pt x="21784" y="13226"/>
                  <a:pt x="21798" y="13231"/>
                  <a:pt x="21828" y="13196"/>
                </a:cubicBezTo>
              </a:path>
              <a:path w="1936" h="7071">
                <a:moveTo>
                  <a:pt x="21481" y="13295"/>
                </a:moveTo>
                <a:cubicBezTo>
                  <a:pt x="21464" y="13496"/>
                  <a:pt x="21464" y="13507"/>
                  <a:pt x="21555" y="13667"/>
                </a:cubicBezTo>
                <a:cubicBezTo>
                  <a:pt x="21605" y="13755"/>
                  <a:pt x="21682" y="13819"/>
                  <a:pt x="21754" y="13891"/>
                </a:cubicBezTo>
                <a:cubicBezTo>
                  <a:pt x="21831" y="13968"/>
                  <a:pt x="21893" y="14035"/>
                  <a:pt x="21903" y="14139"/>
                </a:cubicBezTo>
                <a:cubicBezTo>
                  <a:pt x="21912" y="14228"/>
                  <a:pt x="21881" y="14289"/>
                  <a:pt x="21828" y="14337"/>
                </a:cubicBezTo>
                <a:cubicBezTo>
                  <a:pt x="21767" y="14392"/>
                  <a:pt x="21735" y="14346"/>
                  <a:pt x="21679" y="14312"/>
                </a:cubicBezTo>
                <a:cubicBezTo>
                  <a:pt x="21590" y="14259"/>
                  <a:pt x="21581" y="14138"/>
                  <a:pt x="21555" y="14039"/>
                </a:cubicBezTo>
                <a:cubicBezTo>
                  <a:pt x="21517" y="13893"/>
                  <a:pt x="21537" y="13827"/>
                  <a:pt x="21555" y="13667"/>
                </a:cubicBezTo>
              </a:path>
              <a:path w="1936" h="7071">
                <a:moveTo>
                  <a:pt x="22151" y="13022"/>
                </a:moveTo>
                <a:cubicBezTo>
                  <a:pt x="22233" y="13187"/>
                  <a:pt x="22263" y="13353"/>
                  <a:pt x="22275" y="13543"/>
                </a:cubicBezTo>
                <a:cubicBezTo>
                  <a:pt x="22284" y="13689"/>
                  <a:pt x="22267" y="13820"/>
                  <a:pt x="22250" y="13965"/>
                </a:cubicBezTo>
              </a:path>
              <a:path w="1936" h="7071">
                <a:moveTo>
                  <a:pt x="22250" y="14536"/>
                </a:moveTo>
                <a:cubicBezTo>
                  <a:pt x="22250" y="14552"/>
                  <a:pt x="22250" y="14569"/>
                  <a:pt x="22250" y="14585"/>
                </a:cubicBezTo>
              </a:path>
              <a:path w="1936" h="7071">
                <a:moveTo>
                  <a:pt x="22448" y="14734"/>
                </a:moveTo>
                <a:cubicBezTo>
                  <a:pt x="22340" y="14806"/>
                  <a:pt x="22296" y="14768"/>
                  <a:pt x="22175" y="14759"/>
                </a:cubicBezTo>
                <a:cubicBezTo>
                  <a:pt x="22007" y="14746"/>
                  <a:pt x="21846" y="14697"/>
                  <a:pt x="21679" y="14684"/>
                </a:cubicBezTo>
                <a:cubicBezTo>
                  <a:pt x="21497" y="14669"/>
                  <a:pt x="21317" y="14660"/>
                  <a:pt x="21134" y="14660"/>
                </a:cubicBezTo>
                <a:cubicBezTo>
                  <a:pt x="20992" y="14660"/>
                  <a:pt x="20893" y="14682"/>
                  <a:pt x="20762" y="14709"/>
                </a:cubicBezTo>
                <a:cubicBezTo>
                  <a:pt x="20710" y="14709"/>
                  <a:pt x="20692" y="14711"/>
                  <a:pt x="20687" y="14759"/>
                </a:cubicBezTo>
              </a:path>
              <a:path w="1936" h="7071">
                <a:moveTo>
                  <a:pt x="20910" y="15205"/>
                </a:moveTo>
                <a:cubicBezTo>
                  <a:pt x="20928" y="15382"/>
                  <a:pt x="20935" y="15549"/>
                  <a:pt x="20935" y="15726"/>
                </a:cubicBezTo>
                <a:cubicBezTo>
                  <a:pt x="20935" y="15884"/>
                  <a:pt x="20960" y="16039"/>
                  <a:pt x="20960" y="16197"/>
                </a:cubicBezTo>
                <a:cubicBezTo>
                  <a:pt x="20960" y="16295"/>
                  <a:pt x="20945" y="16325"/>
                  <a:pt x="21034" y="16247"/>
                </a:cubicBezTo>
              </a:path>
              <a:path w="1936" h="7071">
                <a:moveTo>
                  <a:pt x="21158" y="15230"/>
                </a:moveTo>
                <a:cubicBezTo>
                  <a:pt x="21158" y="15380"/>
                  <a:pt x="21163" y="15530"/>
                  <a:pt x="21183" y="15677"/>
                </a:cubicBezTo>
                <a:cubicBezTo>
                  <a:pt x="21207" y="15851"/>
                  <a:pt x="21243" y="16023"/>
                  <a:pt x="21258" y="16197"/>
                </a:cubicBezTo>
                <a:cubicBezTo>
                  <a:pt x="21260" y="16223"/>
                  <a:pt x="21248" y="16417"/>
                  <a:pt x="21282" y="16346"/>
                </a:cubicBezTo>
              </a:path>
              <a:path w="1936" h="7071">
                <a:moveTo>
                  <a:pt x="21530" y="15056"/>
                </a:moveTo>
                <a:cubicBezTo>
                  <a:pt x="21567" y="15154"/>
                  <a:pt x="21563" y="15251"/>
                  <a:pt x="21580" y="15354"/>
                </a:cubicBezTo>
                <a:cubicBezTo>
                  <a:pt x="21606" y="15511"/>
                  <a:pt x="21580" y="15664"/>
                  <a:pt x="21580" y="15825"/>
                </a:cubicBezTo>
              </a:path>
              <a:path w="1936" h="7071">
                <a:moveTo>
                  <a:pt x="21630" y="16545"/>
                </a:moveTo>
                <a:cubicBezTo>
                  <a:pt x="21630" y="16618"/>
                  <a:pt x="21677" y="16499"/>
                  <a:pt x="21679" y="16495"/>
                </a:cubicBezTo>
              </a:path>
              <a:path w="1936" h="7071">
                <a:moveTo>
                  <a:pt x="21927" y="15329"/>
                </a:moveTo>
                <a:cubicBezTo>
                  <a:pt x="21927" y="15402"/>
                  <a:pt x="21932" y="15485"/>
                  <a:pt x="21952" y="15553"/>
                </a:cubicBezTo>
                <a:cubicBezTo>
                  <a:pt x="21975" y="15632"/>
                  <a:pt x="21989" y="15699"/>
                  <a:pt x="22027" y="15776"/>
                </a:cubicBezTo>
                <a:cubicBezTo>
                  <a:pt x="22052" y="15826"/>
                  <a:pt x="22135" y="15903"/>
                  <a:pt x="22200" y="15900"/>
                </a:cubicBezTo>
                <a:cubicBezTo>
                  <a:pt x="22250" y="15898"/>
                  <a:pt x="22296" y="15808"/>
                  <a:pt x="22324" y="15776"/>
                </a:cubicBezTo>
              </a:path>
              <a:path w="1936" h="7071">
                <a:moveTo>
                  <a:pt x="22299" y="15156"/>
                </a:moveTo>
                <a:cubicBezTo>
                  <a:pt x="22291" y="15307"/>
                  <a:pt x="22275" y="15449"/>
                  <a:pt x="22275" y="15602"/>
                </a:cubicBezTo>
                <a:cubicBezTo>
                  <a:pt x="22275" y="15792"/>
                  <a:pt x="22273" y="15986"/>
                  <a:pt x="22250" y="16173"/>
                </a:cubicBezTo>
                <a:cubicBezTo>
                  <a:pt x="22241" y="16248"/>
                  <a:pt x="22182" y="16443"/>
                  <a:pt x="22225" y="16520"/>
                </a:cubicBezTo>
                <a:cubicBezTo>
                  <a:pt x="22250" y="16520"/>
                  <a:pt x="22258" y="16520"/>
                  <a:pt x="22275" y="16520"/>
                </a:cubicBezTo>
              </a:path>
              <a:path w="1936" h="7071">
                <a:moveTo>
                  <a:pt x="22622" y="15205"/>
                </a:moveTo>
                <a:cubicBezTo>
                  <a:pt x="22622" y="15516"/>
                  <a:pt x="22645" y="15847"/>
                  <a:pt x="22597" y="16148"/>
                </a:cubicBezTo>
                <a:cubicBezTo>
                  <a:pt x="22597" y="16197"/>
                  <a:pt x="22597" y="16214"/>
                  <a:pt x="22597" y="16247"/>
                </a:cubicBezTo>
              </a:path>
              <a:path w="1936" h="7071">
                <a:moveTo>
                  <a:pt x="22572" y="16818"/>
                </a:moveTo>
                <a:cubicBezTo>
                  <a:pt x="22547" y="16818"/>
                  <a:pt x="22539" y="16818"/>
                  <a:pt x="22547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en the binomial has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subtraction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in it,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very other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term in the solution (beginning with the second) should be negativ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 Expand:  (y – 7)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0680" y="1938240"/>
            <a:ext cx="563400" cy="696960"/>
          </a:xfrm>
          <a:custGeom>
            <a:avLst/>
            <a:gdLst/>
            <a:ahLst/>
            <a:rect l="l" t="t" r="r" b="b"/>
            <a:pathLst>
              <a:path w="1564" h="1935">
                <a:moveTo>
                  <a:pt x="1463" y="6821"/>
                </a:moveTo>
                <a:cubicBezTo>
                  <a:pt x="1514" y="6821"/>
                  <a:pt x="1522" y="6832"/>
                  <a:pt x="1563" y="6846"/>
                </a:cubicBezTo>
                <a:cubicBezTo>
                  <a:pt x="1663" y="6879"/>
                  <a:pt x="1830" y="6856"/>
                  <a:pt x="1935" y="6871"/>
                </a:cubicBezTo>
                <a:cubicBezTo>
                  <a:pt x="2253" y="6917"/>
                  <a:pt x="2605" y="6871"/>
                  <a:pt x="2927" y="6871"/>
                </a:cubicBezTo>
              </a:path>
              <a:path w="1564" h="1935">
                <a:moveTo>
                  <a:pt x="1364" y="5383"/>
                </a:moveTo>
                <a:cubicBezTo>
                  <a:pt x="1379" y="5426"/>
                  <a:pt x="1377" y="5405"/>
                  <a:pt x="1389" y="5457"/>
                </a:cubicBezTo>
                <a:cubicBezTo>
                  <a:pt x="1403" y="5519"/>
                  <a:pt x="1404" y="5595"/>
                  <a:pt x="1414" y="5655"/>
                </a:cubicBezTo>
                <a:cubicBezTo>
                  <a:pt x="1467" y="5973"/>
                  <a:pt x="1728" y="6454"/>
                  <a:pt x="1439" y="6598"/>
                </a:cubicBezTo>
                <a:cubicBezTo>
                  <a:pt x="1414" y="6598"/>
                  <a:pt x="1406" y="6598"/>
                  <a:pt x="1414" y="6623"/>
                </a:cubicBezTo>
              </a:path>
              <a:path w="1564" h="1935">
                <a:moveTo>
                  <a:pt x="1811" y="6127"/>
                </a:moveTo>
                <a:cubicBezTo>
                  <a:pt x="1791" y="6187"/>
                  <a:pt x="1789" y="6211"/>
                  <a:pt x="1786" y="6276"/>
                </a:cubicBezTo>
                <a:cubicBezTo>
                  <a:pt x="1783" y="6349"/>
                  <a:pt x="1781" y="6408"/>
                  <a:pt x="1811" y="6474"/>
                </a:cubicBezTo>
                <a:cubicBezTo>
                  <a:pt x="1841" y="6538"/>
                  <a:pt x="1864" y="6563"/>
                  <a:pt x="1910" y="6598"/>
                </a:cubicBezTo>
                <a:cubicBezTo>
                  <a:pt x="1946" y="6573"/>
                  <a:pt x="1958" y="6568"/>
                  <a:pt x="1984" y="6524"/>
                </a:cubicBezTo>
                <a:cubicBezTo>
                  <a:pt x="2017" y="6469"/>
                  <a:pt x="2030" y="6387"/>
                  <a:pt x="2034" y="6325"/>
                </a:cubicBezTo>
                <a:cubicBezTo>
                  <a:pt x="2037" y="6263"/>
                  <a:pt x="2056" y="6216"/>
                  <a:pt x="2059" y="6152"/>
                </a:cubicBezTo>
                <a:cubicBezTo>
                  <a:pt x="2061" y="6107"/>
                  <a:pt x="2056" y="6114"/>
                  <a:pt x="2034" y="6077"/>
                </a:cubicBezTo>
                <a:cubicBezTo>
                  <a:pt x="2034" y="6385"/>
                  <a:pt x="2040" y="6692"/>
                  <a:pt x="2009" y="6995"/>
                </a:cubicBezTo>
                <a:cubicBezTo>
                  <a:pt x="1997" y="7115"/>
                  <a:pt x="1973" y="7148"/>
                  <a:pt x="1910" y="7243"/>
                </a:cubicBezTo>
                <a:cubicBezTo>
                  <a:pt x="1867" y="7307"/>
                  <a:pt x="1812" y="7322"/>
                  <a:pt x="1736" y="7293"/>
                </a:cubicBezTo>
                <a:cubicBezTo>
                  <a:pt x="1644" y="7257"/>
                  <a:pt x="1602" y="7165"/>
                  <a:pt x="1612" y="7069"/>
                </a:cubicBezTo>
                <a:cubicBezTo>
                  <a:pt x="1620" y="7044"/>
                  <a:pt x="1629" y="7020"/>
                  <a:pt x="1637" y="6995"/>
                </a:cubicBezTo>
              </a:path>
              <a:path w="1564" h="1935">
                <a:moveTo>
                  <a:pt x="2257" y="5407"/>
                </a:moveTo>
                <a:cubicBezTo>
                  <a:pt x="2230" y="5504"/>
                  <a:pt x="2213" y="5603"/>
                  <a:pt x="2208" y="5705"/>
                </a:cubicBezTo>
                <a:cubicBezTo>
                  <a:pt x="2204" y="5783"/>
                  <a:pt x="2215" y="5834"/>
                  <a:pt x="2232" y="5904"/>
                </a:cubicBezTo>
                <a:cubicBezTo>
                  <a:pt x="2238" y="5928"/>
                  <a:pt x="2274" y="5946"/>
                  <a:pt x="2307" y="5928"/>
                </a:cubicBezTo>
                <a:cubicBezTo>
                  <a:pt x="2351" y="5905"/>
                  <a:pt x="2384" y="5844"/>
                  <a:pt x="2406" y="5804"/>
                </a:cubicBezTo>
                <a:cubicBezTo>
                  <a:pt x="2423" y="5773"/>
                  <a:pt x="2453" y="5693"/>
                  <a:pt x="2431" y="5655"/>
                </a:cubicBezTo>
                <a:cubicBezTo>
                  <a:pt x="2423" y="5647"/>
                  <a:pt x="2414" y="5639"/>
                  <a:pt x="2406" y="5631"/>
                </a:cubicBezTo>
                <a:cubicBezTo>
                  <a:pt x="2353" y="5683"/>
                  <a:pt x="2284" y="5734"/>
                  <a:pt x="2257" y="5804"/>
                </a:cubicBezTo>
                <a:cubicBezTo>
                  <a:pt x="2244" y="5837"/>
                  <a:pt x="2257" y="5922"/>
                  <a:pt x="2257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7960" y="1857240"/>
            <a:ext cx="795240" cy="777960"/>
          </a:xfrm>
          <a:custGeom>
            <a:avLst/>
            <a:gdLst/>
            <a:ahLst/>
            <a:rect l="l" t="t" r="r" b="b"/>
            <a:pathLst>
              <a:path w="2209" h="2159">
                <a:moveTo>
                  <a:pt x="4762" y="6871"/>
                </a:moveTo>
                <a:cubicBezTo>
                  <a:pt x="4883" y="6871"/>
                  <a:pt x="4993" y="6860"/>
                  <a:pt x="5110" y="6846"/>
                </a:cubicBezTo>
                <a:cubicBezTo>
                  <a:pt x="5291" y="6825"/>
                  <a:pt x="5478" y="6856"/>
                  <a:pt x="5655" y="6871"/>
                </a:cubicBezTo>
                <a:cubicBezTo>
                  <a:pt x="5795" y="6883"/>
                  <a:pt x="5938" y="6884"/>
                  <a:pt x="6077" y="6896"/>
                </a:cubicBezTo>
                <a:cubicBezTo>
                  <a:pt x="6193" y="6906"/>
                  <a:pt x="6309" y="6916"/>
                  <a:pt x="6424" y="6921"/>
                </a:cubicBezTo>
                <a:cubicBezTo>
                  <a:pt x="6467" y="6923"/>
                  <a:pt x="6623" y="6942"/>
                  <a:pt x="6623" y="6896"/>
                </a:cubicBezTo>
                <a:cubicBezTo>
                  <a:pt x="6615" y="6896"/>
                  <a:pt x="6606" y="6896"/>
                  <a:pt x="6598" y="6896"/>
                </a:cubicBezTo>
              </a:path>
              <a:path w="2209" h="2159">
                <a:moveTo>
                  <a:pt x="4762" y="5259"/>
                </a:moveTo>
                <a:cubicBezTo>
                  <a:pt x="4781" y="5226"/>
                  <a:pt x="4821" y="5205"/>
                  <a:pt x="4837" y="5184"/>
                </a:cubicBezTo>
                <a:cubicBezTo>
                  <a:pt x="4837" y="5176"/>
                  <a:pt x="4837" y="5167"/>
                  <a:pt x="4837" y="5159"/>
                </a:cubicBezTo>
                <a:cubicBezTo>
                  <a:pt x="4830" y="5211"/>
                  <a:pt x="4827" y="5197"/>
                  <a:pt x="4812" y="5234"/>
                </a:cubicBezTo>
                <a:cubicBezTo>
                  <a:pt x="4795" y="5276"/>
                  <a:pt x="4804" y="5344"/>
                  <a:pt x="4787" y="5383"/>
                </a:cubicBezTo>
                <a:cubicBezTo>
                  <a:pt x="4756" y="5455"/>
                  <a:pt x="4741" y="5542"/>
                  <a:pt x="4738" y="5631"/>
                </a:cubicBezTo>
                <a:cubicBezTo>
                  <a:pt x="4734" y="5726"/>
                  <a:pt x="4697" y="5809"/>
                  <a:pt x="4688" y="5904"/>
                </a:cubicBezTo>
                <a:cubicBezTo>
                  <a:pt x="4678" y="6014"/>
                  <a:pt x="4668" y="6118"/>
                  <a:pt x="4663" y="6226"/>
                </a:cubicBezTo>
                <a:cubicBezTo>
                  <a:pt x="4660" y="6287"/>
                  <a:pt x="4676" y="6398"/>
                  <a:pt x="4713" y="6449"/>
                </a:cubicBezTo>
                <a:cubicBezTo>
                  <a:pt x="4760" y="6515"/>
                  <a:pt x="4810" y="6544"/>
                  <a:pt x="4887" y="6548"/>
                </a:cubicBezTo>
                <a:cubicBezTo>
                  <a:pt x="4959" y="6552"/>
                  <a:pt x="5020" y="6553"/>
                  <a:pt x="5085" y="6524"/>
                </a:cubicBezTo>
                <a:cubicBezTo>
                  <a:pt x="5155" y="6493"/>
                  <a:pt x="5195" y="6464"/>
                  <a:pt x="5234" y="6400"/>
                </a:cubicBezTo>
                <a:cubicBezTo>
                  <a:pt x="5267" y="6346"/>
                  <a:pt x="5256" y="6311"/>
                  <a:pt x="5259" y="6251"/>
                </a:cubicBezTo>
                <a:cubicBezTo>
                  <a:pt x="5262" y="6194"/>
                  <a:pt x="5261" y="6160"/>
                  <a:pt x="5209" y="6127"/>
                </a:cubicBezTo>
                <a:cubicBezTo>
                  <a:pt x="5159" y="6095"/>
                  <a:pt x="5142" y="6105"/>
                  <a:pt x="5085" y="6127"/>
                </a:cubicBezTo>
                <a:cubicBezTo>
                  <a:pt x="5030" y="6149"/>
                  <a:pt x="4976" y="6198"/>
                  <a:pt x="4936" y="6251"/>
                </a:cubicBezTo>
                <a:cubicBezTo>
                  <a:pt x="4894" y="6307"/>
                  <a:pt x="4890" y="6359"/>
                  <a:pt x="4887" y="6424"/>
                </a:cubicBezTo>
                <a:cubicBezTo>
                  <a:pt x="4884" y="6486"/>
                  <a:pt x="4902" y="6525"/>
                  <a:pt x="4911" y="6573"/>
                </a:cubicBezTo>
                <a:cubicBezTo>
                  <a:pt x="4911" y="6598"/>
                  <a:pt x="4911" y="6606"/>
                  <a:pt x="4911" y="6623"/>
                </a:cubicBezTo>
              </a:path>
              <a:path w="2209" h="2159">
                <a:moveTo>
                  <a:pt x="5333" y="6028"/>
                </a:moveTo>
                <a:cubicBezTo>
                  <a:pt x="5352" y="6092"/>
                  <a:pt x="5333" y="6123"/>
                  <a:pt x="5333" y="6201"/>
                </a:cubicBezTo>
                <a:cubicBezTo>
                  <a:pt x="5333" y="6272"/>
                  <a:pt x="5312" y="6371"/>
                  <a:pt x="5358" y="6424"/>
                </a:cubicBezTo>
                <a:cubicBezTo>
                  <a:pt x="5407" y="6481"/>
                  <a:pt x="5429" y="6492"/>
                  <a:pt x="5482" y="6449"/>
                </a:cubicBezTo>
                <a:cubicBezTo>
                  <a:pt x="5537" y="6405"/>
                  <a:pt x="5535" y="6383"/>
                  <a:pt x="5556" y="6325"/>
                </a:cubicBezTo>
                <a:cubicBezTo>
                  <a:pt x="5579" y="6260"/>
                  <a:pt x="5581" y="6224"/>
                  <a:pt x="5581" y="6152"/>
                </a:cubicBezTo>
                <a:cubicBezTo>
                  <a:pt x="5581" y="6144"/>
                  <a:pt x="5581" y="6135"/>
                  <a:pt x="5581" y="6127"/>
                </a:cubicBezTo>
                <a:cubicBezTo>
                  <a:pt x="5581" y="6168"/>
                  <a:pt x="5581" y="6160"/>
                  <a:pt x="5581" y="6201"/>
                </a:cubicBezTo>
                <a:cubicBezTo>
                  <a:pt x="5581" y="6402"/>
                  <a:pt x="5589" y="6598"/>
                  <a:pt x="5606" y="6796"/>
                </a:cubicBezTo>
                <a:cubicBezTo>
                  <a:pt x="5619" y="6952"/>
                  <a:pt x="5567" y="7141"/>
                  <a:pt x="5482" y="7268"/>
                </a:cubicBezTo>
                <a:cubicBezTo>
                  <a:pt x="5426" y="7352"/>
                  <a:pt x="5322" y="7305"/>
                  <a:pt x="5259" y="7268"/>
                </a:cubicBezTo>
                <a:cubicBezTo>
                  <a:pt x="5195" y="7231"/>
                  <a:pt x="5176" y="7109"/>
                  <a:pt x="5184" y="7045"/>
                </a:cubicBezTo>
                <a:cubicBezTo>
                  <a:pt x="5192" y="7012"/>
                  <a:pt x="5201" y="6978"/>
                  <a:pt x="5209" y="6945"/>
                </a:cubicBezTo>
              </a:path>
              <a:path w="2209" h="2159">
                <a:moveTo>
                  <a:pt x="5804" y="5457"/>
                </a:moveTo>
                <a:cubicBezTo>
                  <a:pt x="5854" y="5429"/>
                  <a:pt x="5895" y="5389"/>
                  <a:pt x="5953" y="5383"/>
                </a:cubicBezTo>
                <a:cubicBezTo>
                  <a:pt x="5981" y="5383"/>
                  <a:pt x="5992" y="5381"/>
                  <a:pt x="6003" y="5358"/>
                </a:cubicBezTo>
              </a:path>
              <a:path w="2209" h="2159">
                <a:moveTo>
                  <a:pt x="5730" y="5531"/>
                </a:moveTo>
                <a:cubicBezTo>
                  <a:pt x="5688" y="5585"/>
                  <a:pt x="5667" y="5594"/>
                  <a:pt x="5655" y="5631"/>
                </a:cubicBezTo>
                <a:cubicBezTo>
                  <a:pt x="5714" y="5631"/>
                  <a:pt x="5754" y="5629"/>
                  <a:pt x="5804" y="5655"/>
                </a:cubicBezTo>
                <a:cubicBezTo>
                  <a:pt x="5824" y="5665"/>
                  <a:pt x="5930" y="5750"/>
                  <a:pt x="5928" y="5779"/>
                </a:cubicBezTo>
                <a:cubicBezTo>
                  <a:pt x="5924" y="5846"/>
                  <a:pt x="5859" y="5890"/>
                  <a:pt x="5804" y="5904"/>
                </a:cubicBezTo>
                <a:cubicBezTo>
                  <a:pt x="5760" y="5915"/>
                  <a:pt x="5727" y="5928"/>
                  <a:pt x="5680" y="5928"/>
                </a:cubicBezTo>
                <a:cubicBezTo>
                  <a:pt x="5655" y="5928"/>
                  <a:pt x="5647" y="5928"/>
                  <a:pt x="5680" y="5928"/>
                </a:cubicBezTo>
              </a:path>
              <a:path w="2209" h="2159">
                <a:moveTo>
                  <a:pt x="6176" y="5606"/>
                </a:moveTo>
                <a:cubicBezTo>
                  <a:pt x="6155" y="5684"/>
                  <a:pt x="6112" y="5775"/>
                  <a:pt x="6102" y="5854"/>
                </a:cubicBezTo>
                <a:cubicBezTo>
                  <a:pt x="6086" y="5979"/>
                  <a:pt x="6044" y="6100"/>
                  <a:pt x="6028" y="6226"/>
                </a:cubicBezTo>
                <a:cubicBezTo>
                  <a:pt x="6018" y="6308"/>
                  <a:pt x="6019" y="6400"/>
                  <a:pt x="6052" y="6474"/>
                </a:cubicBezTo>
                <a:cubicBezTo>
                  <a:pt x="6089" y="6558"/>
                  <a:pt x="6107" y="6593"/>
                  <a:pt x="6201" y="6598"/>
                </a:cubicBezTo>
                <a:cubicBezTo>
                  <a:pt x="6254" y="6601"/>
                  <a:pt x="6299" y="6582"/>
                  <a:pt x="6350" y="6573"/>
                </a:cubicBezTo>
              </a:path>
              <a:path w="2209" h="2159">
                <a:moveTo>
                  <a:pt x="6176" y="6127"/>
                </a:moveTo>
                <a:cubicBezTo>
                  <a:pt x="6264" y="6179"/>
                  <a:pt x="6276" y="6176"/>
                  <a:pt x="6375" y="6176"/>
                </a:cubicBezTo>
                <a:cubicBezTo>
                  <a:pt x="6434" y="6176"/>
                  <a:pt x="6460" y="6173"/>
                  <a:pt x="6499" y="6152"/>
                </a:cubicBezTo>
              </a:path>
              <a:path w="2209" h="2159">
                <a:moveTo>
                  <a:pt x="6474" y="5879"/>
                </a:moveTo>
                <a:cubicBezTo>
                  <a:pt x="6546" y="5843"/>
                  <a:pt x="6630" y="5833"/>
                  <a:pt x="6697" y="5804"/>
                </a:cubicBezTo>
                <a:cubicBezTo>
                  <a:pt x="6735" y="5788"/>
                  <a:pt x="6748" y="5779"/>
                  <a:pt x="6796" y="5779"/>
                </a:cubicBezTo>
                <a:cubicBezTo>
                  <a:pt x="6796" y="5826"/>
                  <a:pt x="6777" y="5869"/>
                  <a:pt x="6772" y="5904"/>
                </a:cubicBezTo>
                <a:cubicBezTo>
                  <a:pt x="6758" y="6003"/>
                  <a:pt x="6737" y="6082"/>
                  <a:pt x="6697" y="6176"/>
                </a:cubicBezTo>
                <a:cubicBezTo>
                  <a:pt x="6666" y="6248"/>
                  <a:pt x="6648" y="6298"/>
                  <a:pt x="6648" y="6375"/>
                </a:cubicBezTo>
                <a:cubicBezTo>
                  <a:pt x="6648" y="6376"/>
                  <a:pt x="6644" y="6537"/>
                  <a:pt x="6672" y="6499"/>
                </a:cubicBezTo>
                <a:cubicBezTo>
                  <a:pt x="6672" y="6491"/>
                  <a:pt x="6672" y="6482"/>
                  <a:pt x="6672" y="6474"/>
                </a:cubicBezTo>
              </a:path>
              <a:path w="2209" h="2159">
                <a:moveTo>
                  <a:pt x="6747" y="5606"/>
                </a:moveTo>
                <a:cubicBezTo>
                  <a:pt x="6793" y="5721"/>
                  <a:pt x="6814" y="5830"/>
                  <a:pt x="6846" y="5953"/>
                </a:cubicBezTo>
                <a:cubicBezTo>
                  <a:pt x="6878" y="6077"/>
                  <a:pt x="6871" y="6197"/>
                  <a:pt x="6871" y="6325"/>
                </a:cubicBezTo>
                <a:cubicBezTo>
                  <a:pt x="6871" y="6414"/>
                  <a:pt x="6847" y="6498"/>
                  <a:pt x="6796" y="6573"/>
                </a:cubicBezTo>
                <a:cubicBezTo>
                  <a:pt x="6765" y="6619"/>
                  <a:pt x="6723" y="6638"/>
                  <a:pt x="6672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7960" y="1874880"/>
            <a:ext cx="4529160" cy="938160"/>
          </a:xfrm>
          <a:custGeom>
            <a:avLst/>
            <a:gdLst/>
            <a:ahLst/>
            <a:rect l="l" t="t" r="r" b="b"/>
            <a:pathLst>
              <a:path w="12577" h="2605">
                <a:moveTo>
                  <a:pt x="7938" y="6896"/>
                </a:moveTo>
                <a:cubicBezTo>
                  <a:pt x="8048" y="6896"/>
                  <a:pt x="8155" y="6911"/>
                  <a:pt x="8260" y="6921"/>
                </a:cubicBezTo>
                <a:cubicBezTo>
                  <a:pt x="8429" y="6938"/>
                  <a:pt x="8612" y="6936"/>
                  <a:pt x="8781" y="6945"/>
                </a:cubicBezTo>
                <a:cubicBezTo>
                  <a:pt x="8948" y="6954"/>
                  <a:pt x="9111" y="6982"/>
                  <a:pt x="9277" y="6995"/>
                </a:cubicBezTo>
                <a:cubicBezTo>
                  <a:pt x="9401" y="7004"/>
                  <a:pt x="9526" y="7015"/>
                  <a:pt x="9649" y="7020"/>
                </a:cubicBezTo>
                <a:cubicBezTo>
                  <a:pt x="9717" y="7023"/>
                  <a:pt x="9771" y="7004"/>
                  <a:pt x="9823" y="6995"/>
                </a:cubicBezTo>
                <a:cubicBezTo>
                  <a:pt x="9870" y="6987"/>
                  <a:pt x="9865" y="6989"/>
                  <a:pt x="9897" y="6970"/>
                </a:cubicBezTo>
              </a:path>
              <a:path w="12577" h="2605">
                <a:moveTo>
                  <a:pt x="11311" y="6921"/>
                </a:moveTo>
                <a:cubicBezTo>
                  <a:pt x="11619" y="6921"/>
                  <a:pt x="11924" y="6927"/>
                  <a:pt x="12229" y="6945"/>
                </a:cubicBezTo>
                <a:cubicBezTo>
                  <a:pt x="12454" y="6958"/>
                  <a:pt x="12674" y="6975"/>
                  <a:pt x="12898" y="6995"/>
                </a:cubicBezTo>
                <a:cubicBezTo>
                  <a:pt x="13007" y="7005"/>
                  <a:pt x="13255" y="7036"/>
                  <a:pt x="13345" y="6970"/>
                </a:cubicBezTo>
                <a:cubicBezTo>
                  <a:pt x="13371" y="6951"/>
                  <a:pt x="13347" y="6968"/>
                  <a:pt x="13370" y="6945"/>
                </a:cubicBezTo>
              </a:path>
              <a:path w="12577" h="2605">
                <a:moveTo>
                  <a:pt x="14213" y="6995"/>
                </a:moveTo>
                <a:cubicBezTo>
                  <a:pt x="14554" y="6995"/>
                  <a:pt x="14892" y="7000"/>
                  <a:pt x="15230" y="7020"/>
                </a:cubicBezTo>
                <a:cubicBezTo>
                  <a:pt x="15453" y="7033"/>
                  <a:pt x="15678" y="7030"/>
                  <a:pt x="15900" y="7045"/>
                </a:cubicBezTo>
                <a:cubicBezTo>
                  <a:pt x="16060" y="7056"/>
                  <a:pt x="16216" y="7041"/>
                  <a:pt x="16371" y="7020"/>
                </a:cubicBezTo>
                <a:cubicBezTo>
                  <a:pt x="16443" y="7010"/>
                  <a:pt x="16504" y="7036"/>
                  <a:pt x="16570" y="6995"/>
                </a:cubicBezTo>
                <a:cubicBezTo>
                  <a:pt x="16601" y="6976"/>
                  <a:pt x="16596" y="6977"/>
                  <a:pt x="16644" y="6970"/>
                </a:cubicBezTo>
              </a:path>
              <a:path w="12577" h="2605">
                <a:moveTo>
                  <a:pt x="18008" y="7020"/>
                </a:moveTo>
                <a:cubicBezTo>
                  <a:pt x="18072" y="7020"/>
                  <a:pt x="18123" y="7003"/>
                  <a:pt x="18182" y="6995"/>
                </a:cubicBezTo>
                <a:cubicBezTo>
                  <a:pt x="18838" y="6909"/>
                  <a:pt x="19553" y="6995"/>
                  <a:pt x="20216" y="6995"/>
                </a:cubicBezTo>
              </a:path>
              <a:path w="12577" h="2605">
                <a:moveTo>
                  <a:pt x="7938" y="5259"/>
                </a:moveTo>
                <a:cubicBezTo>
                  <a:pt x="7953" y="5318"/>
                  <a:pt x="7949" y="5326"/>
                  <a:pt x="7938" y="5383"/>
                </a:cubicBezTo>
                <a:cubicBezTo>
                  <a:pt x="7925" y="5452"/>
                  <a:pt x="7921" y="5540"/>
                  <a:pt x="7913" y="5606"/>
                </a:cubicBezTo>
                <a:cubicBezTo>
                  <a:pt x="7887" y="5813"/>
                  <a:pt x="7814" y="6512"/>
                  <a:pt x="7938" y="6672"/>
                </a:cubicBezTo>
                <a:cubicBezTo>
                  <a:pt x="7961" y="6641"/>
                  <a:pt x="7964" y="6629"/>
                  <a:pt x="7987" y="6598"/>
                </a:cubicBezTo>
              </a:path>
              <a:path w="12577" h="2605">
                <a:moveTo>
                  <a:pt x="8186" y="5333"/>
                </a:moveTo>
                <a:cubicBezTo>
                  <a:pt x="8223" y="5304"/>
                  <a:pt x="8237" y="5308"/>
                  <a:pt x="8285" y="5308"/>
                </a:cubicBezTo>
                <a:cubicBezTo>
                  <a:pt x="8327" y="5308"/>
                  <a:pt x="8357" y="5283"/>
                  <a:pt x="8409" y="5283"/>
                </a:cubicBezTo>
                <a:cubicBezTo>
                  <a:pt x="8450" y="5283"/>
                  <a:pt x="8458" y="5283"/>
                  <a:pt x="8483" y="5283"/>
                </a:cubicBezTo>
              </a:path>
              <a:path w="12577" h="2605">
                <a:moveTo>
                  <a:pt x="8186" y="5283"/>
                </a:moveTo>
                <a:cubicBezTo>
                  <a:pt x="8167" y="5339"/>
                  <a:pt x="8146" y="5401"/>
                  <a:pt x="8136" y="5457"/>
                </a:cubicBezTo>
                <a:cubicBezTo>
                  <a:pt x="8129" y="5500"/>
                  <a:pt x="8118" y="5635"/>
                  <a:pt x="8161" y="5655"/>
                </a:cubicBezTo>
                <a:cubicBezTo>
                  <a:pt x="8192" y="5669"/>
                  <a:pt x="8222" y="5641"/>
                  <a:pt x="8235" y="5631"/>
                </a:cubicBezTo>
                <a:cubicBezTo>
                  <a:pt x="8260" y="5611"/>
                  <a:pt x="8266" y="5609"/>
                  <a:pt x="8310" y="5606"/>
                </a:cubicBezTo>
                <a:cubicBezTo>
                  <a:pt x="8340" y="5604"/>
                  <a:pt x="8391" y="5614"/>
                  <a:pt x="8409" y="5631"/>
                </a:cubicBezTo>
                <a:cubicBezTo>
                  <a:pt x="8484" y="5705"/>
                  <a:pt x="8525" y="5805"/>
                  <a:pt x="8558" y="5904"/>
                </a:cubicBezTo>
                <a:cubicBezTo>
                  <a:pt x="8590" y="6003"/>
                  <a:pt x="8582" y="6098"/>
                  <a:pt x="8582" y="6201"/>
                </a:cubicBezTo>
                <a:cubicBezTo>
                  <a:pt x="8582" y="6300"/>
                  <a:pt x="8546" y="6418"/>
                  <a:pt x="8483" y="6499"/>
                </a:cubicBezTo>
                <a:cubicBezTo>
                  <a:pt x="8439" y="6555"/>
                  <a:pt x="8382" y="6587"/>
                  <a:pt x="8310" y="6573"/>
                </a:cubicBezTo>
                <a:cubicBezTo>
                  <a:pt x="8261" y="6564"/>
                  <a:pt x="8184" y="6562"/>
                  <a:pt x="8136" y="6548"/>
                </a:cubicBezTo>
                <a:cubicBezTo>
                  <a:pt x="8097" y="6536"/>
                  <a:pt x="8084" y="6527"/>
                  <a:pt x="8037" y="6524"/>
                </a:cubicBezTo>
                <a:cubicBezTo>
                  <a:pt x="8012" y="6524"/>
                  <a:pt x="8004" y="6524"/>
                  <a:pt x="7987" y="6524"/>
                </a:cubicBezTo>
              </a:path>
              <a:path w="12577" h="2605">
                <a:moveTo>
                  <a:pt x="10889" y="5631"/>
                </a:moveTo>
                <a:cubicBezTo>
                  <a:pt x="10929" y="5591"/>
                  <a:pt x="10980" y="5541"/>
                  <a:pt x="11038" y="5531"/>
                </a:cubicBezTo>
                <a:cubicBezTo>
                  <a:pt x="11109" y="5519"/>
                  <a:pt x="11212" y="5490"/>
                  <a:pt x="11286" y="5507"/>
                </a:cubicBezTo>
                <a:cubicBezTo>
                  <a:pt x="11346" y="5521"/>
                  <a:pt x="11442" y="5570"/>
                  <a:pt x="11460" y="5631"/>
                </a:cubicBezTo>
                <a:cubicBezTo>
                  <a:pt x="11487" y="5723"/>
                  <a:pt x="11434" y="5819"/>
                  <a:pt x="11410" y="5904"/>
                </a:cubicBezTo>
                <a:cubicBezTo>
                  <a:pt x="11374" y="6031"/>
                  <a:pt x="11308" y="6109"/>
                  <a:pt x="11261" y="6226"/>
                </a:cubicBezTo>
                <a:cubicBezTo>
                  <a:pt x="11219" y="6330"/>
                  <a:pt x="11168" y="6460"/>
                  <a:pt x="11162" y="6573"/>
                </a:cubicBezTo>
                <a:cubicBezTo>
                  <a:pt x="11159" y="6625"/>
                  <a:pt x="11159" y="6627"/>
                  <a:pt x="11187" y="6648"/>
                </a:cubicBezTo>
                <a:cubicBezTo>
                  <a:pt x="11208" y="6664"/>
                  <a:pt x="11258" y="6685"/>
                  <a:pt x="11311" y="6672"/>
                </a:cubicBezTo>
                <a:cubicBezTo>
                  <a:pt x="11397" y="6650"/>
                  <a:pt x="11486" y="6590"/>
                  <a:pt x="11534" y="6524"/>
                </a:cubicBezTo>
              </a:path>
              <a:path w="12577" h="2605">
                <a:moveTo>
                  <a:pt x="11584" y="5779"/>
                </a:moveTo>
                <a:cubicBezTo>
                  <a:pt x="11578" y="5945"/>
                  <a:pt x="11578" y="6067"/>
                  <a:pt x="11584" y="6226"/>
                </a:cubicBezTo>
                <a:cubicBezTo>
                  <a:pt x="11587" y="6313"/>
                  <a:pt x="11598" y="6383"/>
                  <a:pt x="11658" y="6449"/>
                </a:cubicBezTo>
                <a:cubicBezTo>
                  <a:pt x="11682" y="6475"/>
                  <a:pt x="11742" y="6521"/>
                  <a:pt x="11782" y="6499"/>
                </a:cubicBezTo>
                <a:cubicBezTo>
                  <a:pt x="11843" y="6465"/>
                  <a:pt x="11855" y="6360"/>
                  <a:pt x="11857" y="6300"/>
                </a:cubicBezTo>
                <a:cubicBezTo>
                  <a:pt x="11861" y="6186"/>
                  <a:pt x="11856" y="6063"/>
                  <a:pt x="11832" y="5953"/>
                </a:cubicBezTo>
                <a:cubicBezTo>
                  <a:pt x="11810" y="5850"/>
                  <a:pt x="11779" y="5818"/>
                  <a:pt x="11708" y="5755"/>
                </a:cubicBezTo>
                <a:cubicBezTo>
                  <a:pt x="11678" y="5725"/>
                  <a:pt x="11664" y="5714"/>
                  <a:pt x="11633" y="5705"/>
                </a:cubicBezTo>
              </a:path>
              <a:path w="12577" h="2605">
                <a:moveTo>
                  <a:pt x="14139" y="5854"/>
                </a:moveTo>
                <a:cubicBezTo>
                  <a:pt x="14161" y="5993"/>
                  <a:pt x="14177" y="6137"/>
                  <a:pt x="14188" y="6276"/>
                </a:cubicBezTo>
                <a:cubicBezTo>
                  <a:pt x="14198" y="6401"/>
                  <a:pt x="14200" y="6526"/>
                  <a:pt x="14213" y="6648"/>
                </a:cubicBezTo>
                <a:cubicBezTo>
                  <a:pt x="14222" y="6731"/>
                  <a:pt x="14188" y="6809"/>
                  <a:pt x="14188" y="6896"/>
                </a:cubicBezTo>
                <a:cubicBezTo>
                  <a:pt x="14188" y="6924"/>
                  <a:pt x="14190" y="6930"/>
                  <a:pt x="14213" y="6896"/>
                </a:cubicBezTo>
              </a:path>
              <a:path w="12577" h="2605">
                <a:moveTo>
                  <a:pt x="14461" y="5953"/>
                </a:moveTo>
                <a:cubicBezTo>
                  <a:pt x="14599" y="5919"/>
                  <a:pt x="14722" y="5903"/>
                  <a:pt x="14858" y="5879"/>
                </a:cubicBezTo>
                <a:cubicBezTo>
                  <a:pt x="14883" y="5879"/>
                  <a:pt x="14891" y="5879"/>
                  <a:pt x="14883" y="5854"/>
                </a:cubicBezTo>
              </a:path>
              <a:path w="12577" h="2605">
                <a:moveTo>
                  <a:pt x="14412" y="6102"/>
                </a:moveTo>
                <a:cubicBezTo>
                  <a:pt x="14374" y="6185"/>
                  <a:pt x="14268" y="6270"/>
                  <a:pt x="14312" y="6350"/>
                </a:cubicBezTo>
                <a:cubicBezTo>
                  <a:pt x="14320" y="6358"/>
                  <a:pt x="14329" y="6367"/>
                  <a:pt x="14337" y="6375"/>
                </a:cubicBezTo>
                <a:cubicBezTo>
                  <a:pt x="14390" y="6362"/>
                  <a:pt x="14384" y="6323"/>
                  <a:pt x="14412" y="6300"/>
                </a:cubicBezTo>
                <a:cubicBezTo>
                  <a:pt x="14464" y="6258"/>
                  <a:pt x="14513" y="6275"/>
                  <a:pt x="14560" y="6300"/>
                </a:cubicBezTo>
                <a:cubicBezTo>
                  <a:pt x="14655" y="6350"/>
                  <a:pt x="14716" y="6397"/>
                  <a:pt x="14759" y="6499"/>
                </a:cubicBezTo>
                <a:cubicBezTo>
                  <a:pt x="14791" y="6574"/>
                  <a:pt x="14829" y="6663"/>
                  <a:pt x="14808" y="6747"/>
                </a:cubicBezTo>
                <a:cubicBezTo>
                  <a:pt x="14788" y="6825"/>
                  <a:pt x="14769" y="6826"/>
                  <a:pt x="14709" y="6871"/>
                </a:cubicBezTo>
                <a:cubicBezTo>
                  <a:pt x="14638" y="6925"/>
                  <a:pt x="14565" y="6902"/>
                  <a:pt x="14486" y="6896"/>
                </a:cubicBezTo>
                <a:cubicBezTo>
                  <a:pt x="14428" y="6896"/>
                  <a:pt x="14420" y="6896"/>
                  <a:pt x="14387" y="6896"/>
                </a:cubicBezTo>
              </a:path>
              <a:path w="12577" h="2605">
                <a:moveTo>
                  <a:pt x="18157" y="6003"/>
                </a:moveTo>
                <a:cubicBezTo>
                  <a:pt x="18135" y="6143"/>
                  <a:pt x="18101" y="6284"/>
                  <a:pt x="18083" y="6424"/>
                </a:cubicBezTo>
                <a:cubicBezTo>
                  <a:pt x="18069" y="6533"/>
                  <a:pt x="18038" y="6661"/>
                  <a:pt x="18058" y="6772"/>
                </a:cubicBezTo>
                <a:cubicBezTo>
                  <a:pt x="18065" y="6810"/>
                  <a:pt x="18142" y="6950"/>
                  <a:pt x="18182" y="6970"/>
                </a:cubicBezTo>
                <a:cubicBezTo>
                  <a:pt x="18229" y="6994"/>
                  <a:pt x="18339" y="6968"/>
                  <a:pt x="18380" y="6945"/>
                </a:cubicBezTo>
                <a:cubicBezTo>
                  <a:pt x="18468" y="6896"/>
                  <a:pt x="18515" y="6818"/>
                  <a:pt x="18529" y="6722"/>
                </a:cubicBezTo>
                <a:cubicBezTo>
                  <a:pt x="18529" y="6714"/>
                  <a:pt x="18529" y="6705"/>
                  <a:pt x="18529" y="6697"/>
                </a:cubicBezTo>
                <a:cubicBezTo>
                  <a:pt x="18433" y="6709"/>
                  <a:pt x="18408" y="6740"/>
                  <a:pt x="18355" y="6821"/>
                </a:cubicBezTo>
                <a:cubicBezTo>
                  <a:pt x="18306" y="6896"/>
                  <a:pt x="18274" y="6964"/>
                  <a:pt x="18306" y="7045"/>
                </a:cubicBezTo>
                <a:cubicBezTo>
                  <a:pt x="18331" y="7094"/>
                  <a:pt x="18339" y="7110"/>
                  <a:pt x="18380" y="7119"/>
                </a:cubicBezTo>
              </a:path>
              <a:path w="12577" h="2605">
                <a:moveTo>
                  <a:pt x="8731" y="6251"/>
                </a:moveTo>
                <a:cubicBezTo>
                  <a:pt x="8705" y="6320"/>
                  <a:pt x="8693" y="6402"/>
                  <a:pt x="8682" y="6474"/>
                </a:cubicBezTo>
                <a:cubicBezTo>
                  <a:pt x="8671" y="6549"/>
                  <a:pt x="8706" y="6599"/>
                  <a:pt x="8756" y="6648"/>
                </a:cubicBezTo>
                <a:cubicBezTo>
                  <a:pt x="8805" y="6696"/>
                  <a:pt x="8800" y="6704"/>
                  <a:pt x="8855" y="6672"/>
                </a:cubicBezTo>
                <a:cubicBezTo>
                  <a:pt x="8956" y="6612"/>
                  <a:pt x="8989" y="6555"/>
                  <a:pt x="9029" y="6449"/>
                </a:cubicBezTo>
                <a:cubicBezTo>
                  <a:pt x="9058" y="6373"/>
                  <a:pt x="9062" y="6308"/>
                  <a:pt x="9054" y="6251"/>
                </a:cubicBezTo>
                <a:cubicBezTo>
                  <a:pt x="9045" y="6186"/>
                  <a:pt x="9059" y="6173"/>
                  <a:pt x="9004" y="6201"/>
                </a:cubicBezTo>
                <a:cubicBezTo>
                  <a:pt x="8988" y="6245"/>
                  <a:pt x="8962" y="6300"/>
                  <a:pt x="8954" y="6350"/>
                </a:cubicBezTo>
                <a:cubicBezTo>
                  <a:pt x="8931" y="6490"/>
                  <a:pt x="8968" y="6636"/>
                  <a:pt x="8979" y="6772"/>
                </a:cubicBezTo>
                <a:cubicBezTo>
                  <a:pt x="8991" y="6921"/>
                  <a:pt x="9017" y="7070"/>
                  <a:pt x="9029" y="7218"/>
                </a:cubicBezTo>
                <a:cubicBezTo>
                  <a:pt x="9039" y="7339"/>
                  <a:pt x="9028" y="7504"/>
                  <a:pt x="8930" y="7590"/>
                </a:cubicBezTo>
                <a:cubicBezTo>
                  <a:pt x="8826" y="7681"/>
                  <a:pt x="8736" y="7695"/>
                  <a:pt x="8632" y="7615"/>
                </a:cubicBezTo>
                <a:cubicBezTo>
                  <a:pt x="8541" y="7546"/>
                  <a:pt x="8536" y="7447"/>
                  <a:pt x="8533" y="7342"/>
                </a:cubicBezTo>
                <a:cubicBezTo>
                  <a:pt x="8533" y="7217"/>
                  <a:pt x="8533" y="7175"/>
                  <a:pt x="8558" y="7094"/>
                </a:cubicBezTo>
              </a:path>
              <a:path w="12577" h="2605">
                <a:moveTo>
                  <a:pt x="9178" y="5556"/>
                </a:moveTo>
                <a:cubicBezTo>
                  <a:pt x="9178" y="5620"/>
                  <a:pt x="9161" y="5682"/>
                  <a:pt x="9203" y="5730"/>
                </a:cubicBezTo>
                <a:cubicBezTo>
                  <a:pt x="9217" y="5747"/>
                  <a:pt x="9279" y="5789"/>
                  <a:pt x="9302" y="5779"/>
                </a:cubicBezTo>
                <a:cubicBezTo>
                  <a:pt x="9347" y="5760"/>
                  <a:pt x="9353" y="5739"/>
                  <a:pt x="9376" y="5705"/>
                </a:cubicBezTo>
                <a:cubicBezTo>
                  <a:pt x="9406" y="5660"/>
                  <a:pt x="9401" y="5638"/>
                  <a:pt x="9401" y="5581"/>
                </a:cubicBezTo>
              </a:path>
              <a:path w="12577" h="2605">
                <a:moveTo>
                  <a:pt x="9376" y="5383"/>
                </a:moveTo>
                <a:cubicBezTo>
                  <a:pt x="9376" y="5529"/>
                  <a:pt x="9368" y="5661"/>
                  <a:pt x="9351" y="5804"/>
                </a:cubicBezTo>
                <a:cubicBezTo>
                  <a:pt x="9342" y="5877"/>
                  <a:pt x="9376" y="5952"/>
                  <a:pt x="9376" y="6028"/>
                </a:cubicBezTo>
              </a:path>
              <a:path w="12577" h="2605">
                <a:moveTo>
                  <a:pt x="11857" y="6201"/>
                </a:moveTo>
                <a:cubicBezTo>
                  <a:pt x="11857" y="6284"/>
                  <a:pt x="11843" y="6345"/>
                  <a:pt x="11832" y="6424"/>
                </a:cubicBezTo>
                <a:cubicBezTo>
                  <a:pt x="11822" y="6490"/>
                  <a:pt x="11810" y="6617"/>
                  <a:pt x="11857" y="6672"/>
                </a:cubicBezTo>
                <a:cubicBezTo>
                  <a:pt x="11897" y="6718"/>
                  <a:pt x="11969" y="6700"/>
                  <a:pt x="12005" y="6672"/>
                </a:cubicBezTo>
                <a:cubicBezTo>
                  <a:pt x="12055" y="6632"/>
                  <a:pt x="12077" y="6580"/>
                  <a:pt x="12105" y="6524"/>
                </a:cubicBezTo>
                <a:cubicBezTo>
                  <a:pt x="12134" y="6465"/>
                  <a:pt x="12150" y="6390"/>
                  <a:pt x="12154" y="6325"/>
                </a:cubicBezTo>
                <a:cubicBezTo>
                  <a:pt x="12154" y="6300"/>
                  <a:pt x="12154" y="6292"/>
                  <a:pt x="12154" y="6276"/>
                </a:cubicBezTo>
                <a:cubicBezTo>
                  <a:pt x="12154" y="6317"/>
                  <a:pt x="12154" y="6309"/>
                  <a:pt x="12154" y="6350"/>
                </a:cubicBezTo>
                <a:cubicBezTo>
                  <a:pt x="12154" y="6453"/>
                  <a:pt x="12111" y="6539"/>
                  <a:pt x="12129" y="6648"/>
                </a:cubicBezTo>
                <a:cubicBezTo>
                  <a:pt x="12153" y="6789"/>
                  <a:pt x="12154" y="6923"/>
                  <a:pt x="12154" y="7069"/>
                </a:cubicBezTo>
                <a:cubicBezTo>
                  <a:pt x="12154" y="7215"/>
                  <a:pt x="12146" y="7327"/>
                  <a:pt x="12105" y="7466"/>
                </a:cubicBezTo>
                <a:cubicBezTo>
                  <a:pt x="12084" y="7538"/>
                  <a:pt x="12036" y="7641"/>
                  <a:pt x="11956" y="7665"/>
                </a:cubicBezTo>
                <a:cubicBezTo>
                  <a:pt x="11831" y="7703"/>
                  <a:pt x="11786" y="7552"/>
                  <a:pt x="11757" y="7466"/>
                </a:cubicBezTo>
                <a:cubicBezTo>
                  <a:pt x="11726" y="7374"/>
                  <a:pt x="11751" y="7290"/>
                  <a:pt x="11757" y="7193"/>
                </a:cubicBezTo>
              </a:path>
              <a:path w="12577" h="2605">
                <a:moveTo>
                  <a:pt x="12254" y="5581"/>
                </a:moveTo>
                <a:cubicBezTo>
                  <a:pt x="12353" y="5489"/>
                  <a:pt x="12354" y="5462"/>
                  <a:pt x="12452" y="5482"/>
                </a:cubicBezTo>
                <a:cubicBezTo>
                  <a:pt x="12460" y="5482"/>
                  <a:pt x="12469" y="5482"/>
                  <a:pt x="12477" y="5482"/>
                </a:cubicBezTo>
                <a:cubicBezTo>
                  <a:pt x="12467" y="5531"/>
                  <a:pt x="12447" y="5576"/>
                  <a:pt x="12402" y="5606"/>
                </a:cubicBezTo>
                <a:cubicBezTo>
                  <a:pt x="12351" y="5639"/>
                  <a:pt x="12301" y="5667"/>
                  <a:pt x="12254" y="5705"/>
                </a:cubicBezTo>
                <a:cubicBezTo>
                  <a:pt x="12284" y="5715"/>
                  <a:pt x="12315" y="5726"/>
                  <a:pt x="12353" y="5755"/>
                </a:cubicBezTo>
                <a:cubicBezTo>
                  <a:pt x="12413" y="5802"/>
                  <a:pt x="12395" y="5801"/>
                  <a:pt x="12378" y="5854"/>
                </a:cubicBezTo>
                <a:cubicBezTo>
                  <a:pt x="12365" y="5896"/>
                  <a:pt x="12297" y="5927"/>
                  <a:pt x="12254" y="5953"/>
                </a:cubicBezTo>
                <a:cubicBezTo>
                  <a:pt x="12214" y="5977"/>
                  <a:pt x="12172" y="5985"/>
                  <a:pt x="12129" y="6003"/>
                </a:cubicBezTo>
              </a:path>
              <a:path w="12577" h="2605">
                <a:moveTo>
                  <a:pt x="14932" y="6474"/>
                </a:moveTo>
                <a:cubicBezTo>
                  <a:pt x="14932" y="6566"/>
                  <a:pt x="14889" y="6803"/>
                  <a:pt x="14957" y="6871"/>
                </a:cubicBezTo>
                <a:cubicBezTo>
                  <a:pt x="14991" y="6905"/>
                  <a:pt x="15036" y="6921"/>
                  <a:pt x="15081" y="6921"/>
                </a:cubicBezTo>
                <a:cubicBezTo>
                  <a:pt x="15154" y="6921"/>
                  <a:pt x="15233" y="6845"/>
                  <a:pt x="15255" y="6772"/>
                </a:cubicBezTo>
                <a:cubicBezTo>
                  <a:pt x="15255" y="6706"/>
                  <a:pt x="15255" y="6689"/>
                  <a:pt x="15255" y="6648"/>
                </a:cubicBezTo>
              </a:path>
              <a:path w="12577" h="2605">
                <a:moveTo>
                  <a:pt x="15205" y="6499"/>
                </a:moveTo>
                <a:cubicBezTo>
                  <a:pt x="15171" y="6567"/>
                  <a:pt x="15192" y="6570"/>
                  <a:pt x="15205" y="6648"/>
                </a:cubicBezTo>
                <a:cubicBezTo>
                  <a:pt x="15222" y="6747"/>
                  <a:pt x="15223" y="6871"/>
                  <a:pt x="15230" y="6970"/>
                </a:cubicBezTo>
                <a:cubicBezTo>
                  <a:pt x="15241" y="7121"/>
                  <a:pt x="15255" y="7265"/>
                  <a:pt x="15255" y="7417"/>
                </a:cubicBezTo>
                <a:cubicBezTo>
                  <a:pt x="15255" y="7556"/>
                  <a:pt x="15254" y="7611"/>
                  <a:pt x="15156" y="7714"/>
                </a:cubicBezTo>
                <a:cubicBezTo>
                  <a:pt x="15094" y="7779"/>
                  <a:pt x="15040" y="7821"/>
                  <a:pt x="14957" y="7789"/>
                </a:cubicBezTo>
                <a:cubicBezTo>
                  <a:pt x="14864" y="7753"/>
                  <a:pt x="14845" y="7671"/>
                  <a:pt x="14808" y="7590"/>
                </a:cubicBezTo>
              </a:path>
              <a:path w="12577" h="2605">
                <a:moveTo>
                  <a:pt x="15280" y="5904"/>
                </a:moveTo>
                <a:cubicBezTo>
                  <a:pt x="15317" y="5875"/>
                  <a:pt x="15410" y="5770"/>
                  <a:pt x="15478" y="5804"/>
                </a:cubicBezTo>
                <a:cubicBezTo>
                  <a:pt x="15553" y="5842"/>
                  <a:pt x="15461" y="5973"/>
                  <a:pt x="15429" y="6003"/>
                </a:cubicBezTo>
                <a:cubicBezTo>
                  <a:pt x="15402" y="6029"/>
                  <a:pt x="15320" y="6078"/>
                  <a:pt x="15304" y="6102"/>
                </a:cubicBezTo>
                <a:cubicBezTo>
                  <a:pt x="15304" y="6110"/>
                  <a:pt x="15304" y="6119"/>
                  <a:pt x="15304" y="6127"/>
                </a:cubicBezTo>
                <a:cubicBezTo>
                  <a:pt x="15384" y="6143"/>
                  <a:pt x="15401" y="6137"/>
                  <a:pt x="15478" y="6127"/>
                </a:cubicBezTo>
                <a:cubicBezTo>
                  <a:pt x="15562" y="6116"/>
                  <a:pt x="15625" y="6134"/>
                  <a:pt x="15701" y="6152"/>
                </a:cubicBezTo>
                <a:cubicBezTo>
                  <a:pt x="15709" y="6152"/>
                  <a:pt x="15718" y="6152"/>
                  <a:pt x="15726" y="6152"/>
                </a:cubicBezTo>
              </a:path>
              <a:path w="12577" h="2605">
                <a:moveTo>
                  <a:pt x="18802" y="6524"/>
                </a:moveTo>
                <a:cubicBezTo>
                  <a:pt x="18779" y="6569"/>
                  <a:pt x="18768" y="6622"/>
                  <a:pt x="18752" y="6672"/>
                </a:cubicBezTo>
                <a:cubicBezTo>
                  <a:pt x="18723" y="6762"/>
                  <a:pt x="18730" y="6768"/>
                  <a:pt x="18777" y="6846"/>
                </a:cubicBezTo>
                <a:cubicBezTo>
                  <a:pt x="18823" y="6922"/>
                  <a:pt x="18816" y="6916"/>
                  <a:pt x="18901" y="6921"/>
                </a:cubicBezTo>
                <a:cubicBezTo>
                  <a:pt x="18959" y="6924"/>
                  <a:pt x="18972" y="6906"/>
                  <a:pt x="19000" y="6871"/>
                </a:cubicBezTo>
                <a:cubicBezTo>
                  <a:pt x="19037" y="6825"/>
                  <a:pt x="19065" y="6754"/>
                  <a:pt x="19075" y="6697"/>
                </a:cubicBezTo>
                <a:cubicBezTo>
                  <a:pt x="19087" y="6628"/>
                  <a:pt x="19073" y="6577"/>
                  <a:pt x="19050" y="6524"/>
                </a:cubicBezTo>
                <a:cubicBezTo>
                  <a:pt x="19043" y="6574"/>
                  <a:pt x="19028" y="6596"/>
                  <a:pt x="19025" y="6648"/>
                </a:cubicBezTo>
                <a:cubicBezTo>
                  <a:pt x="19020" y="6736"/>
                  <a:pt x="19047" y="6809"/>
                  <a:pt x="19050" y="6896"/>
                </a:cubicBezTo>
                <a:cubicBezTo>
                  <a:pt x="19054" y="7020"/>
                  <a:pt x="19080" y="7147"/>
                  <a:pt x="19100" y="7268"/>
                </a:cubicBezTo>
                <a:cubicBezTo>
                  <a:pt x="19121" y="7395"/>
                  <a:pt x="19116" y="7466"/>
                  <a:pt x="19100" y="7590"/>
                </a:cubicBezTo>
                <a:cubicBezTo>
                  <a:pt x="19090" y="7665"/>
                  <a:pt x="19048" y="7707"/>
                  <a:pt x="18976" y="7739"/>
                </a:cubicBezTo>
                <a:cubicBezTo>
                  <a:pt x="18839" y="7799"/>
                  <a:pt x="18837" y="7786"/>
                  <a:pt x="18728" y="7764"/>
                </a:cubicBezTo>
                <a:cubicBezTo>
                  <a:pt x="18677" y="7754"/>
                  <a:pt x="18647" y="7764"/>
                  <a:pt x="18604" y="7739"/>
                </a:cubicBezTo>
                <a:cubicBezTo>
                  <a:pt x="18601" y="7737"/>
                  <a:pt x="18560" y="7695"/>
                  <a:pt x="18554" y="7689"/>
                </a:cubicBezTo>
                <a:cubicBezTo>
                  <a:pt x="18530" y="7665"/>
                  <a:pt x="18554" y="7722"/>
                  <a:pt x="18554" y="7689"/>
                </a:cubicBezTo>
                <a:cubicBezTo>
                  <a:pt x="18554" y="7681"/>
                  <a:pt x="18554" y="7673"/>
                  <a:pt x="18554" y="7665"/>
                </a:cubicBezTo>
              </a:path>
              <a:path w="12577" h="2605">
                <a:moveTo>
                  <a:pt x="19422" y="5755"/>
                </a:moveTo>
                <a:cubicBezTo>
                  <a:pt x="19422" y="5808"/>
                  <a:pt x="19406" y="5829"/>
                  <a:pt x="19397" y="5879"/>
                </a:cubicBezTo>
                <a:cubicBezTo>
                  <a:pt x="19382" y="5962"/>
                  <a:pt x="19336" y="6042"/>
                  <a:pt x="19323" y="6127"/>
                </a:cubicBezTo>
                <a:cubicBezTo>
                  <a:pt x="19308" y="6232"/>
                  <a:pt x="19283" y="6345"/>
                  <a:pt x="19273" y="6449"/>
                </a:cubicBezTo>
                <a:cubicBezTo>
                  <a:pt x="19261" y="6579"/>
                  <a:pt x="19302" y="6650"/>
                  <a:pt x="19323" y="6772"/>
                </a:cubicBezTo>
                <a:cubicBezTo>
                  <a:pt x="19327" y="6795"/>
                  <a:pt x="19317" y="6909"/>
                  <a:pt x="19348" y="6846"/>
                </a:cubicBezTo>
              </a:path>
              <a:path w="12577" h="2605">
                <a:moveTo>
                  <a:pt x="19422" y="6400"/>
                </a:moveTo>
                <a:cubicBezTo>
                  <a:pt x="19505" y="6400"/>
                  <a:pt x="19587" y="6400"/>
                  <a:pt x="19670" y="6400"/>
                </a:cubicBezTo>
              </a:path>
              <a:path w="12577" h="2605">
                <a:moveTo>
                  <a:pt x="19645" y="6176"/>
                </a:moveTo>
                <a:cubicBezTo>
                  <a:pt x="19695" y="6155"/>
                  <a:pt x="19749" y="6142"/>
                  <a:pt x="19794" y="6127"/>
                </a:cubicBezTo>
                <a:cubicBezTo>
                  <a:pt x="19867" y="6104"/>
                  <a:pt x="19921" y="6102"/>
                  <a:pt x="19993" y="6102"/>
                </a:cubicBezTo>
                <a:cubicBezTo>
                  <a:pt x="20001" y="6102"/>
                  <a:pt x="20009" y="6102"/>
                  <a:pt x="20017" y="6102"/>
                </a:cubicBezTo>
                <a:cubicBezTo>
                  <a:pt x="20017" y="6158"/>
                  <a:pt x="20009" y="6225"/>
                  <a:pt x="19993" y="6276"/>
                </a:cubicBezTo>
                <a:cubicBezTo>
                  <a:pt x="19968" y="6354"/>
                  <a:pt x="19947" y="6415"/>
                  <a:pt x="19943" y="6499"/>
                </a:cubicBezTo>
                <a:cubicBezTo>
                  <a:pt x="19940" y="6569"/>
                  <a:pt x="19935" y="6758"/>
                  <a:pt x="19943" y="6747"/>
                </a:cubicBezTo>
                <a:cubicBezTo>
                  <a:pt x="19951" y="6739"/>
                  <a:pt x="19960" y="6730"/>
                  <a:pt x="19968" y="6722"/>
                </a:cubicBezTo>
              </a:path>
              <a:path w="12577" h="2605">
                <a:moveTo>
                  <a:pt x="19869" y="5804"/>
                </a:moveTo>
                <a:cubicBezTo>
                  <a:pt x="19963" y="5878"/>
                  <a:pt x="20091" y="5963"/>
                  <a:pt x="20141" y="6077"/>
                </a:cubicBezTo>
                <a:cubicBezTo>
                  <a:pt x="20189" y="6187"/>
                  <a:pt x="20248" y="6352"/>
                  <a:pt x="20241" y="6474"/>
                </a:cubicBezTo>
                <a:cubicBezTo>
                  <a:pt x="20234" y="6596"/>
                  <a:pt x="20165" y="6730"/>
                  <a:pt x="20092" y="6821"/>
                </a:cubicBezTo>
                <a:cubicBezTo>
                  <a:pt x="20073" y="6845"/>
                  <a:pt x="19988" y="6941"/>
                  <a:pt x="19943" y="6896"/>
                </a:cubicBezTo>
                <a:cubicBezTo>
                  <a:pt x="19943" y="6871"/>
                  <a:pt x="19943" y="6863"/>
                  <a:pt x="19943" y="6846"/>
                </a:cubicBezTo>
              </a:path>
              <a:path w="12577" h="2605">
                <a:moveTo>
                  <a:pt x="20117" y="5457"/>
                </a:moveTo>
                <a:cubicBezTo>
                  <a:pt x="20195" y="5457"/>
                  <a:pt x="20242" y="5438"/>
                  <a:pt x="20315" y="5432"/>
                </a:cubicBezTo>
                <a:cubicBezTo>
                  <a:pt x="20378" y="5427"/>
                  <a:pt x="20415" y="5444"/>
                  <a:pt x="20464" y="5407"/>
                </a:cubicBezTo>
              </a:path>
              <a:path w="12577" h="2605">
                <a:moveTo>
                  <a:pt x="20265" y="5432"/>
                </a:moveTo>
                <a:cubicBezTo>
                  <a:pt x="20231" y="5467"/>
                  <a:pt x="20147" y="5527"/>
                  <a:pt x="20141" y="5581"/>
                </a:cubicBezTo>
                <a:cubicBezTo>
                  <a:pt x="20136" y="5627"/>
                  <a:pt x="20143" y="5650"/>
                  <a:pt x="20191" y="5655"/>
                </a:cubicBezTo>
                <a:cubicBezTo>
                  <a:pt x="20272" y="5664"/>
                  <a:pt x="20338" y="5644"/>
                  <a:pt x="20414" y="5680"/>
                </a:cubicBezTo>
                <a:cubicBezTo>
                  <a:pt x="20477" y="5710"/>
                  <a:pt x="20486" y="5759"/>
                  <a:pt x="20464" y="5804"/>
                </a:cubicBezTo>
                <a:cubicBezTo>
                  <a:pt x="20434" y="5863"/>
                  <a:pt x="20383" y="5899"/>
                  <a:pt x="20315" y="5904"/>
                </a:cubicBezTo>
                <a:cubicBezTo>
                  <a:pt x="20226" y="5910"/>
                  <a:pt x="20183" y="5933"/>
                  <a:pt x="20092" y="5904"/>
                </a:cubicBezTo>
              </a:path>
              <a:path w="12577" h="2605">
                <a:moveTo>
                  <a:pt x="16123" y="5507"/>
                </a:moveTo>
                <a:cubicBezTo>
                  <a:pt x="16084" y="5584"/>
                  <a:pt x="16070" y="5647"/>
                  <a:pt x="16049" y="5730"/>
                </a:cubicBezTo>
                <a:cubicBezTo>
                  <a:pt x="16008" y="5889"/>
                  <a:pt x="15984" y="6043"/>
                  <a:pt x="15949" y="6201"/>
                </a:cubicBezTo>
                <a:cubicBezTo>
                  <a:pt x="15922" y="6326"/>
                  <a:pt x="15879" y="6445"/>
                  <a:pt x="15875" y="6573"/>
                </a:cubicBezTo>
                <a:cubicBezTo>
                  <a:pt x="15872" y="6656"/>
                  <a:pt x="15874" y="6744"/>
                  <a:pt x="15900" y="6821"/>
                </a:cubicBezTo>
                <a:cubicBezTo>
                  <a:pt x="15927" y="6901"/>
                  <a:pt x="15961" y="6909"/>
                  <a:pt x="16024" y="6871"/>
                </a:cubicBezTo>
              </a:path>
              <a:path w="12577" h="2605">
                <a:moveTo>
                  <a:pt x="15974" y="6325"/>
                </a:moveTo>
                <a:cubicBezTo>
                  <a:pt x="16023" y="6316"/>
                  <a:pt x="16176" y="6306"/>
                  <a:pt x="16222" y="6276"/>
                </a:cubicBezTo>
                <a:cubicBezTo>
                  <a:pt x="16239" y="6259"/>
                  <a:pt x="16255" y="6243"/>
                  <a:pt x="16272" y="6226"/>
                </a:cubicBezTo>
              </a:path>
              <a:path w="12577" h="2605">
                <a:moveTo>
                  <a:pt x="16247" y="6052"/>
                </a:moveTo>
                <a:cubicBezTo>
                  <a:pt x="16354" y="6052"/>
                  <a:pt x="16424" y="6043"/>
                  <a:pt x="16520" y="6028"/>
                </a:cubicBezTo>
                <a:cubicBezTo>
                  <a:pt x="16566" y="6021"/>
                  <a:pt x="16622" y="6028"/>
                  <a:pt x="16669" y="6028"/>
                </a:cubicBezTo>
                <a:cubicBezTo>
                  <a:pt x="16657" y="6084"/>
                  <a:pt x="16625" y="6127"/>
                  <a:pt x="16594" y="6176"/>
                </a:cubicBezTo>
                <a:cubicBezTo>
                  <a:pt x="16524" y="6287"/>
                  <a:pt x="16496" y="6393"/>
                  <a:pt x="16470" y="6524"/>
                </a:cubicBezTo>
                <a:cubicBezTo>
                  <a:pt x="16463" y="6561"/>
                  <a:pt x="16482" y="6790"/>
                  <a:pt x="16495" y="6772"/>
                </a:cubicBezTo>
                <a:cubicBezTo>
                  <a:pt x="16495" y="6747"/>
                  <a:pt x="16495" y="6739"/>
                  <a:pt x="16495" y="6722"/>
                </a:cubicBezTo>
              </a:path>
              <a:path w="12577" h="2605">
                <a:moveTo>
                  <a:pt x="16694" y="5854"/>
                </a:moveTo>
                <a:cubicBezTo>
                  <a:pt x="16781" y="6029"/>
                  <a:pt x="16887" y="6195"/>
                  <a:pt x="16867" y="6400"/>
                </a:cubicBezTo>
                <a:cubicBezTo>
                  <a:pt x="16855" y="6525"/>
                  <a:pt x="16812" y="6669"/>
                  <a:pt x="16743" y="6772"/>
                </a:cubicBezTo>
                <a:cubicBezTo>
                  <a:pt x="16729" y="6793"/>
                  <a:pt x="16620" y="6932"/>
                  <a:pt x="16570" y="6921"/>
                </a:cubicBezTo>
                <a:cubicBezTo>
                  <a:pt x="16493" y="6904"/>
                  <a:pt x="16540" y="6807"/>
                  <a:pt x="16545" y="6772"/>
                </a:cubicBezTo>
              </a:path>
              <a:path w="12577" h="2605">
                <a:moveTo>
                  <a:pt x="16917" y="5482"/>
                </a:moveTo>
                <a:cubicBezTo>
                  <a:pt x="16875" y="5537"/>
                  <a:pt x="16899" y="5527"/>
                  <a:pt x="16917" y="5581"/>
                </a:cubicBezTo>
                <a:cubicBezTo>
                  <a:pt x="16933" y="5629"/>
                  <a:pt x="16959" y="5641"/>
                  <a:pt x="17016" y="5655"/>
                </a:cubicBezTo>
                <a:cubicBezTo>
                  <a:pt x="17068" y="5668"/>
                  <a:pt x="17133" y="5651"/>
                  <a:pt x="17165" y="5606"/>
                </a:cubicBezTo>
                <a:cubicBezTo>
                  <a:pt x="17173" y="5589"/>
                  <a:pt x="17182" y="5573"/>
                  <a:pt x="17190" y="5556"/>
                </a:cubicBezTo>
              </a:path>
              <a:path w="12577" h="2605">
                <a:moveTo>
                  <a:pt x="17165" y="5234"/>
                </a:moveTo>
                <a:cubicBezTo>
                  <a:pt x="17114" y="5385"/>
                  <a:pt x="17069" y="5545"/>
                  <a:pt x="17041" y="5705"/>
                </a:cubicBezTo>
                <a:cubicBezTo>
                  <a:pt x="17033" y="5751"/>
                  <a:pt x="17041" y="5807"/>
                  <a:pt x="17041" y="5854"/>
                </a:cubicBezTo>
              </a:path>
              <a:path w="12577" h="2605">
                <a:moveTo>
                  <a:pt x="12601" y="5854"/>
                </a:moveTo>
                <a:cubicBezTo>
                  <a:pt x="12610" y="5919"/>
                  <a:pt x="12642" y="5978"/>
                  <a:pt x="12626" y="6052"/>
                </a:cubicBezTo>
                <a:cubicBezTo>
                  <a:pt x="12605" y="6151"/>
                  <a:pt x="12571" y="6285"/>
                  <a:pt x="12526" y="6375"/>
                </a:cubicBezTo>
                <a:cubicBezTo>
                  <a:pt x="12483" y="6461"/>
                  <a:pt x="12411" y="6545"/>
                  <a:pt x="12427" y="6648"/>
                </a:cubicBezTo>
                <a:cubicBezTo>
                  <a:pt x="12432" y="6683"/>
                  <a:pt x="12454" y="6783"/>
                  <a:pt x="12502" y="6796"/>
                </a:cubicBezTo>
                <a:cubicBezTo>
                  <a:pt x="12549" y="6809"/>
                  <a:pt x="12569" y="6795"/>
                  <a:pt x="12601" y="6772"/>
                </a:cubicBezTo>
              </a:path>
              <a:path w="12577" h="2605">
                <a:moveTo>
                  <a:pt x="12700" y="6400"/>
                </a:moveTo>
                <a:cubicBezTo>
                  <a:pt x="12770" y="6417"/>
                  <a:pt x="12840" y="6452"/>
                  <a:pt x="12898" y="6400"/>
                </a:cubicBezTo>
                <a:cubicBezTo>
                  <a:pt x="12906" y="6392"/>
                  <a:pt x="12915" y="6383"/>
                  <a:pt x="12923" y="6375"/>
                </a:cubicBezTo>
              </a:path>
              <a:path w="12577" h="2605">
                <a:moveTo>
                  <a:pt x="12824" y="6102"/>
                </a:moveTo>
                <a:cubicBezTo>
                  <a:pt x="12905" y="6067"/>
                  <a:pt x="12961" y="6073"/>
                  <a:pt x="13047" y="6052"/>
                </a:cubicBezTo>
                <a:cubicBezTo>
                  <a:pt x="13111" y="6036"/>
                  <a:pt x="13153" y="6028"/>
                  <a:pt x="13221" y="6028"/>
                </a:cubicBezTo>
                <a:cubicBezTo>
                  <a:pt x="13221" y="6103"/>
                  <a:pt x="13183" y="6110"/>
                  <a:pt x="13171" y="6176"/>
                </a:cubicBezTo>
                <a:cubicBezTo>
                  <a:pt x="13156" y="6256"/>
                  <a:pt x="13132" y="6345"/>
                  <a:pt x="13122" y="6424"/>
                </a:cubicBezTo>
                <a:cubicBezTo>
                  <a:pt x="13114" y="6494"/>
                  <a:pt x="13125" y="6584"/>
                  <a:pt x="13146" y="6648"/>
                </a:cubicBezTo>
                <a:cubicBezTo>
                  <a:pt x="13148" y="6654"/>
                  <a:pt x="13178" y="6771"/>
                  <a:pt x="13196" y="6747"/>
                </a:cubicBezTo>
                <a:cubicBezTo>
                  <a:pt x="13196" y="6739"/>
                  <a:pt x="13196" y="6730"/>
                  <a:pt x="13196" y="6722"/>
                </a:cubicBezTo>
              </a:path>
              <a:path w="12577" h="2605">
                <a:moveTo>
                  <a:pt x="13146" y="5755"/>
                </a:moveTo>
                <a:cubicBezTo>
                  <a:pt x="13231" y="5847"/>
                  <a:pt x="13283" y="5929"/>
                  <a:pt x="13320" y="6052"/>
                </a:cubicBezTo>
                <a:cubicBezTo>
                  <a:pt x="13356" y="6170"/>
                  <a:pt x="13389" y="6300"/>
                  <a:pt x="13370" y="6424"/>
                </a:cubicBezTo>
                <a:cubicBezTo>
                  <a:pt x="13352" y="6539"/>
                  <a:pt x="13293" y="6699"/>
                  <a:pt x="13196" y="6772"/>
                </a:cubicBezTo>
                <a:cubicBezTo>
                  <a:pt x="13193" y="6774"/>
                  <a:pt x="13083" y="6849"/>
                  <a:pt x="13072" y="6821"/>
                </a:cubicBezTo>
                <a:cubicBezTo>
                  <a:pt x="13072" y="6805"/>
                  <a:pt x="13072" y="6788"/>
                  <a:pt x="13072" y="6772"/>
                </a:cubicBezTo>
              </a:path>
              <a:path w="12577" h="2605">
                <a:moveTo>
                  <a:pt x="13320" y="5234"/>
                </a:moveTo>
                <a:cubicBezTo>
                  <a:pt x="13358" y="5206"/>
                  <a:pt x="13371" y="5209"/>
                  <a:pt x="13419" y="5209"/>
                </a:cubicBezTo>
                <a:cubicBezTo>
                  <a:pt x="13457" y="5209"/>
                  <a:pt x="13546" y="5225"/>
                  <a:pt x="13568" y="5259"/>
                </a:cubicBezTo>
                <a:cubicBezTo>
                  <a:pt x="13584" y="5285"/>
                  <a:pt x="13553" y="5366"/>
                  <a:pt x="13543" y="5383"/>
                </a:cubicBezTo>
                <a:cubicBezTo>
                  <a:pt x="13524" y="5415"/>
                  <a:pt x="13452" y="5424"/>
                  <a:pt x="13419" y="5432"/>
                </a:cubicBezTo>
                <a:cubicBezTo>
                  <a:pt x="13431" y="5480"/>
                  <a:pt x="13467" y="5489"/>
                  <a:pt x="13494" y="5531"/>
                </a:cubicBezTo>
                <a:cubicBezTo>
                  <a:pt x="13518" y="5568"/>
                  <a:pt x="13584" y="5633"/>
                  <a:pt x="13568" y="5680"/>
                </a:cubicBezTo>
                <a:cubicBezTo>
                  <a:pt x="13554" y="5723"/>
                  <a:pt x="13457" y="5773"/>
                  <a:pt x="13419" y="5779"/>
                </a:cubicBezTo>
                <a:cubicBezTo>
                  <a:pt x="13281" y="5803"/>
                  <a:pt x="13140" y="5826"/>
                  <a:pt x="12998" y="5829"/>
                </a:cubicBezTo>
                <a:cubicBezTo>
                  <a:pt x="12957" y="5829"/>
                  <a:pt x="12915" y="5829"/>
                  <a:pt x="12874" y="5829"/>
                </a:cubicBezTo>
              </a:path>
              <a:path w="12577" h="2605">
                <a:moveTo>
                  <a:pt x="9525" y="5953"/>
                </a:moveTo>
                <a:cubicBezTo>
                  <a:pt x="9525" y="6051"/>
                  <a:pt x="9528" y="6132"/>
                  <a:pt x="9500" y="6226"/>
                </a:cubicBezTo>
                <a:cubicBezTo>
                  <a:pt x="9467" y="6337"/>
                  <a:pt x="9416" y="6458"/>
                  <a:pt x="9401" y="6573"/>
                </a:cubicBezTo>
                <a:cubicBezTo>
                  <a:pt x="9391" y="6649"/>
                  <a:pt x="9385" y="6779"/>
                  <a:pt x="9426" y="6846"/>
                </a:cubicBezTo>
                <a:cubicBezTo>
                  <a:pt x="9446" y="6878"/>
                  <a:pt x="9469" y="6888"/>
                  <a:pt x="9500" y="6896"/>
                </a:cubicBezTo>
              </a:path>
              <a:path w="12577" h="2605">
                <a:moveTo>
                  <a:pt x="9525" y="6400"/>
                </a:moveTo>
                <a:cubicBezTo>
                  <a:pt x="9587" y="6381"/>
                  <a:pt x="9649" y="6380"/>
                  <a:pt x="9699" y="6350"/>
                </a:cubicBezTo>
              </a:path>
              <a:path w="12577" h="2605">
                <a:moveTo>
                  <a:pt x="9723" y="6127"/>
                </a:moveTo>
                <a:cubicBezTo>
                  <a:pt x="9773" y="6105"/>
                  <a:pt x="9843" y="6081"/>
                  <a:pt x="9897" y="6077"/>
                </a:cubicBezTo>
                <a:cubicBezTo>
                  <a:pt x="9954" y="6073"/>
                  <a:pt x="10013" y="6077"/>
                  <a:pt x="10071" y="6077"/>
                </a:cubicBezTo>
                <a:cubicBezTo>
                  <a:pt x="10071" y="6124"/>
                  <a:pt x="10054" y="6140"/>
                  <a:pt x="10046" y="6176"/>
                </a:cubicBezTo>
                <a:cubicBezTo>
                  <a:pt x="10027" y="6262"/>
                  <a:pt x="10006" y="6340"/>
                  <a:pt x="9971" y="6424"/>
                </a:cubicBezTo>
                <a:cubicBezTo>
                  <a:pt x="9940" y="6498"/>
                  <a:pt x="9947" y="6568"/>
                  <a:pt x="9947" y="6648"/>
                </a:cubicBezTo>
                <a:cubicBezTo>
                  <a:pt x="9947" y="6701"/>
                  <a:pt x="9917" y="6816"/>
                  <a:pt x="9971" y="6722"/>
                </a:cubicBezTo>
              </a:path>
              <a:path w="12577" h="2605">
                <a:moveTo>
                  <a:pt x="10096" y="5904"/>
                </a:moveTo>
                <a:cubicBezTo>
                  <a:pt x="10217" y="6122"/>
                  <a:pt x="10207" y="6153"/>
                  <a:pt x="10244" y="6375"/>
                </a:cubicBezTo>
                <a:cubicBezTo>
                  <a:pt x="10265" y="6500"/>
                  <a:pt x="10234" y="6579"/>
                  <a:pt x="10220" y="6697"/>
                </a:cubicBezTo>
                <a:cubicBezTo>
                  <a:pt x="10206" y="6811"/>
                  <a:pt x="10199" y="6799"/>
                  <a:pt x="10120" y="6871"/>
                </a:cubicBezTo>
                <a:cubicBezTo>
                  <a:pt x="10083" y="6905"/>
                  <a:pt x="10090" y="6882"/>
                  <a:pt x="10046" y="6871"/>
                </a:cubicBezTo>
              </a:path>
              <a:path w="12577" h="2605">
                <a:moveTo>
                  <a:pt x="10244" y="5531"/>
                </a:moveTo>
                <a:cubicBezTo>
                  <a:pt x="10252" y="5523"/>
                  <a:pt x="10261" y="5515"/>
                  <a:pt x="10269" y="5507"/>
                </a:cubicBezTo>
                <a:cubicBezTo>
                  <a:pt x="10300" y="5529"/>
                  <a:pt x="10336" y="5533"/>
                  <a:pt x="10319" y="5581"/>
                </a:cubicBezTo>
                <a:cubicBezTo>
                  <a:pt x="10295" y="5649"/>
                  <a:pt x="10245" y="5688"/>
                  <a:pt x="10195" y="5730"/>
                </a:cubicBezTo>
                <a:cubicBezTo>
                  <a:pt x="10159" y="5760"/>
                  <a:pt x="10157" y="5745"/>
                  <a:pt x="10145" y="5779"/>
                </a:cubicBezTo>
                <a:cubicBezTo>
                  <a:pt x="10213" y="5833"/>
                  <a:pt x="10244" y="5808"/>
                  <a:pt x="10319" y="5829"/>
                </a:cubicBezTo>
                <a:cubicBezTo>
                  <a:pt x="10340" y="5835"/>
                  <a:pt x="10490" y="5865"/>
                  <a:pt x="10418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7080" y="1919160"/>
            <a:ext cx="858960" cy="716040"/>
          </a:xfrm>
          <a:custGeom>
            <a:avLst/>
            <a:gdLst/>
            <a:ahLst/>
            <a:rect l="l" t="t" r="r" b="b"/>
            <a:pathLst>
              <a:path w="2382" h="1985">
                <a:moveTo>
                  <a:pt x="21654" y="7169"/>
                </a:moveTo>
                <a:cubicBezTo>
                  <a:pt x="21855" y="7169"/>
                  <a:pt x="22051" y="7181"/>
                  <a:pt x="22250" y="7193"/>
                </a:cubicBezTo>
                <a:cubicBezTo>
                  <a:pt x="22440" y="7205"/>
                  <a:pt x="22631" y="7199"/>
                  <a:pt x="22820" y="7218"/>
                </a:cubicBezTo>
                <a:cubicBezTo>
                  <a:pt x="23020" y="7238"/>
                  <a:pt x="23216" y="7280"/>
                  <a:pt x="23416" y="7293"/>
                </a:cubicBezTo>
                <a:cubicBezTo>
                  <a:pt x="23550" y="7301"/>
                  <a:pt x="23677" y="7317"/>
                  <a:pt x="23812" y="7317"/>
                </a:cubicBezTo>
                <a:cubicBezTo>
                  <a:pt x="23876" y="7317"/>
                  <a:pt x="23911" y="7323"/>
                  <a:pt x="23961" y="7293"/>
                </a:cubicBezTo>
                <a:cubicBezTo>
                  <a:pt x="24012" y="7262"/>
                  <a:pt x="23969" y="7270"/>
                  <a:pt x="23937" y="7243"/>
                </a:cubicBezTo>
              </a:path>
              <a:path w="2382" h="1985">
                <a:moveTo>
                  <a:pt x="21654" y="5854"/>
                </a:moveTo>
                <a:cubicBezTo>
                  <a:pt x="21654" y="5950"/>
                  <a:pt x="21614" y="6033"/>
                  <a:pt x="21605" y="6127"/>
                </a:cubicBezTo>
                <a:cubicBezTo>
                  <a:pt x="21588" y="6302"/>
                  <a:pt x="21593" y="6502"/>
                  <a:pt x="21630" y="6672"/>
                </a:cubicBezTo>
                <a:cubicBezTo>
                  <a:pt x="21657" y="6798"/>
                  <a:pt x="21654" y="6916"/>
                  <a:pt x="21654" y="7045"/>
                </a:cubicBezTo>
              </a:path>
              <a:path w="2382" h="1985">
                <a:moveTo>
                  <a:pt x="22423" y="5928"/>
                </a:moveTo>
                <a:cubicBezTo>
                  <a:pt x="22413" y="5970"/>
                  <a:pt x="22395" y="6008"/>
                  <a:pt x="22374" y="6052"/>
                </a:cubicBezTo>
                <a:cubicBezTo>
                  <a:pt x="22333" y="6139"/>
                  <a:pt x="22301" y="6232"/>
                  <a:pt x="22275" y="6325"/>
                </a:cubicBezTo>
                <a:cubicBezTo>
                  <a:pt x="22241" y="6445"/>
                  <a:pt x="22212" y="6574"/>
                  <a:pt x="22200" y="6697"/>
                </a:cubicBezTo>
                <a:cubicBezTo>
                  <a:pt x="22191" y="6790"/>
                  <a:pt x="22180" y="6938"/>
                  <a:pt x="22225" y="7020"/>
                </a:cubicBezTo>
                <a:cubicBezTo>
                  <a:pt x="22250" y="7067"/>
                  <a:pt x="22293" y="7138"/>
                  <a:pt x="22349" y="7144"/>
                </a:cubicBezTo>
                <a:cubicBezTo>
                  <a:pt x="22357" y="7144"/>
                  <a:pt x="22366" y="7144"/>
                  <a:pt x="22374" y="7144"/>
                </a:cubicBezTo>
              </a:path>
              <a:path w="2382" h="1985">
                <a:moveTo>
                  <a:pt x="22498" y="6598"/>
                </a:moveTo>
                <a:cubicBezTo>
                  <a:pt x="22597" y="6598"/>
                  <a:pt x="22697" y="6598"/>
                  <a:pt x="22796" y="6598"/>
                </a:cubicBezTo>
              </a:path>
              <a:path w="2382" h="1985">
                <a:moveTo>
                  <a:pt x="22845" y="6300"/>
                </a:moveTo>
                <a:cubicBezTo>
                  <a:pt x="22944" y="6300"/>
                  <a:pt x="23044" y="6300"/>
                  <a:pt x="23143" y="6300"/>
                </a:cubicBezTo>
                <a:cubicBezTo>
                  <a:pt x="23131" y="6349"/>
                  <a:pt x="23116" y="6397"/>
                  <a:pt x="23093" y="6449"/>
                </a:cubicBezTo>
                <a:cubicBezTo>
                  <a:pt x="23064" y="6514"/>
                  <a:pt x="23052" y="6604"/>
                  <a:pt x="23044" y="6672"/>
                </a:cubicBezTo>
                <a:cubicBezTo>
                  <a:pt x="23035" y="6748"/>
                  <a:pt x="23023" y="6823"/>
                  <a:pt x="23019" y="6896"/>
                </a:cubicBezTo>
                <a:cubicBezTo>
                  <a:pt x="23018" y="6908"/>
                  <a:pt x="23009" y="7076"/>
                  <a:pt x="23044" y="6995"/>
                </a:cubicBezTo>
                <a:cubicBezTo>
                  <a:pt x="23044" y="6987"/>
                  <a:pt x="23044" y="6978"/>
                  <a:pt x="23044" y="6970"/>
                </a:cubicBezTo>
              </a:path>
              <a:path w="2382" h="1985">
                <a:moveTo>
                  <a:pt x="23168" y="5953"/>
                </a:moveTo>
                <a:cubicBezTo>
                  <a:pt x="23295" y="6054"/>
                  <a:pt x="23351" y="6108"/>
                  <a:pt x="23416" y="6251"/>
                </a:cubicBezTo>
                <a:cubicBezTo>
                  <a:pt x="23482" y="6397"/>
                  <a:pt x="23507" y="6535"/>
                  <a:pt x="23490" y="6697"/>
                </a:cubicBezTo>
                <a:cubicBezTo>
                  <a:pt x="23476" y="6827"/>
                  <a:pt x="23450" y="6944"/>
                  <a:pt x="23391" y="7045"/>
                </a:cubicBezTo>
                <a:cubicBezTo>
                  <a:pt x="23336" y="7139"/>
                  <a:pt x="23322" y="7131"/>
                  <a:pt x="23217" y="7169"/>
                </a:cubicBezTo>
              </a:path>
              <a:path w="2382" h="1985">
                <a:moveTo>
                  <a:pt x="23664" y="5829"/>
                </a:moveTo>
                <a:cubicBezTo>
                  <a:pt x="23747" y="5817"/>
                  <a:pt x="23739" y="5796"/>
                  <a:pt x="23788" y="5730"/>
                </a:cubicBezTo>
                <a:cubicBezTo>
                  <a:pt x="23814" y="5695"/>
                  <a:pt x="23812" y="5698"/>
                  <a:pt x="23812" y="5655"/>
                </a:cubicBezTo>
                <a:cubicBezTo>
                  <a:pt x="23785" y="5662"/>
                  <a:pt x="23723" y="5696"/>
                  <a:pt x="23713" y="5730"/>
                </a:cubicBezTo>
                <a:cubicBezTo>
                  <a:pt x="23701" y="5773"/>
                  <a:pt x="23688" y="5808"/>
                  <a:pt x="23688" y="5854"/>
                </a:cubicBezTo>
                <a:cubicBezTo>
                  <a:pt x="23688" y="5896"/>
                  <a:pt x="23688" y="5921"/>
                  <a:pt x="23688" y="5879"/>
                </a:cubicBezTo>
              </a:path>
              <a:path w="2382" h="1985">
                <a:moveTo>
                  <a:pt x="23515" y="5333"/>
                </a:moveTo>
                <a:cubicBezTo>
                  <a:pt x="23506" y="5377"/>
                  <a:pt x="23461" y="5463"/>
                  <a:pt x="23465" y="5507"/>
                </a:cubicBezTo>
                <a:cubicBezTo>
                  <a:pt x="23472" y="5576"/>
                  <a:pt x="23495" y="5687"/>
                  <a:pt x="23515" y="5755"/>
                </a:cubicBezTo>
                <a:cubicBezTo>
                  <a:pt x="23525" y="5790"/>
                  <a:pt x="23547" y="5876"/>
                  <a:pt x="23564" y="5904"/>
                </a:cubicBezTo>
                <a:cubicBezTo>
                  <a:pt x="23572" y="5912"/>
                  <a:pt x="23581" y="5920"/>
                  <a:pt x="23589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8200" y="2608200"/>
            <a:ext cx="303480" cy="687600"/>
          </a:xfrm>
          <a:custGeom>
            <a:avLst/>
            <a:gdLst/>
            <a:ahLst/>
            <a:rect l="l" t="t" r="r" b="b"/>
            <a:pathLst>
              <a:path w="845" h="1911">
                <a:moveTo>
                  <a:pt x="868" y="8483"/>
                </a:moveTo>
                <a:cubicBezTo>
                  <a:pt x="863" y="8507"/>
                  <a:pt x="831" y="8618"/>
                  <a:pt x="819" y="8632"/>
                </a:cubicBezTo>
                <a:cubicBezTo>
                  <a:pt x="806" y="8647"/>
                  <a:pt x="755" y="8763"/>
                  <a:pt x="744" y="8806"/>
                </a:cubicBezTo>
                <a:cubicBezTo>
                  <a:pt x="727" y="8875"/>
                  <a:pt x="737" y="9016"/>
                  <a:pt x="769" y="9079"/>
                </a:cubicBezTo>
                <a:cubicBezTo>
                  <a:pt x="794" y="9129"/>
                  <a:pt x="814" y="9153"/>
                  <a:pt x="868" y="9153"/>
                </a:cubicBezTo>
                <a:cubicBezTo>
                  <a:pt x="909" y="9153"/>
                  <a:pt x="970" y="9106"/>
                  <a:pt x="992" y="9079"/>
                </a:cubicBezTo>
                <a:cubicBezTo>
                  <a:pt x="1045" y="9014"/>
                  <a:pt x="1042" y="8961"/>
                  <a:pt x="1042" y="8880"/>
                </a:cubicBezTo>
                <a:cubicBezTo>
                  <a:pt x="1042" y="8872"/>
                  <a:pt x="1042" y="8863"/>
                  <a:pt x="1042" y="8855"/>
                </a:cubicBezTo>
                <a:cubicBezTo>
                  <a:pt x="961" y="8855"/>
                  <a:pt x="996" y="8872"/>
                  <a:pt x="967" y="8930"/>
                </a:cubicBezTo>
                <a:cubicBezTo>
                  <a:pt x="924" y="9018"/>
                  <a:pt x="893" y="9009"/>
                  <a:pt x="893" y="9103"/>
                </a:cubicBezTo>
                <a:cubicBezTo>
                  <a:pt x="893" y="9145"/>
                  <a:pt x="885" y="9161"/>
                  <a:pt x="918" y="9153"/>
                </a:cubicBezTo>
              </a:path>
              <a:path w="845" h="1911">
                <a:moveTo>
                  <a:pt x="1538" y="7590"/>
                </a:moveTo>
                <a:cubicBezTo>
                  <a:pt x="1532" y="7566"/>
                  <a:pt x="1525" y="7513"/>
                  <a:pt x="1513" y="7491"/>
                </a:cubicBezTo>
                <a:cubicBezTo>
                  <a:pt x="1490" y="7450"/>
                  <a:pt x="1448" y="7386"/>
                  <a:pt x="1439" y="7342"/>
                </a:cubicBezTo>
                <a:cubicBezTo>
                  <a:pt x="1427" y="7287"/>
                  <a:pt x="1422" y="7262"/>
                  <a:pt x="1364" y="7243"/>
                </a:cubicBezTo>
                <a:cubicBezTo>
                  <a:pt x="1326" y="7230"/>
                  <a:pt x="1291" y="7245"/>
                  <a:pt x="1265" y="7268"/>
                </a:cubicBezTo>
                <a:cubicBezTo>
                  <a:pt x="1180" y="7343"/>
                  <a:pt x="1166" y="7448"/>
                  <a:pt x="1116" y="7541"/>
                </a:cubicBezTo>
                <a:cubicBezTo>
                  <a:pt x="1065" y="7637"/>
                  <a:pt x="1053" y="7731"/>
                  <a:pt x="1017" y="7838"/>
                </a:cubicBezTo>
                <a:cubicBezTo>
                  <a:pt x="978" y="7954"/>
                  <a:pt x="980" y="8092"/>
                  <a:pt x="1017" y="8210"/>
                </a:cubicBezTo>
                <a:cubicBezTo>
                  <a:pt x="1034" y="8264"/>
                  <a:pt x="1148" y="8283"/>
                  <a:pt x="1191" y="8285"/>
                </a:cubicBezTo>
                <a:cubicBezTo>
                  <a:pt x="1265" y="8289"/>
                  <a:pt x="1340" y="8285"/>
                  <a:pt x="1414" y="8285"/>
                </a:cubicBezTo>
              </a:path>
              <a:path w="845" h="1911">
                <a:moveTo>
                  <a:pt x="1488" y="8731"/>
                </a:moveTo>
                <a:cubicBezTo>
                  <a:pt x="1464" y="8804"/>
                  <a:pt x="1438" y="8859"/>
                  <a:pt x="1414" y="8930"/>
                </a:cubicBezTo>
                <a:cubicBezTo>
                  <a:pt x="1398" y="8977"/>
                  <a:pt x="1397" y="9115"/>
                  <a:pt x="1439" y="9153"/>
                </a:cubicBezTo>
                <a:cubicBezTo>
                  <a:pt x="1447" y="9153"/>
                  <a:pt x="1455" y="9153"/>
                  <a:pt x="1463" y="9153"/>
                </a:cubicBezTo>
                <a:cubicBezTo>
                  <a:pt x="1520" y="9153"/>
                  <a:pt x="1533" y="9129"/>
                  <a:pt x="1563" y="9079"/>
                </a:cubicBezTo>
                <a:cubicBezTo>
                  <a:pt x="1601" y="9016"/>
                  <a:pt x="1588" y="8951"/>
                  <a:pt x="1588" y="8880"/>
                </a:cubicBezTo>
                <a:cubicBezTo>
                  <a:pt x="1588" y="8815"/>
                  <a:pt x="1521" y="8803"/>
                  <a:pt x="1513" y="8781"/>
                </a:cubicBezTo>
                <a:cubicBezTo>
                  <a:pt x="1500" y="8746"/>
                  <a:pt x="1446" y="8689"/>
                  <a:pt x="1488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35040" y="2660760"/>
            <a:ext cx="331920" cy="714240"/>
          </a:xfrm>
          <a:custGeom>
            <a:avLst/>
            <a:gdLst/>
            <a:ahLst/>
            <a:rect l="l" t="t" r="r" b="b"/>
            <a:pathLst>
              <a:path w="919" h="1985">
                <a:moveTo>
                  <a:pt x="4415" y="8781"/>
                </a:moveTo>
                <a:cubicBezTo>
                  <a:pt x="4404" y="8814"/>
                  <a:pt x="4389" y="8836"/>
                  <a:pt x="4366" y="8880"/>
                </a:cubicBezTo>
                <a:cubicBezTo>
                  <a:pt x="4322" y="8963"/>
                  <a:pt x="4341" y="9003"/>
                  <a:pt x="4291" y="9079"/>
                </a:cubicBezTo>
                <a:cubicBezTo>
                  <a:pt x="4276" y="9102"/>
                  <a:pt x="4241" y="9193"/>
                  <a:pt x="4266" y="9227"/>
                </a:cubicBezTo>
                <a:cubicBezTo>
                  <a:pt x="4280" y="9247"/>
                  <a:pt x="4362" y="9260"/>
                  <a:pt x="4390" y="9252"/>
                </a:cubicBezTo>
                <a:cubicBezTo>
                  <a:pt x="4454" y="9233"/>
                  <a:pt x="4480" y="9210"/>
                  <a:pt x="4514" y="9153"/>
                </a:cubicBezTo>
                <a:cubicBezTo>
                  <a:pt x="4544" y="9102"/>
                  <a:pt x="4539" y="9086"/>
                  <a:pt x="4539" y="9029"/>
                </a:cubicBezTo>
                <a:cubicBezTo>
                  <a:pt x="4477" y="9083"/>
                  <a:pt x="4464" y="9088"/>
                  <a:pt x="4415" y="9153"/>
                </a:cubicBezTo>
                <a:cubicBezTo>
                  <a:pt x="4365" y="9219"/>
                  <a:pt x="4390" y="9246"/>
                  <a:pt x="4465" y="9252"/>
                </a:cubicBezTo>
                <a:cubicBezTo>
                  <a:pt x="4473" y="9252"/>
                  <a:pt x="4482" y="9252"/>
                  <a:pt x="4490" y="9252"/>
                </a:cubicBezTo>
              </a:path>
              <a:path w="919" h="1985">
                <a:moveTo>
                  <a:pt x="5060" y="7565"/>
                </a:moveTo>
                <a:cubicBezTo>
                  <a:pt x="5060" y="7607"/>
                  <a:pt x="5060" y="7615"/>
                  <a:pt x="5060" y="7640"/>
                </a:cubicBezTo>
                <a:cubicBezTo>
                  <a:pt x="5047" y="7605"/>
                  <a:pt x="5045" y="7578"/>
                  <a:pt x="5035" y="7541"/>
                </a:cubicBezTo>
                <a:cubicBezTo>
                  <a:pt x="5027" y="7509"/>
                  <a:pt x="5008" y="7437"/>
                  <a:pt x="4986" y="7417"/>
                </a:cubicBezTo>
                <a:cubicBezTo>
                  <a:pt x="4948" y="7382"/>
                  <a:pt x="4878" y="7413"/>
                  <a:pt x="4837" y="7441"/>
                </a:cubicBezTo>
                <a:cubicBezTo>
                  <a:pt x="4772" y="7486"/>
                  <a:pt x="4726" y="7576"/>
                  <a:pt x="4688" y="7640"/>
                </a:cubicBezTo>
                <a:cubicBezTo>
                  <a:pt x="4631" y="7736"/>
                  <a:pt x="4537" y="7881"/>
                  <a:pt x="4514" y="7987"/>
                </a:cubicBezTo>
                <a:cubicBezTo>
                  <a:pt x="4500" y="8052"/>
                  <a:pt x="4459" y="8248"/>
                  <a:pt x="4490" y="8310"/>
                </a:cubicBezTo>
                <a:cubicBezTo>
                  <a:pt x="4556" y="8442"/>
                  <a:pt x="4610" y="8449"/>
                  <a:pt x="4713" y="8508"/>
                </a:cubicBezTo>
                <a:cubicBezTo>
                  <a:pt x="4787" y="8550"/>
                  <a:pt x="4853" y="8569"/>
                  <a:pt x="4936" y="8582"/>
                </a:cubicBezTo>
                <a:cubicBezTo>
                  <a:pt x="4986" y="8582"/>
                  <a:pt x="5002" y="8582"/>
                  <a:pt x="5035" y="8582"/>
                </a:cubicBezTo>
              </a:path>
              <a:path w="919" h="1985">
                <a:moveTo>
                  <a:pt x="5184" y="8930"/>
                </a:moveTo>
                <a:cubicBezTo>
                  <a:pt x="5184" y="9039"/>
                  <a:pt x="5179" y="9123"/>
                  <a:pt x="5159" y="9227"/>
                </a:cubicBezTo>
                <a:cubicBezTo>
                  <a:pt x="5148" y="9284"/>
                  <a:pt x="5095" y="9335"/>
                  <a:pt x="5135" y="9376"/>
                </a:cubicBezTo>
                <a:cubicBezTo>
                  <a:pt x="5167" y="9376"/>
                  <a:pt x="5175" y="9368"/>
                  <a:pt x="5159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81200" y="2724120"/>
            <a:ext cx="411120" cy="731880"/>
          </a:xfrm>
          <a:custGeom>
            <a:avLst/>
            <a:gdLst/>
            <a:ahLst/>
            <a:rect l="l" t="t" r="r" b="b"/>
            <a:pathLst>
              <a:path w="1142" h="2035">
                <a:moveTo>
                  <a:pt x="7317" y="8930"/>
                </a:moveTo>
                <a:cubicBezTo>
                  <a:pt x="7270" y="8946"/>
                  <a:pt x="7272" y="9028"/>
                  <a:pt x="7243" y="9079"/>
                </a:cubicBezTo>
                <a:cubicBezTo>
                  <a:pt x="7203" y="9150"/>
                  <a:pt x="7172" y="9216"/>
                  <a:pt x="7169" y="9302"/>
                </a:cubicBezTo>
                <a:cubicBezTo>
                  <a:pt x="7167" y="9352"/>
                  <a:pt x="7153" y="9460"/>
                  <a:pt x="7193" y="9500"/>
                </a:cubicBezTo>
                <a:cubicBezTo>
                  <a:pt x="7291" y="9598"/>
                  <a:pt x="7325" y="9592"/>
                  <a:pt x="7466" y="9550"/>
                </a:cubicBezTo>
                <a:cubicBezTo>
                  <a:pt x="7551" y="9525"/>
                  <a:pt x="7592" y="9485"/>
                  <a:pt x="7615" y="9401"/>
                </a:cubicBezTo>
                <a:cubicBezTo>
                  <a:pt x="7621" y="9379"/>
                  <a:pt x="7596" y="9365"/>
                  <a:pt x="7590" y="9327"/>
                </a:cubicBezTo>
                <a:cubicBezTo>
                  <a:pt x="7533" y="9343"/>
                  <a:pt x="7520" y="9357"/>
                  <a:pt x="7466" y="9376"/>
                </a:cubicBezTo>
                <a:cubicBezTo>
                  <a:pt x="7436" y="9387"/>
                  <a:pt x="7356" y="9448"/>
                  <a:pt x="7342" y="9475"/>
                </a:cubicBezTo>
                <a:cubicBezTo>
                  <a:pt x="7321" y="9517"/>
                  <a:pt x="7366" y="9545"/>
                  <a:pt x="7367" y="9550"/>
                </a:cubicBezTo>
                <a:cubicBezTo>
                  <a:pt x="7385" y="9616"/>
                  <a:pt x="7370" y="9619"/>
                  <a:pt x="7417" y="9550"/>
                </a:cubicBezTo>
              </a:path>
              <a:path w="1142" h="2035">
                <a:moveTo>
                  <a:pt x="8111" y="7813"/>
                </a:moveTo>
                <a:cubicBezTo>
                  <a:pt x="8094" y="7781"/>
                  <a:pt x="8103" y="7796"/>
                  <a:pt x="8086" y="7764"/>
                </a:cubicBezTo>
                <a:cubicBezTo>
                  <a:pt x="8067" y="7727"/>
                  <a:pt x="8055" y="7675"/>
                  <a:pt x="8037" y="7640"/>
                </a:cubicBezTo>
                <a:cubicBezTo>
                  <a:pt x="8019" y="7604"/>
                  <a:pt x="7971" y="7573"/>
                  <a:pt x="7938" y="7565"/>
                </a:cubicBezTo>
                <a:cubicBezTo>
                  <a:pt x="7900" y="7556"/>
                  <a:pt x="7836" y="7588"/>
                  <a:pt x="7813" y="7615"/>
                </a:cubicBezTo>
                <a:cubicBezTo>
                  <a:pt x="7725" y="7719"/>
                  <a:pt x="7642" y="7861"/>
                  <a:pt x="7590" y="7987"/>
                </a:cubicBezTo>
                <a:cubicBezTo>
                  <a:pt x="7550" y="8086"/>
                  <a:pt x="7545" y="8228"/>
                  <a:pt x="7541" y="8334"/>
                </a:cubicBezTo>
                <a:cubicBezTo>
                  <a:pt x="7538" y="8412"/>
                  <a:pt x="7547" y="8581"/>
                  <a:pt x="7615" y="8632"/>
                </a:cubicBezTo>
                <a:cubicBezTo>
                  <a:pt x="7682" y="8682"/>
                  <a:pt x="7702" y="8706"/>
                  <a:pt x="7813" y="8706"/>
                </a:cubicBezTo>
                <a:cubicBezTo>
                  <a:pt x="7892" y="8706"/>
                  <a:pt x="7933" y="8710"/>
                  <a:pt x="8012" y="8706"/>
                </a:cubicBezTo>
                <a:cubicBezTo>
                  <a:pt x="8037" y="8706"/>
                  <a:pt x="8045" y="8706"/>
                  <a:pt x="8062" y="8706"/>
                </a:cubicBezTo>
              </a:path>
              <a:path w="1142" h="2035">
                <a:moveTo>
                  <a:pt x="7987" y="9079"/>
                </a:moveTo>
                <a:cubicBezTo>
                  <a:pt x="8063" y="9079"/>
                  <a:pt x="8115" y="9086"/>
                  <a:pt x="8186" y="9103"/>
                </a:cubicBezTo>
                <a:cubicBezTo>
                  <a:pt x="8228" y="9113"/>
                  <a:pt x="8210" y="9182"/>
                  <a:pt x="8210" y="9227"/>
                </a:cubicBezTo>
                <a:cubicBezTo>
                  <a:pt x="8210" y="9259"/>
                  <a:pt x="8155" y="9357"/>
                  <a:pt x="8136" y="9376"/>
                </a:cubicBezTo>
                <a:cubicBezTo>
                  <a:pt x="8115" y="9397"/>
                  <a:pt x="8035" y="9434"/>
                  <a:pt x="8012" y="9451"/>
                </a:cubicBezTo>
                <a:cubicBezTo>
                  <a:pt x="7982" y="9474"/>
                  <a:pt x="7969" y="9528"/>
                  <a:pt x="8012" y="9550"/>
                </a:cubicBezTo>
                <a:cubicBezTo>
                  <a:pt x="8074" y="9581"/>
                  <a:pt x="8138" y="9599"/>
                  <a:pt x="8210" y="9599"/>
                </a:cubicBezTo>
                <a:cubicBezTo>
                  <a:pt x="8252" y="9599"/>
                  <a:pt x="8243" y="9599"/>
                  <a:pt x="8285" y="9599"/>
                </a:cubicBezTo>
                <a:cubicBezTo>
                  <a:pt x="8293" y="9599"/>
                  <a:pt x="8302" y="9599"/>
                  <a:pt x="8310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8040" y="2768760"/>
            <a:ext cx="393840" cy="830160"/>
          </a:xfrm>
          <a:custGeom>
            <a:avLst/>
            <a:gdLst/>
            <a:ahLst/>
            <a:rect l="l" t="t" r="r" b="b"/>
            <a:pathLst>
              <a:path w="1092" h="2308">
                <a:moveTo>
                  <a:pt x="10790" y="9252"/>
                </a:moveTo>
                <a:cubicBezTo>
                  <a:pt x="10782" y="9302"/>
                  <a:pt x="10784" y="9341"/>
                  <a:pt x="10765" y="9401"/>
                </a:cubicBezTo>
                <a:cubicBezTo>
                  <a:pt x="10736" y="9494"/>
                  <a:pt x="10702" y="9574"/>
                  <a:pt x="10691" y="9674"/>
                </a:cubicBezTo>
                <a:cubicBezTo>
                  <a:pt x="10685" y="9725"/>
                  <a:pt x="10668" y="9855"/>
                  <a:pt x="10716" y="9897"/>
                </a:cubicBezTo>
                <a:cubicBezTo>
                  <a:pt x="10745" y="9923"/>
                  <a:pt x="10799" y="9922"/>
                  <a:pt x="10840" y="9922"/>
                </a:cubicBezTo>
                <a:cubicBezTo>
                  <a:pt x="10896" y="9922"/>
                  <a:pt x="10909" y="9883"/>
                  <a:pt x="10939" y="9847"/>
                </a:cubicBezTo>
                <a:cubicBezTo>
                  <a:pt x="10983" y="9794"/>
                  <a:pt x="11013" y="9695"/>
                  <a:pt x="10988" y="9624"/>
                </a:cubicBezTo>
                <a:cubicBezTo>
                  <a:pt x="10980" y="9616"/>
                  <a:pt x="10972" y="9607"/>
                  <a:pt x="10964" y="9599"/>
                </a:cubicBezTo>
                <a:cubicBezTo>
                  <a:pt x="10883" y="9599"/>
                  <a:pt x="10918" y="9616"/>
                  <a:pt x="10889" y="9674"/>
                </a:cubicBezTo>
                <a:cubicBezTo>
                  <a:pt x="10858" y="9737"/>
                  <a:pt x="10840" y="9748"/>
                  <a:pt x="10840" y="9823"/>
                </a:cubicBezTo>
                <a:cubicBezTo>
                  <a:pt x="10840" y="9886"/>
                  <a:pt x="10860" y="9897"/>
                  <a:pt x="10914" y="9897"/>
                </a:cubicBezTo>
              </a:path>
              <a:path w="1092" h="2308">
                <a:moveTo>
                  <a:pt x="11633" y="7813"/>
                </a:moveTo>
                <a:cubicBezTo>
                  <a:pt x="11633" y="7838"/>
                  <a:pt x="11633" y="7846"/>
                  <a:pt x="11633" y="7863"/>
                </a:cubicBezTo>
                <a:cubicBezTo>
                  <a:pt x="11627" y="7823"/>
                  <a:pt x="11624" y="7799"/>
                  <a:pt x="11609" y="7764"/>
                </a:cubicBezTo>
                <a:cubicBezTo>
                  <a:pt x="11594" y="7731"/>
                  <a:pt x="11575" y="7700"/>
                  <a:pt x="11534" y="7689"/>
                </a:cubicBezTo>
                <a:cubicBezTo>
                  <a:pt x="11493" y="7678"/>
                  <a:pt x="11464" y="7691"/>
                  <a:pt x="11435" y="7714"/>
                </a:cubicBezTo>
                <a:cubicBezTo>
                  <a:pt x="11347" y="7785"/>
                  <a:pt x="11284" y="7865"/>
                  <a:pt x="11237" y="7962"/>
                </a:cubicBezTo>
                <a:cubicBezTo>
                  <a:pt x="11173" y="8094"/>
                  <a:pt x="11129" y="8193"/>
                  <a:pt x="11088" y="8334"/>
                </a:cubicBezTo>
                <a:cubicBezTo>
                  <a:pt x="11057" y="8443"/>
                  <a:pt x="11017" y="8540"/>
                  <a:pt x="11038" y="8657"/>
                </a:cubicBezTo>
                <a:cubicBezTo>
                  <a:pt x="11049" y="8718"/>
                  <a:pt x="11095" y="8882"/>
                  <a:pt x="11137" y="8930"/>
                </a:cubicBezTo>
                <a:cubicBezTo>
                  <a:pt x="11219" y="9022"/>
                  <a:pt x="11307" y="8979"/>
                  <a:pt x="11410" y="9029"/>
                </a:cubicBezTo>
                <a:cubicBezTo>
                  <a:pt x="11490" y="9068"/>
                  <a:pt x="11459" y="9062"/>
                  <a:pt x="11534" y="9079"/>
                </a:cubicBezTo>
              </a:path>
              <a:path w="1092" h="2308">
                <a:moveTo>
                  <a:pt x="11509" y="9550"/>
                </a:moveTo>
                <a:cubicBezTo>
                  <a:pt x="11548" y="9540"/>
                  <a:pt x="11564" y="9525"/>
                  <a:pt x="11609" y="9525"/>
                </a:cubicBezTo>
                <a:cubicBezTo>
                  <a:pt x="11658" y="9525"/>
                  <a:pt x="11726" y="9506"/>
                  <a:pt x="11757" y="9550"/>
                </a:cubicBezTo>
                <a:cubicBezTo>
                  <a:pt x="11812" y="9630"/>
                  <a:pt x="11764" y="9650"/>
                  <a:pt x="11708" y="9699"/>
                </a:cubicBezTo>
                <a:cubicBezTo>
                  <a:pt x="11668" y="9734"/>
                  <a:pt x="11630" y="9758"/>
                  <a:pt x="11584" y="9773"/>
                </a:cubicBezTo>
                <a:cubicBezTo>
                  <a:pt x="11551" y="9773"/>
                  <a:pt x="11542" y="9781"/>
                  <a:pt x="11559" y="9823"/>
                </a:cubicBezTo>
                <a:cubicBezTo>
                  <a:pt x="11587" y="9823"/>
                  <a:pt x="11646" y="9809"/>
                  <a:pt x="11658" y="9847"/>
                </a:cubicBezTo>
                <a:cubicBezTo>
                  <a:pt x="11664" y="9866"/>
                  <a:pt x="11705" y="9941"/>
                  <a:pt x="11683" y="9971"/>
                </a:cubicBezTo>
                <a:cubicBezTo>
                  <a:pt x="11670" y="9989"/>
                  <a:pt x="11611" y="9996"/>
                  <a:pt x="11584" y="9996"/>
                </a:cubicBezTo>
                <a:cubicBezTo>
                  <a:pt x="11510" y="9996"/>
                  <a:pt x="11470" y="9991"/>
                  <a:pt x="11410" y="9971"/>
                </a:cubicBezTo>
                <a:cubicBezTo>
                  <a:pt x="11402" y="9971"/>
                  <a:pt x="11393" y="9971"/>
                  <a:pt x="11385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2840040"/>
            <a:ext cx="331920" cy="884160"/>
          </a:xfrm>
          <a:custGeom>
            <a:avLst/>
            <a:gdLst/>
            <a:ahLst/>
            <a:rect l="l" t="t" r="r" b="b"/>
            <a:pathLst>
              <a:path w="919" h="2457">
                <a:moveTo>
                  <a:pt x="13990" y="9451"/>
                </a:moveTo>
                <a:cubicBezTo>
                  <a:pt x="13960" y="9554"/>
                  <a:pt x="13937" y="9646"/>
                  <a:pt x="13915" y="9748"/>
                </a:cubicBezTo>
                <a:cubicBezTo>
                  <a:pt x="13898" y="9825"/>
                  <a:pt x="13869" y="9892"/>
                  <a:pt x="13866" y="9971"/>
                </a:cubicBezTo>
                <a:cubicBezTo>
                  <a:pt x="13865" y="9993"/>
                  <a:pt x="13881" y="10102"/>
                  <a:pt x="13915" y="10120"/>
                </a:cubicBezTo>
                <a:cubicBezTo>
                  <a:pt x="13973" y="10151"/>
                  <a:pt x="14037" y="10087"/>
                  <a:pt x="14064" y="10046"/>
                </a:cubicBezTo>
                <a:cubicBezTo>
                  <a:pt x="14088" y="10010"/>
                  <a:pt x="14111" y="9939"/>
                  <a:pt x="14114" y="9897"/>
                </a:cubicBezTo>
                <a:cubicBezTo>
                  <a:pt x="14114" y="9880"/>
                  <a:pt x="14114" y="9864"/>
                  <a:pt x="14114" y="9847"/>
                </a:cubicBezTo>
                <a:cubicBezTo>
                  <a:pt x="14080" y="9839"/>
                  <a:pt x="14046" y="9816"/>
                  <a:pt x="14015" y="9847"/>
                </a:cubicBezTo>
                <a:cubicBezTo>
                  <a:pt x="13964" y="9898"/>
                  <a:pt x="13981" y="9910"/>
                  <a:pt x="13940" y="9971"/>
                </a:cubicBezTo>
                <a:cubicBezTo>
                  <a:pt x="13924" y="9994"/>
                  <a:pt x="13890" y="10086"/>
                  <a:pt x="13915" y="10120"/>
                </a:cubicBezTo>
                <a:cubicBezTo>
                  <a:pt x="13950" y="10120"/>
                  <a:pt x="13963" y="10111"/>
                  <a:pt x="13965" y="10071"/>
                </a:cubicBezTo>
              </a:path>
              <a:path w="919" h="2457">
                <a:moveTo>
                  <a:pt x="14759" y="8062"/>
                </a:moveTo>
                <a:cubicBezTo>
                  <a:pt x="14784" y="8062"/>
                  <a:pt x="14792" y="8062"/>
                  <a:pt x="14784" y="8086"/>
                </a:cubicBezTo>
                <a:cubicBezTo>
                  <a:pt x="14767" y="8056"/>
                  <a:pt x="14738" y="7987"/>
                  <a:pt x="14709" y="7962"/>
                </a:cubicBezTo>
                <a:cubicBezTo>
                  <a:pt x="14691" y="7947"/>
                  <a:pt x="14610" y="7896"/>
                  <a:pt x="14585" y="7888"/>
                </a:cubicBezTo>
                <a:cubicBezTo>
                  <a:pt x="14544" y="7874"/>
                  <a:pt x="14469" y="7889"/>
                  <a:pt x="14436" y="7913"/>
                </a:cubicBezTo>
                <a:cubicBezTo>
                  <a:pt x="14357" y="7970"/>
                  <a:pt x="14315" y="8057"/>
                  <a:pt x="14263" y="8136"/>
                </a:cubicBezTo>
                <a:cubicBezTo>
                  <a:pt x="14187" y="8251"/>
                  <a:pt x="14164" y="8360"/>
                  <a:pt x="14114" y="8483"/>
                </a:cubicBezTo>
                <a:cubicBezTo>
                  <a:pt x="14044" y="8654"/>
                  <a:pt x="14019" y="8844"/>
                  <a:pt x="14015" y="9029"/>
                </a:cubicBezTo>
                <a:cubicBezTo>
                  <a:pt x="14011" y="9183"/>
                  <a:pt x="14055" y="9245"/>
                  <a:pt x="14114" y="9376"/>
                </a:cubicBezTo>
                <a:cubicBezTo>
                  <a:pt x="14160" y="9479"/>
                  <a:pt x="14198" y="9506"/>
                  <a:pt x="14312" y="9525"/>
                </a:cubicBezTo>
                <a:cubicBezTo>
                  <a:pt x="14372" y="9535"/>
                  <a:pt x="14391" y="9496"/>
                  <a:pt x="14436" y="9475"/>
                </a:cubicBezTo>
                <a:cubicBezTo>
                  <a:pt x="14464" y="9475"/>
                  <a:pt x="14475" y="9473"/>
                  <a:pt x="14486" y="9451"/>
                </a:cubicBezTo>
              </a:path>
              <a:path w="919" h="2457">
                <a:moveTo>
                  <a:pt x="14387" y="9699"/>
                </a:moveTo>
                <a:cubicBezTo>
                  <a:pt x="14372" y="9798"/>
                  <a:pt x="14344" y="9883"/>
                  <a:pt x="14337" y="9971"/>
                </a:cubicBezTo>
                <a:cubicBezTo>
                  <a:pt x="14337" y="9979"/>
                  <a:pt x="14337" y="9988"/>
                  <a:pt x="14337" y="9996"/>
                </a:cubicBezTo>
                <a:cubicBezTo>
                  <a:pt x="14387" y="9996"/>
                  <a:pt x="14396" y="9985"/>
                  <a:pt x="14436" y="9971"/>
                </a:cubicBezTo>
                <a:cubicBezTo>
                  <a:pt x="14508" y="9947"/>
                  <a:pt x="14503" y="9991"/>
                  <a:pt x="14560" y="9922"/>
                </a:cubicBezTo>
              </a:path>
              <a:path w="919" h="2457">
                <a:moveTo>
                  <a:pt x="14585" y="9624"/>
                </a:moveTo>
                <a:cubicBezTo>
                  <a:pt x="14585" y="9840"/>
                  <a:pt x="14570" y="10059"/>
                  <a:pt x="14610" y="10269"/>
                </a:cubicBezTo>
                <a:cubicBezTo>
                  <a:pt x="14610" y="10302"/>
                  <a:pt x="14610" y="10319"/>
                  <a:pt x="14610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76960" y="2874960"/>
            <a:ext cx="403200" cy="822240"/>
          </a:xfrm>
          <a:custGeom>
            <a:avLst/>
            <a:gdLst/>
            <a:ahLst/>
            <a:rect l="l" t="t" r="r" b="b"/>
            <a:pathLst>
              <a:path w="1117" h="2283">
                <a:moveTo>
                  <a:pt x="17512" y="9699"/>
                </a:moveTo>
                <a:cubicBezTo>
                  <a:pt x="17486" y="9782"/>
                  <a:pt x="17404" y="9959"/>
                  <a:pt x="17438" y="10071"/>
                </a:cubicBezTo>
                <a:cubicBezTo>
                  <a:pt x="17450" y="10110"/>
                  <a:pt x="17500" y="10137"/>
                  <a:pt x="17537" y="10145"/>
                </a:cubicBezTo>
                <a:cubicBezTo>
                  <a:pt x="17547" y="10147"/>
                  <a:pt x="17653" y="10128"/>
                  <a:pt x="17661" y="10120"/>
                </a:cubicBezTo>
                <a:cubicBezTo>
                  <a:pt x="17693" y="10085"/>
                  <a:pt x="17732" y="10017"/>
                  <a:pt x="17735" y="9971"/>
                </a:cubicBezTo>
                <a:cubicBezTo>
                  <a:pt x="17735" y="9930"/>
                  <a:pt x="17743" y="9914"/>
                  <a:pt x="17711" y="9922"/>
                </a:cubicBezTo>
                <a:cubicBezTo>
                  <a:pt x="17660" y="9922"/>
                  <a:pt x="17625" y="9949"/>
                  <a:pt x="17587" y="9971"/>
                </a:cubicBezTo>
                <a:cubicBezTo>
                  <a:pt x="17528" y="10006"/>
                  <a:pt x="17541" y="10086"/>
                  <a:pt x="17512" y="10120"/>
                </a:cubicBezTo>
                <a:cubicBezTo>
                  <a:pt x="17483" y="10153"/>
                  <a:pt x="17470" y="10198"/>
                  <a:pt x="17537" y="10220"/>
                </a:cubicBezTo>
                <a:cubicBezTo>
                  <a:pt x="17580" y="10220"/>
                  <a:pt x="17605" y="10214"/>
                  <a:pt x="17636" y="10195"/>
                </a:cubicBezTo>
              </a:path>
              <a:path w="1117" h="2283">
                <a:moveTo>
                  <a:pt x="18380" y="8136"/>
                </a:moveTo>
                <a:cubicBezTo>
                  <a:pt x="18395" y="8157"/>
                  <a:pt x="18389" y="8165"/>
                  <a:pt x="18405" y="8186"/>
                </a:cubicBezTo>
                <a:cubicBezTo>
                  <a:pt x="18421" y="8154"/>
                  <a:pt x="18427" y="8139"/>
                  <a:pt x="18380" y="8062"/>
                </a:cubicBezTo>
                <a:cubicBezTo>
                  <a:pt x="18334" y="7986"/>
                  <a:pt x="18292" y="7981"/>
                  <a:pt x="18207" y="8012"/>
                </a:cubicBezTo>
                <a:cubicBezTo>
                  <a:pt x="18067" y="8063"/>
                  <a:pt x="18013" y="8143"/>
                  <a:pt x="17934" y="8260"/>
                </a:cubicBezTo>
                <a:cubicBezTo>
                  <a:pt x="17839" y="8402"/>
                  <a:pt x="17803" y="8543"/>
                  <a:pt x="17760" y="8706"/>
                </a:cubicBezTo>
                <a:cubicBezTo>
                  <a:pt x="17734" y="8802"/>
                  <a:pt x="17739" y="8935"/>
                  <a:pt x="17785" y="9029"/>
                </a:cubicBezTo>
                <a:cubicBezTo>
                  <a:pt x="17828" y="9119"/>
                  <a:pt x="17914" y="9191"/>
                  <a:pt x="17983" y="9252"/>
                </a:cubicBezTo>
                <a:cubicBezTo>
                  <a:pt x="18059" y="9320"/>
                  <a:pt x="18107" y="9367"/>
                  <a:pt x="18207" y="9376"/>
                </a:cubicBezTo>
                <a:cubicBezTo>
                  <a:pt x="18251" y="9376"/>
                  <a:pt x="18265" y="9373"/>
                  <a:pt x="18281" y="9401"/>
                </a:cubicBezTo>
              </a:path>
              <a:path w="1117" h="2283">
                <a:moveTo>
                  <a:pt x="18281" y="9748"/>
                </a:moveTo>
                <a:cubicBezTo>
                  <a:pt x="18393" y="9748"/>
                  <a:pt x="18489" y="9776"/>
                  <a:pt x="18554" y="9699"/>
                </a:cubicBezTo>
              </a:path>
              <a:path w="1117" h="2283">
                <a:moveTo>
                  <a:pt x="18281" y="9773"/>
                </a:moveTo>
                <a:cubicBezTo>
                  <a:pt x="18233" y="9821"/>
                  <a:pt x="18214" y="9840"/>
                  <a:pt x="18182" y="9897"/>
                </a:cubicBezTo>
                <a:cubicBezTo>
                  <a:pt x="18308" y="9897"/>
                  <a:pt x="18321" y="9910"/>
                  <a:pt x="18430" y="9971"/>
                </a:cubicBezTo>
                <a:cubicBezTo>
                  <a:pt x="18476" y="9997"/>
                  <a:pt x="18525" y="10079"/>
                  <a:pt x="18529" y="10145"/>
                </a:cubicBezTo>
                <a:cubicBezTo>
                  <a:pt x="18531" y="10177"/>
                  <a:pt x="18488" y="10243"/>
                  <a:pt x="18455" y="10269"/>
                </a:cubicBezTo>
                <a:cubicBezTo>
                  <a:pt x="18419" y="10297"/>
                  <a:pt x="18116" y="10281"/>
                  <a:pt x="18157" y="10220"/>
                </a:cubicBezTo>
                <a:cubicBezTo>
                  <a:pt x="18165" y="10220"/>
                  <a:pt x="18174" y="10220"/>
                  <a:pt x="18182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2928960"/>
            <a:ext cx="455760" cy="849240"/>
          </a:xfrm>
          <a:custGeom>
            <a:avLst/>
            <a:gdLst/>
            <a:ahLst/>
            <a:rect l="l" t="t" r="r" b="b"/>
            <a:pathLst>
              <a:path w="1266" h="2357">
                <a:moveTo>
                  <a:pt x="21332" y="9599"/>
                </a:moveTo>
                <a:cubicBezTo>
                  <a:pt x="21292" y="9649"/>
                  <a:pt x="21235" y="9717"/>
                  <a:pt x="21208" y="9773"/>
                </a:cubicBezTo>
                <a:cubicBezTo>
                  <a:pt x="21173" y="9845"/>
                  <a:pt x="21122" y="9968"/>
                  <a:pt x="21109" y="10046"/>
                </a:cubicBezTo>
                <a:cubicBezTo>
                  <a:pt x="21096" y="10125"/>
                  <a:pt x="21110" y="10157"/>
                  <a:pt x="21158" y="10195"/>
                </a:cubicBezTo>
                <a:cubicBezTo>
                  <a:pt x="21188" y="10218"/>
                  <a:pt x="21252" y="10314"/>
                  <a:pt x="21307" y="10269"/>
                </a:cubicBezTo>
                <a:cubicBezTo>
                  <a:pt x="21336" y="10245"/>
                  <a:pt x="21407" y="10154"/>
                  <a:pt x="21406" y="10120"/>
                </a:cubicBezTo>
                <a:cubicBezTo>
                  <a:pt x="21403" y="10050"/>
                  <a:pt x="21395" y="9996"/>
                  <a:pt x="21332" y="9996"/>
                </a:cubicBezTo>
                <a:cubicBezTo>
                  <a:pt x="21246" y="9996"/>
                  <a:pt x="21229" y="9996"/>
                  <a:pt x="21183" y="10071"/>
                </a:cubicBezTo>
                <a:cubicBezTo>
                  <a:pt x="21151" y="10123"/>
                  <a:pt x="21158" y="10161"/>
                  <a:pt x="21158" y="10220"/>
                </a:cubicBezTo>
                <a:cubicBezTo>
                  <a:pt x="21158" y="10264"/>
                  <a:pt x="21195" y="10315"/>
                  <a:pt x="21258" y="10294"/>
                </a:cubicBezTo>
                <a:cubicBezTo>
                  <a:pt x="21266" y="10286"/>
                  <a:pt x="21274" y="10277"/>
                  <a:pt x="21282" y="10269"/>
                </a:cubicBezTo>
              </a:path>
              <a:path w="1266" h="2357">
                <a:moveTo>
                  <a:pt x="22101" y="8483"/>
                </a:moveTo>
                <a:cubicBezTo>
                  <a:pt x="22101" y="8541"/>
                  <a:pt x="22084" y="8566"/>
                  <a:pt x="22126" y="8558"/>
                </a:cubicBezTo>
                <a:cubicBezTo>
                  <a:pt x="22126" y="8475"/>
                  <a:pt x="22112" y="8414"/>
                  <a:pt x="22101" y="8334"/>
                </a:cubicBezTo>
                <a:cubicBezTo>
                  <a:pt x="22085" y="8216"/>
                  <a:pt x="22035" y="8206"/>
                  <a:pt x="21952" y="8161"/>
                </a:cubicBezTo>
                <a:cubicBezTo>
                  <a:pt x="21894" y="8130"/>
                  <a:pt x="21812" y="8129"/>
                  <a:pt x="21754" y="8186"/>
                </a:cubicBezTo>
                <a:cubicBezTo>
                  <a:pt x="21655" y="8284"/>
                  <a:pt x="21598" y="8357"/>
                  <a:pt x="21555" y="8483"/>
                </a:cubicBezTo>
                <a:cubicBezTo>
                  <a:pt x="21497" y="8655"/>
                  <a:pt x="21478" y="8829"/>
                  <a:pt x="21555" y="9004"/>
                </a:cubicBezTo>
                <a:cubicBezTo>
                  <a:pt x="21600" y="9108"/>
                  <a:pt x="21678" y="9154"/>
                  <a:pt x="21754" y="9227"/>
                </a:cubicBezTo>
                <a:cubicBezTo>
                  <a:pt x="21806" y="9277"/>
                  <a:pt x="21926" y="9387"/>
                  <a:pt x="22002" y="9401"/>
                </a:cubicBezTo>
                <a:cubicBezTo>
                  <a:pt x="22076" y="9401"/>
                  <a:pt x="22085" y="9401"/>
                  <a:pt x="22126" y="9401"/>
                </a:cubicBezTo>
              </a:path>
              <a:path w="1266" h="2357">
                <a:moveTo>
                  <a:pt x="22051" y="9823"/>
                </a:moveTo>
                <a:cubicBezTo>
                  <a:pt x="22041" y="9855"/>
                  <a:pt x="21950" y="10069"/>
                  <a:pt x="21952" y="10120"/>
                </a:cubicBezTo>
                <a:cubicBezTo>
                  <a:pt x="21954" y="10173"/>
                  <a:pt x="21978" y="10305"/>
                  <a:pt x="22027" y="10344"/>
                </a:cubicBezTo>
                <a:cubicBezTo>
                  <a:pt x="22062" y="10372"/>
                  <a:pt x="22145" y="10347"/>
                  <a:pt x="22175" y="10344"/>
                </a:cubicBezTo>
                <a:cubicBezTo>
                  <a:pt x="22262" y="10334"/>
                  <a:pt x="22288" y="10340"/>
                  <a:pt x="22324" y="10269"/>
                </a:cubicBezTo>
                <a:cubicBezTo>
                  <a:pt x="22352" y="10214"/>
                  <a:pt x="22349" y="10177"/>
                  <a:pt x="22349" y="10120"/>
                </a:cubicBezTo>
                <a:cubicBezTo>
                  <a:pt x="22306" y="10120"/>
                  <a:pt x="22252" y="10106"/>
                  <a:pt x="22225" y="10145"/>
                </a:cubicBezTo>
                <a:cubicBezTo>
                  <a:pt x="22192" y="10193"/>
                  <a:pt x="22159" y="10201"/>
                  <a:pt x="22175" y="10269"/>
                </a:cubicBezTo>
                <a:cubicBezTo>
                  <a:pt x="22185" y="10312"/>
                  <a:pt x="22238" y="10386"/>
                  <a:pt x="22275" y="10418"/>
                </a:cubicBezTo>
                <a:cubicBezTo>
                  <a:pt x="22303" y="10443"/>
                  <a:pt x="22373" y="10525"/>
                  <a:pt x="22349" y="10492"/>
                </a:cubicBezTo>
                <a:cubicBezTo>
                  <a:pt x="22341" y="10476"/>
                  <a:pt x="22332" y="10459"/>
                  <a:pt x="22324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880" y="3813120"/>
            <a:ext cx="7761240" cy="1278000"/>
          </a:xfrm>
          <a:custGeom>
            <a:avLst/>
            <a:gdLst/>
            <a:ahLst/>
            <a:rect l="l" t="t" r="r" b="b"/>
            <a:pathLst>
              <a:path w="21556" h="3548">
                <a:moveTo>
                  <a:pt x="2282" y="11534"/>
                </a:moveTo>
                <a:cubicBezTo>
                  <a:pt x="2282" y="11616"/>
                  <a:pt x="2270" y="11681"/>
                  <a:pt x="2257" y="11757"/>
                </a:cubicBezTo>
                <a:cubicBezTo>
                  <a:pt x="2236" y="11880"/>
                  <a:pt x="2263" y="12014"/>
                  <a:pt x="2282" y="12129"/>
                </a:cubicBezTo>
                <a:cubicBezTo>
                  <a:pt x="2295" y="12205"/>
                  <a:pt x="2301" y="12193"/>
                  <a:pt x="2356" y="12229"/>
                </a:cubicBezTo>
                <a:cubicBezTo>
                  <a:pt x="2412" y="12266"/>
                  <a:pt x="2448" y="12238"/>
                  <a:pt x="2505" y="12179"/>
                </a:cubicBezTo>
                <a:cubicBezTo>
                  <a:pt x="2552" y="12130"/>
                  <a:pt x="2574" y="12065"/>
                  <a:pt x="2604" y="12005"/>
                </a:cubicBezTo>
                <a:cubicBezTo>
                  <a:pt x="2643" y="11927"/>
                  <a:pt x="2685" y="11819"/>
                  <a:pt x="2704" y="11733"/>
                </a:cubicBezTo>
                <a:cubicBezTo>
                  <a:pt x="2709" y="11712"/>
                  <a:pt x="2731" y="11576"/>
                  <a:pt x="2729" y="11559"/>
                </a:cubicBezTo>
                <a:cubicBezTo>
                  <a:pt x="2729" y="11531"/>
                  <a:pt x="2727" y="11520"/>
                  <a:pt x="2704" y="11509"/>
                </a:cubicBezTo>
                <a:cubicBezTo>
                  <a:pt x="2688" y="11541"/>
                  <a:pt x="2686" y="11524"/>
                  <a:pt x="2679" y="11559"/>
                </a:cubicBezTo>
                <a:cubicBezTo>
                  <a:pt x="2667" y="11621"/>
                  <a:pt x="2662" y="11698"/>
                  <a:pt x="2654" y="11757"/>
                </a:cubicBezTo>
                <a:cubicBezTo>
                  <a:pt x="2637" y="11890"/>
                  <a:pt x="2665" y="12026"/>
                  <a:pt x="2679" y="12154"/>
                </a:cubicBezTo>
                <a:cubicBezTo>
                  <a:pt x="2708" y="12417"/>
                  <a:pt x="2729" y="12794"/>
                  <a:pt x="2654" y="13047"/>
                </a:cubicBezTo>
                <a:cubicBezTo>
                  <a:pt x="2630" y="13129"/>
                  <a:pt x="2594" y="13211"/>
                  <a:pt x="2530" y="13271"/>
                </a:cubicBezTo>
                <a:cubicBezTo>
                  <a:pt x="2482" y="13316"/>
                  <a:pt x="2371" y="13334"/>
                  <a:pt x="2307" y="13320"/>
                </a:cubicBezTo>
                <a:cubicBezTo>
                  <a:pt x="2218" y="13301"/>
                  <a:pt x="2133" y="13279"/>
                  <a:pt x="2059" y="13221"/>
                </a:cubicBezTo>
                <a:cubicBezTo>
                  <a:pt x="1983" y="13161"/>
                  <a:pt x="1963" y="13088"/>
                  <a:pt x="1960" y="12998"/>
                </a:cubicBezTo>
                <a:cubicBezTo>
                  <a:pt x="1960" y="12923"/>
                  <a:pt x="1960" y="12899"/>
                  <a:pt x="1960" y="12849"/>
                </a:cubicBezTo>
              </a:path>
              <a:path w="21556" h="3548">
                <a:moveTo>
                  <a:pt x="2952" y="10592"/>
                </a:moveTo>
                <a:cubicBezTo>
                  <a:pt x="2952" y="10662"/>
                  <a:pt x="2938" y="10702"/>
                  <a:pt x="2927" y="10765"/>
                </a:cubicBezTo>
                <a:cubicBezTo>
                  <a:pt x="2917" y="10823"/>
                  <a:pt x="2896" y="10881"/>
                  <a:pt x="2877" y="10939"/>
                </a:cubicBezTo>
                <a:cubicBezTo>
                  <a:pt x="2857" y="11001"/>
                  <a:pt x="2833" y="11045"/>
                  <a:pt x="2828" y="11112"/>
                </a:cubicBezTo>
                <a:cubicBezTo>
                  <a:pt x="2825" y="11153"/>
                  <a:pt x="2851" y="11208"/>
                  <a:pt x="2877" y="11237"/>
                </a:cubicBezTo>
                <a:cubicBezTo>
                  <a:pt x="2919" y="11284"/>
                  <a:pt x="2960" y="11307"/>
                  <a:pt x="3026" y="11311"/>
                </a:cubicBezTo>
                <a:cubicBezTo>
                  <a:pt x="3075" y="11314"/>
                  <a:pt x="3138" y="11290"/>
                  <a:pt x="3175" y="11261"/>
                </a:cubicBezTo>
                <a:cubicBezTo>
                  <a:pt x="3209" y="11235"/>
                  <a:pt x="3245" y="11203"/>
                  <a:pt x="3249" y="11162"/>
                </a:cubicBezTo>
                <a:cubicBezTo>
                  <a:pt x="3254" y="11119"/>
                  <a:pt x="3253" y="11095"/>
                  <a:pt x="3225" y="11063"/>
                </a:cubicBezTo>
                <a:cubicBezTo>
                  <a:pt x="3187" y="11020"/>
                  <a:pt x="3131" y="11031"/>
                  <a:pt x="3101" y="11038"/>
                </a:cubicBezTo>
                <a:cubicBezTo>
                  <a:pt x="3036" y="11053"/>
                  <a:pt x="3030" y="11067"/>
                  <a:pt x="3001" y="11112"/>
                </a:cubicBezTo>
                <a:cubicBezTo>
                  <a:pt x="2970" y="11159"/>
                  <a:pt x="2957" y="11200"/>
                  <a:pt x="2952" y="11261"/>
                </a:cubicBezTo>
                <a:cubicBezTo>
                  <a:pt x="2948" y="11318"/>
                  <a:pt x="2966" y="11358"/>
                  <a:pt x="2977" y="11410"/>
                </a:cubicBezTo>
              </a:path>
              <a:path w="21556" h="3548">
                <a:moveTo>
                  <a:pt x="2952" y="11857"/>
                </a:moveTo>
                <a:cubicBezTo>
                  <a:pt x="2885" y="11889"/>
                  <a:pt x="3008" y="11874"/>
                  <a:pt x="3026" y="11881"/>
                </a:cubicBezTo>
                <a:cubicBezTo>
                  <a:pt x="3092" y="11909"/>
                  <a:pt x="3145" y="11906"/>
                  <a:pt x="3225" y="11906"/>
                </a:cubicBezTo>
                <a:cubicBezTo>
                  <a:pt x="3314" y="11906"/>
                  <a:pt x="3390" y="11918"/>
                  <a:pt x="3473" y="11931"/>
                </a:cubicBezTo>
                <a:cubicBezTo>
                  <a:pt x="3530" y="11940"/>
                  <a:pt x="3562" y="11976"/>
                  <a:pt x="3597" y="11931"/>
                </a:cubicBezTo>
                <a:cubicBezTo>
                  <a:pt x="3619" y="11908"/>
                  <a:pt x="3627" y="11903"/>
                  <a:pt x="3621" y="11881"/>
                </a:cubicBezTo>
              </a:path>
              <a:path w="21556" h="3548">
                <a:moveTo>
                  <a:pt x="3845" y="11261"/>
                </a:moveTo>
                <a:cubicBezTo>
                  <a:pt x="3864" y="11305"/>
                  <a:pt x="3887" y="11359"/>
                  <a:pt x="3870" y="11410"/>
                </a:cubicBezTo>
                <a:cubicBezTo>
                  <a:pt x="3854" y="11457"/>
                  <a:pt x="3828" y="11518"/>
                  <a:pt x="3820" y="11559"/>
                </a:cubicBezTo>
                <a:cubicBezTo>
                  <a:pt x="3810" y="11606"/>
                  <a:pt x="3795" y="11665"/>
                  <a:pt x="3770" y="11708"/>
                </a:cubicBezTo>
                <a:cubicBezTo>
                  <a:pt x="3762" y="11716"/>
                  <a:pt x="3754" y="11725"/>
                  <a:pt x="3746" y="11733"/>
                </a:cubicBezTo>
                <a:cubicBezTo>
                  <a:pt x="3787" y="11701"/>
                  <a:pt x="3803" y="11697"/>
                  <a:pt x="3845" y="11733"/>
                </a:cubicBezTo>
                <a:cubicBezTo>
                  <a:pt x="3897" y="11778"/>
                  <a:pt x="3915" y="11780"/>
                  <a:pt x="3969" y="11807"/>
                </a:cubicBezTo>
                <a:cubicBezTo>
                  <a:pt x="4033" y="11839"/>
                  <a:pt x="4064" y="11877"/>
                  <a:pt x="4142" y="11881"/>
                </a:cubicBezTo>
                <a:cubicBezTo>
                  <a:pt x="4192" y="11884"/>
                  <a:pt x="4260" y="11851"/>
                  <a:pt x="4291" y="11807"/>
                </a:cubicBezTo>
                <a:cubicBezTo>
                  <a:pt x="4299" y="11790"/>
                  <a:pt x="4308" y="11774"/>
                  <a:pt x="4316" y="11757"/>
                </a:cubicBezTo>
              </a:path>
              <a:path w="21556" h="3548">
                <a:moveTo>
                  <a:pt x="4167" y="10889"/>
                </a:moveTo>
                <a:cubicBezTo>
                  <a:pt x="4148" y="10940"/>
                  <a:pt x="4142" y="10976"/>
                  <a:pt x="4142" y="11038"/>
                </a:cubicBezTo>
                <a:cubicBezTo>
                  <a:pt x="4142" y="11296"/>
                  <a:pt x="4135" y="11551"/>
                  <a:pt x="4118" y="11807"/>
                </a:cubicBezTo>
                <a:cubicBezTo>
                  <a:pt x="4100" y="12074"/>
                  <a:pt x="3954" y="12792"/>
                  <a:pt x="4142" y="12601"/>
                </a:cubicBezTo>
                <a:cubicBezTo>
                  <a:pt x="4142" y="12566"/>
                  <a:pt x="4147" y="12548"/>
                  <a:pt x="4167" y="12526"/>
                </a:cubicBezTo>
              </a:path>
              <a:path w="21556" h="3548">
                <a:moveTo>
                  <a:pt x="4366" y="11311"/>
                </a:moveTo>
                <a:cubicBezTo>
                  <a:pt x="4426" y="11207"/>
                  <a:pt x="4445" y="11148"/>
                  <a:pt x="4539" y="11088"/>
                </a:cubicBezTo>
                <a:cubicBezTo>
                  <a:pt x="4576" y="11064"/>
                  <a:pt x="4670" y="11025"/>
                  <a:pt x="4713" y="11038"/>
                </a:cubicBezTo>
                <a:cubicBezTo>
                  <a:pt x="4744" y="11048"/>
                  <a:pt x="4816" y="11083"/>
                  <a:pt x="4837" y="11112"/>
                </a:cubicBezTo>
                <a:cubicBezTo>
                  <a:pt x="4888" y="11183"/>
                  <a:pt x="4926" y="11269"/>
                  <a:pt x="4911" y="11361"/>
                </a:cubicBezTo>
                <a:cubicBezTo>
                  <a:pt x="4899" y="11434"/>
                  <a:pt x="4870" y="11515"/>
                  <a:pt x="4837" y="11584"/>
                </a:cubicBezTo>
                <a:cubicBezTo>
                  <a:pt x="4795" y="11671"/>
                  <a:pt x="4736" y="11749"/>
                  <a:pt x="4688" y="11832"/>
                </a:cubicBezTo>
                <a:cubicBezTo>
                  <a:pt x="4646" y="11905"/>
                  <a:pt x="4591" y="11988"/>
                  <a:pt x="4539" y="12055"/>
                </a:cubicBezTo>
                <a:cubicBezTo>
                  <a:pt x="4485" y="12124"/>
                  <a:pt x="4440" y="12155"/>
                  <a:pt x="4390" y="12229"/>
                </a:cubicBezTo>
                <a:cubicBezTo>
                  <a:pt x="4362" y="12270"/>
                  <a:pt x="4327" y="12280"/>
                  <a:pt x="4316" y="12328"/>
                </a:cubicBezTo>
                <a:cubicBezTo>
                  <a:pt x="4306" y="12370"/>
                  <a:pt x="4317" y="12397"/>
                  <a:pt x="4341" y="12427"/>
                </a:cubicBezTo>
                <a:cubicBezTo>
                  <a:pt x="4371" y="12464"/>
                  <a:pt x="4425" y="12460"/>
                  <a:pt x="4465" y="12477"/>
                </a:cubicBezTo>
                <a:cubicBezTo>
                  <a:pt x="4540" y="12509"/>
                  <a:pt x="4606" y="12502"/>
                  <a:pt x="4688" y="12502"/>
                </a:cubicBezTo>
                <a:cubicBezTo>
                  <a:pt x="4789" y="12502"/>
                  <a:pt x="4874" y="12512"/>
                  <a:pt x="4961" y="12452"/>
                </a:cubicBezTo>
                <a:cubicBezTo>
                  <a:pt x="5022" y="12410"/>
                  <a:pt x="5023" y="12340"/>
                  <a:pt x="5035" y="12278"/>
                </a:cubicBezTo>
              </a:path>
              <a:path w="21556" h="3548">
                <a:moveTo>
                  <a:pt x="5035" y="11857"/>
                </a:moveTo>
                <a:cubicBezTo>
                  <a:pt x="5035" y="11945"/>
                  <a:pt x="5022" y="12018"/>
                  <a:pt x="5011" y="12105"/>
                </a:cubicBezTo>
                <a:cubicBezTo>
                  <a:pt x="5002" y="12176"/>
                  <a:pt x="5013" y="12263"/>
                  <a:pt x="5035" y="12328"/>
                </a:cubicBezTo>
                <a:cubicBezTo>
                  <a:pt x="5056" y="12393"/>
                  <a:pt x="5066" y="12469"/>
                  <a:pt x="5110" y="12526"/>
                </a:cubicBezTo>
                <a:cubicBezTo>
                  <a:pt x="5146" y="12572"/>
                  <a:pt x="5175" y="12584"/>
                  <a:pt x="5234" y="12576"/>
                </a:cubicBezTo>
                <a:cubicBezTo>
                  <a:pt x="5291" y="12568"/>
                  <a:pt x="5303" y="12523"/>
                  <a:pt x="5333" y="12477"/>
                </a:cubicBezTo>
                <a:cubicBezTo>
                  <a:pt x="5366" y="12426"/>
                  <a:pt x="5418" y="12365"/>
                  <a:pt x="5432" y="12303"/>
                </a:cubicBezTo>
                <a:cubicBezTo>
                  <a:pt x="5450" y="12222"/>
                  <a:pt x="5496" y="12137"/>
                  <a:pt x="5507" y="12055"/>
                </a:cubicBezTo>
                <a:cubicBezTo>
                  <a:pt x="5513" y="12006"/>
                  <a:pt x="5524" y="11974"/>
                  <a:pt x="5531" y="11931"/>
                </a:cubicBezTo>
                <a:cubicBezTo>
                  <a:pt x="5535" y="11906"/>
                  <a:pt x="5531" y="11931"/>
                  <a:pt x="5531" y="11906"/>
                </a:cubicBezTo>
                <a:cubicBezTo>
                  <a:pt x="5506" y="11974"/>
                  <a:pt x="5524" y="12026"/>
                  <a:pt x="5507" y="12105"/>
                </a:cubicBezTo>
                <a:cubicBezTo>
                  <a:pt x="5489" y="12190"/>
                  <a:pt x="5482" y="12260"/>
                  <a:pt x="5482" y="12353"/>
                </a:cubicBezTo>
                <a:cubicBezTo>
                  <a:pt x="5482" y="12454"/>
                  <a:pt x="5492" y="12574"/>
                  <a:pt x="5507" y="12675"/>
                </a:cubicBezTo>
                <a:cubicBezTo>
                  <a:pt x="5525" y="12800"/>
                  <a:pt x="5574" y="12922"/>
                  <a:pt x="5581" y="13047"/>
                </a:cubicBezTo>
                <a:cubicBezTo>
                  <a:pt x="5587" y="13149"/>
                  <a:pt x="5626" y="13470"/>
                  <a:pt x="5556" y="13568"/>
                </a:cubicBezTo>
                <a:cubicBezTo>
                  <a:pt x="5510" y="13633"/>
                  <a:pt x="5433" y="13664"/>
                  <a:pt x="5358" y="13667"/>
                </a:cubicBezTo>
                <a:cubicBezTo>
                  <a:pt x="5271" y="13671"/>
                  <a:pt x="5166" y="13649"/>
                  <a:pt x="5085" y="13618"/>
                </a:cubicBezTo>
                <a:cubicBezTo>
                  <a:pt x="5020" y="13593"/>
                  <a:pt x="4934" y="13544"/>
                  <a:pt x="4887" y="13494"/>
                </a:cubicBezTo>
                <a:cubicBezTo>
                  <a:pt x="4822" y="13425"/>
                  <a:pt x="4850" y="13347"/>
                  <a:pt x="4862" y="13271"/>
                </a:cubicBezTo>
              </a:path>
              <a:path w="21556" h="3548">
                <a:moveTo>
                  <a:pt x="5606" y="11212"/>
                </a:moveTo>
                <a:cubicBezTo>
                  <a:pt x="5712" y="11166"/>
                  <a:pt x="5755" y="11189"/>
                  <a:pt x="5854" y="11162"/>
                </a:cubicBezTo>
                <a:cubicBezTo>
                  <a:pt x="5907" y="11147"/>
                  <a:pt x="5957" y="11127"/>
                  <a:pt x="6003" y="11112"/>
                </a:cubicBezTo>
                <a:cubicBezTo>
                  <a:pt x="6038" y="11100"/>
                  <a:pt x="6039" y="11100"/>
                  <a:pt x="6003" y="11088"/>
                </a:cubicBezTo>
              </a:path>
              <a:path w="21556" h="3548">
                <a:moveTo>
                  <a:pt x="5705" y="11162"/>
                </a:moveTo>
                <a:cubicBezTo>
                  <a:pt x="5665" y="11202"/>
                  <a:pt x="5599" y="11258"/>
                  <a:pt x="5581" y="11311"/>
                </a:cubicBezTo>
                <a:cubicBezTo>
                  <a:pt x="5564" y="11362"/>
                  <a:pt x="5598" y="11393"/>
                  <a:pt x="5606" y="11410"/>
                </a:cubicBezTo>
                <a:cubicBezTo>
                  <a:pt x="5623" y="11445"/>
                  <a:pt x="5632" y="11435"/>
                  <a:pt x="5680" y="11435"/>
                </a:cubicBezTo>
                <a:cubicBezTo>
                  <a:pt x="5750" y="11435"/>
                  <a:pt x="5796" y="11441"/>
                  <a:pt x="5854" y="11460"/>
                </a:cubicBezTo>
                <a:cubicBezTo>
                  <a:pt x="5894" y="11473"/>
                  <a:pt x="5956" y="11486"/>
                  <a:pt x="5978" y="11534"/>
                </a:cubicBezTo>
                <a:cubicBezTo>
                  <a:pt x="5983" y="11544"/>
                  <a:pt x="6029" y="11627"/>
                  <a:pt x="6028" y="11633"/>
                </a:cubicBezTo>
                <a:cubicBezTo>
                  <a:pt x="6019" y="11716"/>
                  <a:pt x="5978" y="11741"/>
                  <a:pt x="5928" y="11782"/>
                </a:cubicBezTo>
                <a:cubicBezTo>
                  <a:pt x="5907" y="11799"/>
                  <a:pt x="5832" y="11840"/>
                  <a:pt x="5804" y="11832"/>
                </a:cubicBezTo>
                <a:cubicBezTo>
                  <a:pt x="5753" y="11817"/>
                  <a:pt x="5700" y="11796"/>
                  <a:pt x="5655" y="11782"/>
                </a:cubicBezTo>
                <a:cubicBezTo>
                  <a:pt x="5611" y="11768"/>
                  <a:pt x="5580" y="11751"/>
                  <a:pt x="5556" y="11733"/>
                </a:cubicBezTo>
                <a:cubicBezTo>
                  <a:pt x="5480" y="11677"/>
                  <a:pt x="5559" y="11735"/>
                  <a:pt x="5507" y="11708"/>
                </a:cubicBezTo>
                <a:cubicBezTo>
                  <a:pt x="5499" y="11700"/>
                  <a:pt x="5490" y="11691"/>
                  <a:pt x="5482" y="11683"/>
                </a:cubicBezTo>
              </a:path>
              <a:path w="21556" h="3548">
                <a:moveTo>
                  <a:pt x="6400" y="11708"/>
                </a:moveTo>
                <a:cubicBezTo>
                  <a:pt x="6421" y="11664"/>
                  <a:pt x="6424" y="11652"/>
                  <a:pt x="6449" y="11633"/>
                </a:cubicBezTo>
                <a:cubicBezTo>
                  <a:pt x="6477" y="11642"/>
                  <a:pt x="6496" y="11667"/>
                  <a:pt x="6499" y="11708"/>
                </a:cubicBezTo>
                <a:cubicBezTo>
                  <a:pt x="6514" y="11921"/>
                  <a:pt x="6499" y="12140"/>
                  <a:pt x="6499" y="12353"/>
                </a:cubicBezTo>
              </a:path>
              <a:path w="21556" h="3548">
                <a:moveTo>
                  <a:pt x="6176" y="11956"/>
                </a:moveTo>
                <a:cubicBezTo>
                  <a:pt x="6273" y="11956"/>
                  <a:pt x="6359" y="11969"/>
                  <a:pt x="6449" y="11981"/>
                </a:cubicBezTo>
                <a:cubicBezTo>
                  <a:pt x="6544" y="11994"/>
                  <a:pt x="6651" y="11981"/>
                  <a:pt x="6747" y="11981"/>
                </a:cubicBezTo>
              </a:path>
              <a:path w="21556" h="3548">
                <a:moveTo>
                  <a:pt x="6821" y="11485"/>
                </a:moveTo>
                <a:cubicBezTo>
                  <a:pt x="6900" y="11485"/>
                  <a:pt x="6947" y="11497"/>
                  <a:pt x="7020" y="11509"/>
                </a:cubicBezTo>
                <a:cubicBezTo>
                  <a:pt x="7122" y="11525"/>
                  <a:pt x="7238" y="11509"/>
                  <a:pt x="7342" y="11509"/>
                </a:cubicBezTo>
                <a:cubicBezTo>
                  <a:pt x="7328" y="11546"/>
                  <a:pt x="7320" y="11566"/>
                  <a:pt x="7317" y="11609"/>
                </a:cubicBezTo>
                <a:cubicBezTo>
                  <a:pt x="7313" y="11681"/>
                  <a:pt x="7304" y="11740"/>
                  <a:pt x="7293" y="11807"/>
                </a:cubicBezTo>
                <a:cubicBezTo>
                  <a:pt x="7277" y="11909"/>
                  <a:pt x="7279" y="12028"/>
                  <a:pt x="7268" y="12129"/>
                </a:cubicBezTo>
                <a:cubicBezTo>
                  <a:pt x="7241" y="12368"/>
                  <a:pt x="7170" y="13030"/>
                  <a:pt x="7293" y="12824"/>
                </a:cubicBezTo>
                <a:cubicBezTo>
                  <a:pt x="7293" y="12799"/>
                  <a:pt x="7293" y="12791"/>
                  <a:pt x="7293" y="12774"/>
                </a:cubicBezTo>
              </a:path>
              <a:path w="21556" h="3548">
                <a:moveTo>
                  <a:pt x="7466" y="11757"/>
                </a:moveTo>
                <a:cubicBezTo>
                  <a:pt x="7509" y="11585"/>
                  <a:pt x="7479" y="11640"/>
                  <a:pt x="7590" y="11584"/>
                </a:cubicBezTo>
                <a:cubicBezTo>
                  <a:pt x="7661" y="11548"/>
                  <a:pt x="7667" y="11551"/>
                  <a:pt x="7739" y="11559"/>
                </a:cubicBezTo>
                <a:cubicBezTo>
                  <a:pt x="7821" y="11569"/>
                  <a:pt x="7849" y="11573"/>
                  <a:pt x="7888" y="11633"/>
                </a:cubicBezTo>
                <a:cubicBezTo>
                  <a:pt x="7943" y="11717"/>
                  <a:pt x="7882" y="11710"/>
                  <a:pt x="7863" y="11782"/>
                </a:cubicBezTo>
                <a:cubicBezTo>
                  <a:pt x="7839" y="11871"/>
                  <a:pt x="7836" y="11896"/>
                  <a:pt x="7764" y="11956"/>
                </a:cubicBezTo>
                <a:cubicBezTo>
                  <a:pt x="7739" y="11977"/>
                  <a:pt x="7650" y="12040"/>
                  <a:pt x="7640" y="12055"/>
                </a:cubicBezTo>
                <a:cubicBezTo>
                  <a:pt x="7640" y="12080"/>
                  <a:pt x="7640" y="12088"/>
                  <a:pt x="7615" y="12080"/>
                </a:cubicBezTo>
                <a:cubicBezTo>
                  <a:pt x="7626" y="12048"/>
                  <a:pt x="7649" y="12040"/>
                  <a:pt x="7689" y="12030"/>
                </a:cubicBezTo>
                <a:cubicBezTo>
                  <a:pt x="7743" y="12016"/>
                  <a:pt x="7809" y="12061"/>
                  <a:pt x="7838" y="12105"/>
                </a:cubicBezTo>
                <a:cubicBezTo>
                  <a:pt x="7890" y="12185"/>
                  <a:pt x="7914" y="12263"/>
                  <a:pt x="7938" y="12353"/>
                </a:cubicBezTo>
                <a:cubicBezTo>
                  <a:pt x="7958" y="12428"/>
                  <a:pt x="7957" y="12505"/>
                  <a:pt x="7913" y="12576"/>
                </a:cubicBezTo>
                <a:cubicBezTo>
                  <a:pt x="7882" y="12627"/>
                  <a:pt x="7820" y="12661"/>
                  <a:pt x="7764" y="12675"/>
                </a:cubicBezTo>
                <a:cubicBezTo>
                  <a:pt x="7720" y="12686"/>
                  <a:pt x="7594" y="12693"/>
                  <a:pt x="7565" y="12650"/>
                </a:cubicBezTo>
                <a:cubicBezTo>
                  <a:pt x="7533" y="12604"/>
                  <a:pt x="7543" y="12579"/>
                  <a:pt x="7565" y="12526"/>
                </a:cubicBezTo>
              </a:path>
              <a:path w="21556" h="3548">
                <a:moveTo>
                  <a:pt x="8136" y="11559"/>
                </a:moveTo>
                <a:cubicBezTo>
                  <a:pt x="8222" y="11559"/>
                  <a:pt x="8280" y="11566"/>
                  <a:pt x="8359" y="11584"/>
                </a:cubicBezTo>
                <a:cubicBezTo>
                  <a:pt x="8386" y="11590"/>
                  <a:pt x="8489" y="11616"/>
                  <a:pt x="8508" y="11609"/>
                </a:cubicBezTo>
                <a:cubicBezTo>
                  <a:pt x="8531" y="11586"/>
                  <a:pt x="8539" y="11582"/>
                  <a:pt x="8533" y="11559"/>
                </a:cubicBezTo>
              </a:path>
              <a:path w="21556" h="3548">
                <a:moveTo>
                  <a:pt x="8235" y="11534"/>
                </a:moveTo>
                <a:cubicBezTo>
                  <a:pt x="8176" y="11606"/>
                  <a:pt x="8128" y="11673"/>
                  <a:pt x="8111" y="11757"/>
                </a:cubicBezTo>
                <a:cubicBezTo>
                  <a:pt x="8106" y="11784"/>
                  <a:pt x="8125" y="11880"/>
                  <a:pt x="8136" y="11906"/>
                </a:cubicBezTo>
                <a:cubicBezTo>
                  <a:pt x="8149" y="11937"/>
                  <a:pt x="8171" y="11981"/>
                  <a:pt x="8210" y="11981"/>
                </a:cubicBezTo>
                <a:cubicBezTo>
                  <a:pt x="8247" y="11981"/>
                  <a:pt x="8233" y="11959"/>
                  <a:pt x="8285" y="11956"/>
                </a:cubicBezTo>
                <a:cubicBezTo>
                  <a:pt x="8330" y="11953"/>
                  <a:pt x="8350" y="11952"/>
                  <a:pt x="8384" y="11981"/>
                </a:cubicBezTo>
                <a:cubicBezTo>
                  <a:pt x="8438" y="12027"/>
                  <a:pt x="8466" y="12074"/>
                  <a:pt x="8508" y="12154"/>
                </a:cubicBezTo>
                <a:cubicBezTo>
                  <a:pt x="8545" y="12225"/>
                  <a:pt x="8554" y="12322"/>
                  <a:pt x="8558" y="12402"/>
                </a:cubicBezTo>
                <a:cubicBezTo>
                  <a:pt x="8562" y="12477"/>
                  <a:pt x="8520" y="12585"/>
                  <a:pt x="8483" y="12650"/>
                </a:cubicBezTo>
                <a:cubicBezTo>
                  <a:pt x="8460" y="12690"/>
                  <a:pt x="8378" y="12762"/>
                  <a:pt x="8334" y="12774"/>
                </a:cubicBezTo>
                <a:cubicBezTo>
                  <a:pt x="8266" y="12792"/>
                  <a:pt x="8169" y="12764"/>
                  <a:pt x="8136" y="12750"/>
                </a:cubicBezTo>
                <a:cubicBezTo>
                  <a:pt x="8099" y="12734"/>
                  <a:pt x="8073" y="12728"/>
                  <a:pt x="8086" y="12675"/>
                </a:cubicBezTo>
                <a:cubicBezTo>
                  <a:pt x="8094" y="12659"/>
                  <a:pt x="8103" y="12642"/>
                  <a:pt x="8111" y="12626"/>
                </a:cubicBezTo>
              </a:path>
              <a:path w="21556" h="3548">
                <a:moveTo>
                  <a:pt x="8731" y="12229"/>
                </a:moveTo>
                <a:cubicBezTo>
                  <a:pt x="8731" y="12336"/>
                  <a:pt x="8738" y="12436"/>
                  <a:pt x="8756" y="12526"/>
                </a:cubicBezTo>
                <a:cubicBezTo>
                  <a:pt x="8768" y="12587"/>
                  <a:pt x="8784" y="12624"/>
                  <a:pt x="8830" y="12675"/>
                </a:cubicBezTo>
                <a:cubicBezTo>
                  <a:pt x="8855" y="12703"/>
                  <a:pt x="8892" y="12709"/>
                  <a:pt x="8930" y="12700"/>
                </a:cubicBezTo>
                <a:cubicBezTo>
                  <a:pt x="8978" y="12689"/>
                  <a:pt x="9003" y="12644"/>
                  <a:pt x="9029" y="12601"/>
                </a:cubicBezTo>
                <a:cubicBezTo>
                  <a:pt x="9054" y="12559"/>
                  <a:pt x="9093" y="12474"/>
                  <a:pt x="9103" y="12427"/>
                </a:cubicBezTo>
                <a:cubicBezTo>
                  <a:pt x="9117" y="12362"/>
                  <a:pt x="9125" y="12296"/>
                  <a:pt x="9128" y="12229"/>
                </a:cubicBezTo>
                <a:cubicBezTo>
                  <a:pt x="9128" y="12204"/>
                  <a:pt x="9128" y="12196"/>
                  <a:pt x="9128" y="12179"/>
                </a:cubicBezTo>
                <a:cubicBezTo>
                  <a:pt x="9128" y="12212"/>
                  <a:pt x="9128" y="12196"/>
                  <a:pt x="9128" y="12229"/>
                </a:cubicBezTo>
                <a:cubicBezTo>
                  <a:pt x="9128" y="12302"/>
                  <a:pt x="9149" y="12353"/>
                  <a:pt x="9153" y="12427"/>
                </a:cubicBezTo>
                <a:cubicBezTo>
                  <a:pt x="9157" y="12519"/>
                  <a:pt x="9158" y="12612"/>
                  <a:pt x="9178" y="12700"/>
                </a:cubicBezTo>
                <a:cubicBezTo>
                  <a:pt x="9202" y="12807"/>
                  <a:pt x="9206" y="12915"/>
                  <a:pt x="9227" y="13022"/>
                </a:cubicBezTo>
                <a:cubicBezTo>
                  <a:pt x="9246" y="13119"/>
                  <a:pt x="9292" y="13245"/>
                  <a:pt x="9277" y="13345"/>
                </a:cubicBezTo>
                <a:cubicBezTo>
                  <a:pt x="9263" y="13440"/>
                  <a:pt x="9238" y="13541"/>
                  <a:pt x="9178" y="13618"/>
                </a:cubicBezTo>
                <a:cubicBezTo>
                  <a:pt x="9133" y="13676"/>
                  <a:pt x="9049" y="13689"/>
                  <a:pt x="8979" y="13692"/>
                </a:cubicBezTo>
                <a:cubicBezTo>
                  <a:pt x="8910" y="13695"/>
                  <a:pt x="8794" y="13674"/>
                  <a:pt x="8731" y="13643"/>
                </a:cubicBezTo>
                <a:cubicBezTo>
                  <a:pt x="8675" y="13615"/>
                  <a:pt x="8621" y="13558"/>
                  <a:pt x="8607" y="13494"/>
                </a:cubicBezTo>
                <a:cubicBezTo>
                  <a:pt x="8593" y="13431"/>
                  <a:pt x="8613" y="13377"/>
                  <a:pt x="8632" y="13320"/>
                </a:cubicBezTo>
              </a:path>
              <a:path w="21556" h="3548">
                <a:moveTo>
                  <a:pt x="9178" y="11460"/>
                </a:moveTo>
                <a:cubicBezTo>
                  <a:pt x="9199" y="11487"/>
                  <a:pt x="9217" y="11520"/>
                  <a:pt x="9203" y="11559"/>
                </a:cubicBezTo>
                <a:cubicBezTo>
                  <a:pt x="9178" y="11630"/>
                  <a:pt x="9166" y="11673"/>
                  <a:pt x="9178" y="11733"/>
                </a:cubicBezTo>
                <a:cubicBezTo>
                  <a:pt x="9185" y="11769"/>
                  <a:pt x="9203" y="11764"/>
                  <a:pt x="9227" y="11782"/>
                </a:cubicBezTo>
                <a:cubicBezTo>
                  <a:pt x="9271" y="11815"/>
                  <a:pt x="9311" y="11785"/>
                  <a:pt x="9351" y="11807"/>
                </a:cubicBezTo>
                <a:cubicBezTo>
                  <a:pt x="9378" y="11822"/>
                  <a:pt x="9439" y="11827"/>
                  <a:pt x="9475" y="11807"/>
                </a:cubicBezTo>
                <a:cubicBezTo>
                  <a:pt x="9501" y="11792"/>
                  <a:pt x="9514" y="11733"/>
                  <a:pt x="9525" y="11708"/>
                </a:cubicBezTo>
              </a:path>
              <a:path w="21556" h="3548">
                <a:moveTo>
                  <a:pt x="9475" y="11162"/>
                </a:moveTo>
                <a:cubicBezTo>
                  <a:pt x="9462" y="11215"/>
                  <a:pt x="9451" y="11248"/>
                  <a:pt x="9451" y="11311"/>
                </a:cubicBezTo>
                <a:cubicBezTo>
                  <a:pt x="9451" y="11438"/>
                  <a:pt x="9463" y="11560"/>
                  <a:pt x="9475" y="11683"/>
                </a:cubicBezTo>
                <a:cubicBezTo>
                  <a:pt x="9485" y="11781"/>
                  <a:pt x="9474" y="11886"/>
                  <a:pt x="9500" y="11981"/>
                </a:cubicBezTo>
                <a:cubicBezTo>
                  <a:pt x="9514" y="12031"/>
                  <a:pt x="9525" y="12051"/>
                  <a:pt x="9525" y="12105"/>
                </a:cubicBezTo>
              </a:path>
              <a:path w="21556" h="3548">
                <a:moveTo>
                  <a:pt x="9699" y="12402"/>
                </a:moveTo>
                <a:cubicBezTo>
                  <a:pt x="9815" y="12402"/>
                  <a:pt x="9930" y="12402"/>
                  <a:pt x="10046" y="12402"/>
                </a:cubicBezTo>
              </a:path>
              <a:path w="21556" h="3548">
                <a:moveTo>
                  <a:pt x="10492" y="11807"/>
                </a:moveTo>
                <a:cubicBezTo>
                  <a:pt x="10492" y="11799"/>
                  <a:pt x="10492" y="11790"/>
                  <a:pt x="10492" y="11782"/>
                </a:cubicBezTo>
                <a:cubicBezTo>
                  <a:pt x="10468" y="11824"/>
                  <a:pt x="10450" y="11905"/>
                  <a:pt x="10443" y="11956"/>
                </a:cubicBezTo>
                <a:cubicBezTo>
                  <a:pt x="10428" y="12067"/>
                  <a:pt x="10420" y="12195"/>
                  <a:pt x="10393" y="12303"/>
                </a:cubicBezTo>
                <a:cubicBezTo>
                  <a:pt x="10370" y="12393"/>
                  <a:pt x="10370" y="12458"/>
                  <a:pt x="10393" y="12551"/>
                </a:cubicBezTo>
                <a:cubicBezTo>
                  <a:pt x="10411" y="12621"/>
                  <a:pt x="10449" y="12693"/>
                  <a:pt x="10492" y="12750"/>
                </a:cubicBezTo>
                <a:cubicBezTo>
                  <a:pt x="10523" y="12791"/>
                  <a:pt x="10594" y="12774"/>
                  <a:pt x="10641" y="12774"/>
                </a:cubicBezTo>
                <a:cubicBezTo>
                  <a:pt x="10709" y="12774"/>
                  <a:pt x="10760" y="12738"/>
                  <a:pt x="10790" y="12675"/>
                </a:cubicBezTo>
                <a:cubicBezTo>
                  <a:pt x="10853" y="12541"/>
                  <a:pt x="10843" y="12540"/>
                  <a:pt x="10815" y="12427"/>
                </a:cubicBezTo>
                <a:cubicBezTo>
                  <a:pt x="10811" y="12410"/>
                  <a:pt x="10774" y="12363"/>
                  <a:pt x="10740" y="12378"/>
                </a:cubicBezTo>
                <a:cubicBezTo>
                  <a:pt x="10680" y="12404"/>
                  <a:pt x="10683" y="12416"/>
                  <a:pt x="10666" y="12477"/>
                </a:cubicBezTo>
                <a:cubicBezTo>
                  <a:pt x="10638" y="12580"/>
                  <a:pt x="10650" y="12584"/>
                  <a:pt x="10666" y="12675"/>
                </a:cubicBezTo>
                <a:cubicBezTo>
                  <a:pt x="10677" y="12737"/>
                  <a:pt x="10671" y="12730"/>
                  <a:pt x="10716" y="12774"/>
                </a:cubicBezTo>
              </a:path>
              <a:path w="21556" h="3548">
                <a:moveTo>
                  <a:pt x="11286" y="12055"/>
                </a:moveTo>
                <a:cubicBezTo>
                  <a:pt x="11282" y="12006"/>
                  <a:pt x="11284" y="11877"/>
                  <a:pt x="11187" y="11881"/>
                </a:cubicBezTo>
                <a:cubicBezTo>
                  <a:pt x="11139" y="11883"/>
                  <a:pt x="11073" y="11903"/>
                  <a:pt x="11038" y="11931"/>
                </a:cubicBezTo>
                <a:cubicBezTo>
                  <a:pt x="11009" y="11955"/>
                  <a:pt x="10979" y="12017"/>
                  <a:pt x="10988" y="12055"/>
                </a:cubicBezTo>
                <a:cubicBezTo>
                  <a:pt x="11008" y="12141"/>
                  <a:pt x="11064" y="12229"/>
                  <a:pt x="11112" y="12303"/>
                </a:cubicBezTo>
                <a:cubicBezTo>
                  <a:pt x="11180" y="12407"/>
                  <a:pt x="11243" y="12500"/>
                  <a:pt x="11261" y="12626"/>
                </a:cubicBezTo>
                <a:cubicBezTo>
                  <a:pt x="11270" y="12690"/>
                  <a:pt x="11265" y="12779"/>
                  <a:pt x="11212" y="12824"/>
                </a:cubicBezTo>
                <a:cubicBezTo>
                  <a:pt x="11179" y="12852"/>
                  <a:pt x="11127" y="12842"/>
                  <a:pt x="11088" y="12824"/>
                </a:cubicBezTo>
                <a:cubicBezTo>
                  <a:pt x="11023" y="12793"/>
                  <a:pt x="11018" y="12611"/>
                  <a:pt x="11013" y="12576"/>
                </a:cubicBezTo>
                <a:cubicBezTo>
                  <a:pt x="11003" y="12498"/>
                  <a:pt x="11039" y="12391"/>
                  <a:pt x="11088" y="12328"/>
                </a:cubicBezTo>
                <a:cubicBezTo>
                  <a:pt x="11143" y="12256"/>
                  <a:pt x="11192" y="12185"/>
                  <a:pt x="11237" y="12105"/>
                </a:cubicBezTo>
                <a:cubicBezTo>
                  <a:pt x="11275" y="12039"/>
                  <a:pt x="11321" y="11993"/>
                  <a:pt x="11361" y="11931"/>
                </a:cubicBezTo>
                <a:cubicBezTo>
                  <a:pt x="11389" y="11889"/>
                  <a:pt x="11399" y="11867"/>
                  <a:pt x="11435" y="11832"/>
                </a:cubicBezTo>
                <a:cubicBezTo>
                  <a:pt x="11430" y="11879"/>
                  <a:pt x="11417" y="11912"/>
                  <a:pt x="11410" y="11956"/>
                </a:cubicBezTo>
                <a:cubicBezTo>
                  <a:pt x="11398" y="12030"/>
                  <a:pt x="11389" y="12105"/>
                  <a:pt x="11385" y="12179"/>
                </a:cubicBezTo>
                <a:cubicBezTo>
                  <a:pt x="11381" y="12263"/>
                  <a:pt x="11345" y="12340"/>
                  <a:pt x="11361" y="12427"/>
                </a:cubicBezTo>
                <a:cubicBezTo>
                  <a:pt x="11376" y="12505"/>
                  <a:pt x="11395" y="12604"/>
                  <a:pt x="11435" y="12675"/>
                </a:cubicBezTo>
                <a:cubicBezTo>
                  <a:pt x="11463" y="12725"/>
                  <a:pt x="11493" y="12750"/>
                  <a:pt x="11534" y="12774"/>
                </a:cubicBezTo>
                <a:cubicBezTo>
                  <a:pt x="11602" y="12814"/>
                  <a:pt x="11611" y="12772"/>
                  <a:pt x="11658" y="12725"/>
                </a:cubicBezTo>
                <a:cubicBezTo>
                  <a:pt x="11694" y="12689"/>
                  <a:pt x="11724" y="12645"/>
                  <a:pt x="11733" y="12601"/>
                </a:cubicBezTo>
                <a:cubicBezTo>
                  <a:pt x="11742" y="12554"/>
                  <a:pt x="11726" y="12491"/>
                  <a:pt x="11708" y="12452"/>
                </a:cubicBezTo>
                <a:cubicBezTo>
                  <a:pt x="11685" y="12429"/>
                  <a:pt x="11681" y="12421"/>
                  <a:pt x="11658" y="12427"/>
                </a:cubicBezTo>
                <a:cubicBezTo>
                  <a:pt x="11642" y="12455"/>
                  <a:pt x="11591" y="12515"/>
                  <a:pt x="11584" y="12551"/>
                </a:cubicBezTo>
                <a:cubicBezTo>
                  <a:pt x="11572" y="12619"/>
                  <a:pt x="11571" y="12721"/>
                  <a:pt x="11609" y="12774"/>
                </a:cubicBezTo>
                <a:cubicBezTo>
                  <a:pt x="11609" y="12799"/>
                  <a:pt x="11609" y="12807"/>
                  <a:pt x="11633" y="12799"/>
                </a:cubicBezTo>
              </a:path>
              <a:path w="21556" h="3548">
                <a:moveTo>
                  <a:pt x="11906" y="11857"/>
                </a:moveTo>
                <a:cubicBezTo>
                  <a:pt x="11885" y="11932"/>
                  <a:pt x="11858" y="12007"/>
                  <a:pt x="11832" y="12080"/>
                </a:cubicBezTo>
                <a:cubicBezTo>
                  <a:pt x="11799" y="12173"/>
                  <a:pt x="11786" y="12280"/>
                  <a:pt x="11782" y="12378"/>
                </a:cubicBezTo>
                <a:cubicBezTo>
                  <a:pt x="11779" y="12472"/>
                  <a:pt x="11773" y="12562"/>
                  <a:pt x="11807" y="12650"/>
                </a:cubicBezTo>
                <a:cubicBezTo>
                  <a:pt x="11838" y="12730"/>
                  <a:pt x="11895" y="12753"/>
                  <a:pt x="11956" y="12799"/>
                </a:cubicBezTo>
                <a:cubicBezTo>
                  <a:pt x="11977" y="12814"/>
                  <a:pt x="12075" y="12850"/>
                  <a:pt x="12105" y="12824"/>
                </a:cubicBezTo>
                <a:cubicBezTo>
                  <a:pt x="12154" y="12782"/>
                  <a:pt x="12180" y="12682"/>
                  <a:pt x="12204" y="12626"/>
                </a:cubicBezTo>
                <a:cubicBezTo>
                  <a:pt x="12246" y="12529"/>
                  <a:pt x="12254" y="12460"/>
                  <a:pt x="12254" y="12353"/>
                </a:cubicBezTo>
                <a:cubicBezTo>
                  <a:pt x="12254" y="12244"/>
                  <a:pt x="12218" y="12157"/>
                  <a:pt x="12179" y="12055"/>
                </a:cubicBezTo>
                <a:cubicBezTo>
                  <a:pt x="12121" y="11902"/>
                  <a:pt x="12096" y="11912"/>
                  <a:pt x="11981" y="11832"/>
                </a:cubicBezTo>
                <a:cubicBezTo>
                  <a:pt x="11950" y="11810"/>
                  <a:pt x="11873" y="11781"/>
                  <a:pt x="11832" y="11807"/>
                </a:cubicBezTo>
                <a:cubicBezTo>
                  <a:pt x="11832" y="11815"/>
                  <a:pt x="11832" y="11824"/>
                  <a:pt x="11832" y="11832"/>
                </a:cubicBezTo>
              </a:path>
              <a:path w="21556" h="3548">
                <a:moveTo>
                  <a:pt x="12278" y="12303"/>
                </a:moveTo>
                <a:cubicBezTo>
                  <a:pt x="12313" y="12395"/>
                  <a:pt x="12293" y="12363"/>
                  <a:pt x="12278" y="12452"/>
                </a:cubicBezTo>
                <a:cubicBezTo>
                  <a:pt x="12267" y="12520"/>
                  <a:pt x="12292" y="12573"/>
                  <a:pt x="12303" y="12626"/>
                </a:cubicBezTo>
                <a:cubicBezTo>
                  <a:pt x="12314" y="12680"/>
                  <a:pt x="12324" y="12716"/>
                  <a:pt x="12378" y="12750"/>
                </a:cubicBezTo>
                <a:cubicBezTo>
                  <a:pt x="12429" y="12782"/>
                  <a:pt x="12459" y="12784"/>
                  <a:pt x="12502" y="12750"/>
                </a:cubicBezTo>
                <a:cubicBezTo>
                  <a:pt x="12524" y="12732"/>
                  <a:pt x="12551" y="12690"/>
                  <a:pt x="12576" y="12650"/>
                </a:cubicBezTo>
                <a:cubicBezTo>
                  <a:pt x="12612" y="12590"/>
                  <a:pt x="12629" y="12562"/>
                  <a:pt x="12650" y="12502"/>
                </a:cubicBezTo>
                <a:cubicBezTo>
                  <a:pt x="12663" y="12465"/>
                  <a:pt x="12669" y="12444"/>
                  <a:pt x="12675" y="12402"/>
                </a:cubicBezTo>
                <a:cubicBezTo>
                  <a:pt x="12655" y="12476"/>
                  <a:pt x="12654" y="12476"/>
                  <a:pt x="12650" y="12576"/>
                </a:cubicBezTo>
                <a:cubicBezTo>
                  <a:pt x="12643" y="12745"/>
                  <a:pt x="12658" y="12907"/>
                  <a:pt x="12675" y="13072"/>
                </a:cubicBezTo>
                <a:cubicBezTo>
                  <a:pt x="12687" y="13195"/>
                  <a:pt x="12696" y="13321"/>
                  <a:pt x="12700" y="13444"/>
                </a:cubicBezTo>
                <a:cubicBezTo>
                  <a:pt x="12703" y="13545"/>
                  <a:pt x="12739" y="13762"/>
                  <a:pt x="12675" y="13841"/>
                </a:cubicBezTo>
                <a:cubicBezTo>
                  <a:pt x="12632" y="13895"/>
                  <a:pt x="12616" y="13887"/>
                  <a:pt x="12551" y="13891"/>
                </a:cubicBezTo>
                <a:cubicBezTo>
                  <a:pt x="12491" y="13894"/>
                  <a:pt x="12426" y="13812"/>
                  <a:pt x="12378" y="13767"/>
                </a:cubicBezTo>
                <a:cubicBezTo>
                  <a:pt x="12261" y="13656"/>
                  <a:pt x="12262" y="13549"/>
                  <a:pt x="12254" y="13395"/>
                </a:cubicBezTo>
              </a:path>
              <a:path w="21556" h="3548">
                <a:moveTo>
                  <a:pt x="12576" y="11633"/>
                </a:moveTo>
                <a:cubicBezTo>
                  <a:pt x="12597" y="11602"/>
                  <a:pt x="12633" y="11568"/>
                  <a:pt x="12650" y="11559"/>
                </a:cubicBezTo>
                <a:cubicBezTo>
                  <a:pt x="12695" y="11537"/>
                  <a:pt x="12762" y="11575"/>
                  <a:pt x="12799" y="11584"/>
                </a:cubicBezTo>
                <a:cubicBezTo>
                  <a:pt x="12863" y="11600"/>
                  <a:pt x="12873" y="11583"/>
                  <a:pt x="12923" y="11633"/>
                </a:cubicBezTo>
                <a:cubicBezTo>
                  <a:pt x="12971" y="11681"/>
                  <a:pt x="12939" y="11687"/>
                  <a:pt x="12923" y="11733"/>
                </a:cubicBezTo>
                <a:cubicBezTo>
                  <a:pt x="12906" y="11783"/>
                  <a:pt x="12887" y="11782"/>
                  <a:pt x="12849" y="11807"/>
                </a:cubicBezTo>
                <a:cubicBezTo>
                  <a:pt x="12817" y="11828"/>
                  <a:pt x="12782" y="11859"/>
                  <a:pt x="12774" y="11881"/>
                </a:cubicBezTo>
                <a:cubicBezTo>
                  <a:pt x="12788" y="11841"/>
                  <a:pt x="12815" y="11851"/>
                  <a:pt x="12849" y="11881"/>
                </a:cubicBezTo>
                <a:cubicBezTo>
                  <a:pt x="12893" y="11920"/>
                  <a:pt x="12905" y="11910"/>
                  <a:pt x="12923" y="11981"/>
                </a:cubicBezTo>
                <a:cubicBezTo>
                  <a:pt x="12940" y="12048"/>
                  <a:pt x="12914" y="12126"/>
                  <a:pt x="12898" y="12179"/>
                </a:cubicBezTo>
                <a:cubicBezTo>
                  <a:pt x="12887" y="12217"/>
                  <a:pt x="12868" y="12204"/>
                  <a:pt x="12824" y="12204"/>
                </a:cubicBezTo>
                <a:cubicBezTo>
                  <a:pt x="12772" y="12204"/>
                  <a:pt x="12771" y="12190"/>
                  <a:pt x="12750" y="12179"/>
                </a:cubicBezTo>
                <a:cubicBezTo>
                  <a:pt x="12728" y="12168"/>
                  <a:pt x="12681" y="12157"/>
                  <a:pt x="12675" y="12154"/>
                </a:cubicBezTo>
                <a:cubicBezTo>
                  <a:pt x="12652" y="12143"/>
                  <a:pt x="12627" y="12135"/>
                  <a:pt x="12601" y="12129"/>
                </a:cubicBezTo>
              </a:path>
              <a:path w="21556" h="3548">
                <a:moveTo>
                  <a:pt x="13395" y="12105"/>
                </a:moveTo>
                <a:cubicBezTo>
                  <a:pt x="13395" y="12150"/>
                  <a:pt x="13416" y="12164"/>
                  <a:pt x="13419" y="12204"/>
                </a:cubicBezTo>
                <a:cubicBezTo>
                  <a:pt x="13424" y="12275"/>
                  <a:pt x="13440" y="12334"/>
                  <a:pt x="13444" y="12402"/>
                </a:cubicBezTo>
                <a:cubicBezTo>
                  <a:pt x="13449" y="12492"/>
                  <a:pt x="13444" y="12584"/>
                  <a:pt x="13444" y="12675"/>
                </a:cubicBezTo>
              </a:path>
              <a:path w="21556" h="3548">
                <a:moveTo>
                  <a:pt x="13221" y="12402"/>
                </a:moveTo>
                <a:cubicBezTo>
                  <a:pt x="13259" y="12412"/>
                  <a:pt x="13305" y="12414"/>
                  <a:pt x="13345" y="12427"/>
                </a:cubicBezTo>
                <a:cubicBezTo>
                  <a:pt x="13416" y="12451"/>
                  <a:pt x="13466" y="12452"/>
                  <a:pt x="13543" y="12452"/>
                </a:cubicBezTo>
              </a:path>
              <a:path w="21556" h="3548">
                <a:moveTo>
                  <a:pt x="13791" y="12055"/>
                </a:moveTo>
                <a:cubicBezTo>
                  <a:pt x="13804" y="12017"/>
                  <a:pt x="13821" y="12030"/>
                  <a:pt x="13866" y="12030"/>
                </a:cubicBezTo>
                <a:cubicBezTo>
                  <a:pt x="13906" y="12030"/>
                  <a:pt x="13959" y="12036"/>
                  <a:pt x="13990" y="12055"/>
                </a:cubicBezTo>
                <a:cubicBezTo>
                  <a:pt x="14042" y="12086"/>
                  <a:pt x="14039" y="12125"/>
                  <a:pt x="14039" y="12179"/>
                </a:cubicBezTo>
                <a:cubicBezTo>
                  <a:pt x="14039" y="12223"/>
                  <a:pt x="13995" y="12248"/>
                  <a:pt x="13965" y="12278"/>
                </a:cubicBezTo>
                <a:cubicBezTo>
                  <a:pt x="13926" y="12317"/>
                  <a:pt x="13899" y="12347"/>
                  <a:pt x="13841" y="12353"/>
                </a:cubicBezTo>
                <a:cubicBezTo>
                  <a:pt x="13813" y="12353"/>
                  <a:pt x="13802" y="12355"/>
                  <a:pt x="13791" y="12378"/>
                </a:cubicBezTo>
                <a:cubicBezTo>
                  <a:pt x="13830" y="12349"/>
                  <a:pt x="13850" y="12351"/>
                  <a:pt x="13891" y="12378"/>
                </a:cubicBezTo>
                <a:cubicBezTo>
                  <a:pt x="13921" y="12398"/>
                  <a:pt x="13994" y="12496"/>
                  <a:pt x="14015" y="12526"/>
                </a:cubicBezTo>
                <a:cubicBezTo>
                  <a:pt x="14050" y="12576"/>
                  <a:pt x="14060" y="12667"/>
                  <a:pt x="14064" y="12725"/>
                </a:cubicBezTo>
                <a:cubicBezTo>
                  <a:pt x="14071" y="12816"/>
                  <a:pt x="14014" y="12800"/>
                  <a:pt x="13965" y="12824"/>
                </a:cubicBezTo>
                <a:cubicBezTo>
                  <a:pt x="13921" y="12846"/>
                  <a:pt x="13875" y="12865"/>
                  <a:pt x="13816" y="12849"/>
                </a:cubicBezTo>
                <a:cubicBezTo>
                  <a:pt x="13760" y="12833"/>
                  <a:pt x="13732" y="12813"/>
                  <a:pt x="13692" y="12774"/>
                </a:cubicBezTo>
                <a:cubicBezTo>
                  <a:pt x="13646" y="12729"/>
                  <a:pt x="13672" y="12717"/>
                  <a:pt x="13692" y="12650"/>
                </a:cubicBezTo>
              </a:path>
              <a:path w="21556" h="3548">
                <a:moveTo>
                  <a:pt x="14188" y="12080"/>
                </a:moveTo>
                <a:cubicBezTo>
                  <a:pt x="14188" y="12143"/>
                  <a:pt x="14173" y="12172"/>
                  <a:pt x="14163" y="12229"/>
                </a:cubicBezTo>
                <a:cubicBezTo>
                  <a:pt x="14151" y="12297"/>
                  <a:pt x="14139" y="12355"/>
                  <a:pt x="14139" y="12427"/>
                </a:cubicBezTo>
                <a:cubicBezTo>
                  <a:pt x="14139" y="12525"/>
                  <a:pt x="14148" y="12609"/>
                  <a:pt x="14163" y="12700"/>
                </a:cubicBezTo>
                <a:cubicBezTo>
                  <a:pt x="14174" y="12767"/>
                  <a:pt x="14189" y="12775"/>
                  <a:pt x="14238" y="12824"/>
                </a:cubicBezTo>
                <a:cubicBezTo>
                  <a:pt x="14274" y="12860"/>
                  <a:pt x="14313" y="12849"/>
                  <a:pt x="14362" y="12849"/>
                </a:cubicBezTo>
                <a:cubicBezTo>
                  <a:pt x="14392" y="12849"/>
                  <a:pt x="14449" y="12805"/>
                  <a:pt x="14461" y="12774"/>
                </a:cubicBezTo>
                <a:cubicBezTo>
                  <a:pt x="14486" y="12707"/>
                  <a:pt x="14498" y="12637"/>
                  <a:pt x="14461" y="12576"/>
                </a:cubicBezTo>
                <a:cubicBezTo>
                  <a:pt x="14433" y="12530"/>
                  <a:pt x="14391" y="12550"/>
                  <a:pt x="14362" y="12576"/>
                </a:cubicBezTo>
                <a:cubicBezTo>
                  <a:pt x="14331" y="12603"/>
                  <a:pt x="14315" y="12659"/>
                  <a:pt x="14312" y="12700"/>
                </a:cubicBezTo>
                <a:cubicBezTo>
                  <a:pt x="14307" y="12777"/>
                  <a:pt x="14292" y="12881"/>
                  <a:pt x="14337" y="12948"/>
                </a:cubicBezTo>
                <a:cubicBezTo>
                  <a:pt x="14345" y="12956"/>
                  <a:pt x="14354" y="12965"/>
                  <a:pt x="14362" y="12973"/>
                </a:cubicBezTo>
              </a:path>
              <a:path w="21556" h="3548">
                <a:moveTo>
                  <a:pt x="14610" y="12874"/>
                </a:moveTo>
                <a:cubicBezTo>
                  <a:pt x="14579" y="12946"/>
                  <a:pt x="14514" y="13027"/>
                  <a:pt x="14486" y="13097"/>
                </a:cubicBezTo>
                <a:cubicBezTo>
                  <a:pt x="14476" y="13121"/>
                  <a:pt x="14452" y="13148"/>
                  <a:pt x="14486" y="13097"/>
                </a:cubicBezTo>
              </a:path>
              <a:path w="21556" h="3548">
                <a:moveTo>
                  <a:pt x="14709" y="12254"/>
                </a:moveTo>
                <a:cubicBezTo>
                  <a:pt x="14675" y="12374"/>
                  <a:pt x="14640" y="12480"/>
                  <a:pt x="14635" y="12601"/>
                </a:cubicBezTo>
                <a:cubicBezTo>
                  <a:pt x="14632" y="12682"/>
                  <a:pt x="14620" y="12777"/>
                  <a:pt x="14660" y="12849"/>
                </a:cubicBezTo>
                <a:cubicBezTo>
                  <a:pt x="14689" y="12901"/>
                  <a:pt x="14724" y="12953"/>
                  <a:pt x="14784" y="12973"/>
                </a:cubicBezTo>
                <a:cubicBezTo>
                  <a:pt x="14828" y="12988"/>
                  <a:pt x="14895" y="12973"/>
                  <a:pt x="14932" y="12948"/>
                </a:cubicBezTo>
                <a:cubicBezTo>
                  <a:pt x="14994" y="12907"/>
                  <a:pt x="14988" y="12831"/>
                  <a:pt x="15007" y="12774"/>
                </a:cubicBezTo>
                <a:cubicBezTo>
                  <a:pt x="15036" y="12687"/>
                  <a:pt x="15030" y="12616"/>
                  <a:pt x="15007" y="12526"/>
                </a:cubicBezTo>
                <a:cubicBezTo>
                  <a:pt x="14984" y="12435"/>
                  <a:pt x="14909" y="12312"/>
                  <a:pt x="14833" y="12254"/>
                </a:cubicBezTo>
                <a:cubicBezTo>
                  <a:pt x="14778" y="12212"/>
                  <a:pt x="14703" y="12223"/>
                  <a:pt x="14660" y="12229"/>
                </a:cubicBezTo>
                <a:cubicBezTo>
                  <a:pt x="14575" y="12240"/>
                  <a:pt x="14565" y="12258"/>
                  <a:pt x="14536" y="12328"/>
                </a:cubicBezTo>
                <a:cubicBezTo>
                  <a:pt x="14504" y="12407"/>
                  <a:pt x="14509" y="12452"/>
                  <a:pt x="14560" y="12526"/>
                </a:cubicBezTo>
                <a:cubicBezTo>
                  <a:pt x="14585" y="12551"/>
                  <a:pt x="14593" y="12559"/>
                  <a:pt x="14610" y="12576"/>
                </a:cubicBezTo>
              </a:path>
              <a:path w="21556" h="3548">
                <a:moveTo>
                  <a:pt x="15205" y="12204"/>
                </a:moveTo>
                <a:cubicBezTo>
                  <a:pt x="15205" y="12422"/>
                  <a:pt x="15164" y="12702"/>
                  <a:pt x="15230" y="12898"/>
                </a:cubicBezTo>
                <a:cubicBezTo>
                  <a:pt x="15247" y="12948"/>
                  <a:pt x="15248" y="12833"/>
                  <a:pt x="15255" y="12799"/>
                </a:cubicBezTo>
                <a:cubicBezTo>
                  <a:pt x="15263" y="12766"/>
                  <a:pt x="15272" y="12733"/>
                  <a:pt x="15280" y="12700"/>
                </a:cubicBezTo>
              </a:path>
              <a:path w="21556" h="3548">
                <a:moveTo>
                  <a:pt x="15503" y="12129"/>
                </a:moveTo>
                <a:cubicBezTo>
                  <a:pt x="15598" y="12129"/>
                  <a:pt x="15663" y="12147"/>
                  <a:pt x="15751" y="12154"/>
                </a:cubicBezTo>
                <a:cubicBezTo>
                  <a:pt x="15815" y="12159"/>
                  <a:pt x="15831" y="12148"/>
                  <a:pt x="15875" y="12105"/>
                </a:cubicBezTo>
              </a:path>
              <a:path w="21556" h="3548">
                <a:moveTo>
                  <a:pt x="15503" y="12204"/>
                </a:moveTo>
                <a:cubicBezTo>
                  <a:pt x="15463" y="12309"/>
                  <a:pt x="15453" y="12314"/>
                  <a:pt x="15453" y="12402"/>
                </a:cubicBezTo>
                <a:cubicBezTo>
                  <a:pt x="15453" y="12429"/>
                  <a:pt x="15478" y="12449"/>
                  <a:pt x="15503" y="12452"/>
                </a:cubicBezTo>
                <a:cubicBezTo>
                  <a:pt x="15558" y="12459"/>
                  <a:pt x="15582" y="12432"/>
                  <a:pt x="15627" y="12427"/>
                </a:cubicBezTo>
                <a:cubicBezTo>
                  <a:pt x="15688" y="12420"/>
                  <a:pt x="15739" y="12419"/>
                  <a:pt x="15776" y="12477"/>
                </a:cubicBezTo>
                <a:cubicBezTo>
                  <a:pt x="15805" y="12523"/>
                  <a:pt x="15812" y="12598"/>
                  <a:pt x="15825" y="12650"/>
                </a:cubicBezTo>
                <a:cubicBezTo>
                  <a:pt x="15840" y="12708"/>
                  <a:pt x="15875" y="12811"/>
                  <a:pt x="15850" y="12874"/>
                </a:cubicBezTo>
                <a:cubicBezTo>
                  <a:pt x="15830" y="12925"/>
                  <a:pt x="15770" y="12944"/>
                  <a:pt x="15726" y="12948"/>
                </a:cubicBezTo>
                <a:cubicBezTo>
                  <a:pt x="15656" y="12954"/>
                  <a:pt x="15608" y="12942"/>
                  <a:pt x="15553" y="12923"/>
                </a:cubicBezTo>
                <a:cubicBezTo>
                  <a:pt x="15492" y="12902"/>
                  <a:pt x="15508" y="12916"/>
                  <a:pt x="15528" y="12849"/>
                </a:cubicBezTo>
              </a:path>
              <a:path w="21556" h="3548">
                <a:moveTo>
                  <a:pt x="16024" y="12626"/>
                </a:moveTo>
                <a:cubicBezTo>
                  <a:pt x="16077" y="12706"/>
                  <a:pt x="16065" y="12680"/>
                  <a:pt x="16073" y="12774"/>
                </a:cubicBezTo>
                <a:cubicBezTo>
                  <a:pt x="16079" y="12844"/>
                  <a:pt x="16054" y="12918"/>
                  <a:pt x="16098" y="12973"/>
                </a:cubicBezTo>
                <a:cubicBezTo>
                  <a:pt x="16121" y="13001"/>
                  <a:pt x="16160" y="13049"/>
                  <a:pt x="16197" y="13047"/>
                </a:cubicBezTo>
                <a:cubicBezTo>
                  <a:pt x="16253" y="13044"/>
                  <a:pt x="16249" y="13004"/>
                  <a:pt x="16272" y="12973"/>
                </a:cubicBezTo>
                <a:cubicBezTo>
                  <a:pt x="16318" y="12912"/>
                  <a:pt x="16324" y="12865"/>
                  <a:pt x="16346" y="12799"/>
                </a:cubicBezTo>
                <a:cubicBezTo>
                  <a:pt x="16368" y="12734"/>
                  <a:pt x="16409" y="12696"/>
                  <a:pt x="16421" y="12626"/>
                </a:cubicBezTo>
                <a:cubicBezTo>
                  <a:pt x="16428" y="12585"/>
                  <a:pt x="16421" y="12593"/>
                  <a:pt x="16421" y="12551"/>
                </a:cubicBezTo>
                <a:cubicBezTo>
                  <a:pt x="16393" y="12607"/>
                  <a:pt x="16378" y="12679"/>
                  <a:pt x="16371" y="12750"/>
                </a:cubicBezTo>
                <a:cubicBezTo>
                  <a:pt x="16344" y="13012"/>
                  <a:pt x="16371" y="13282"/>
                  <a:pt x="16346" y="13543"/>
                </a:cubicBezTo>
                <a:cubicBezTo>
                  <a:pt x="16336" y="13643"/>
                  <a:pt x="16316" y="13724"/>
                  <a:pt x="16272" y="13816"/>
                </a:cubicBezTo>
                <a:cubicBezTo>
                  <a:pt x="16231" y="13903"/>
                  <a:pt x="16189" y="13911"/>
                  <a:pt x="16098" y="13915"/>
                </a:cubicBezTo>
                <a:cubicBezTo>
                  <a:pt x="15999" y="13920"/>
                  <a:pt x="15978" y="13817"/>
                  <a:pt x="15974" y="13742"/>
                </a:cubicBezTo>
                <a:cubicBezTo>
                  <a:pt x="15974" y="13684"/>
                  <a:pt x="15974" y="13659"/>
                  <a:pt x="15974" y="13618"/>
                </a:cubicBezTo>
              </a:path>
              <a:path w="21556" h="3548">
                <a:moveTo>
                  <a:pt x="16272" y="11832"/>
                </a:moveTo>
                <a:cubicBezTo>
                  <a:pt x="16333" y="11753"/>
                  <a:pt x="16344" y="11741"/>
                  <a:pt x="16446" y="11733"/>
                </a:cubicBezTo>
                <a:cubicBezTo>
                  <a:pt x="16483" y="11730"/>
                  <a:pt x="16562" y="11761"/>
                  <a:pt x="16594" y="11782"/>
                </a:cubicBezTo>
                <a:cubicBezTo>
                  <a:pt x="16648" y="11818"/>
                  <a:pt x="16644" y="11875"/>
                  <a:pt x="16644" y="11931"/>
                </a:cubicBezTo>
                <a:cubicBezTo>
                  <a:pt x="16644" y="11985"/>
                  <a:pt x="16605" y="12041"/>
                  <a:pt x="16570" y="12080"/>
                </a:cubicBezTo>
                <a:cubicBezTo>
                  <a:pt x="16532" y="12123"/>
                  <a:pt x="16497" y="12162"/>
                  <a:pt x="16470" y="12204"/>
                </a:cubicBezTo>
                <a:cubicBezTo>
                  <a:pt x="16446" y="12229"/>
                  <a:pt x="16438" y="12237"/>
                  <a:pt x="16470" y="12254"/>
                </a:cubicBezTo>
                <a:cubicBezTo>
                  <a:pt x="16542" y="12254"/>
                  <a:pt x="16580" y="12240"/>
                  <a:pt x="16644" y="12229"/>
                </a:cubicBezTo>
                <a:cubicBezTo>
                  <a:pt x="16705" y="12218"/>
                  <a:pt x="16763" y="12281"/>
                  <a:pt x="16818" y="12254"/>
                </a:cubicBezTo>
                <a:cubicBezTo>
                  <a:pt x="16818" y="12246"/>
                  <a:pt x="16818" y="12237"/>
                  <a:pt x="16818" y="12229"/>
                </a:cubicBezTo>
              </a:path>
              <a:path w="21556" h="3548">
                <a:moveTo>
                  <a:pt x="16669" y="12650"/>
                </a:moveTo>
                <a:cubicBezTo>
                  <a:pt x="16716" y="12650"/>
                  <a:pt x="16748" y="12672"/>
                  <a:pt x="16793" y="12675"/>
                </a:cubicBezTo>
                <a:cubicBezTo>
                  <a:pt x="16849" y="12679"/>
                  <a:pt x="16889" y="12695"/>
                  <a:pt x="16942" y="12700"/>
                </a:cubicBezTo>
                <a:cubicBezTo>
                  <a:pt x="16975" y="12700"/>
                  <a:pt x="16991" y="12700"/>
                  <a:pt x="17016" y="12700"/>
                </a:cubicBezTo>
              </a:path>
              <a:path w="21556" h="3548">
                <a:moveTo>
                  <a:pt x="17264" y="12278"/>
                </a:moveTo>
                <a:cubicBezTo>
                  <a:pt x="17264" y="12476"/>
                  <a:pt x="17245" y="12686"/>
                  <a:pt x="17289" y="12874"/>
                </a:cubicBezTo>
                <a:cubicBezTo>
                  <a:pt x="17296" y="12902"/>
                  <a:pt x="17269" y="12971"/>
                  <a:pt x="17289" y="12923"/>
                </a:cubicBezTo>
                <a:cubicBezTo>
                  <a:pt x="17297" y="12907"/>
                  <a:pt x="17306" y="12890"/>
                  <a:pt x="17314" y="12874"/>
                </a:cubicBezTo>
              </a:path>
              <a:path w="21556" h="3548">
                <a:moveTo>
                  <a:pt x="17537" y="12328"/>
                </a:moveTo>
                <a:cubicBezTo>
                  <a:pt x="17537" y="12395"/>
                  <a:pt x="17523" y="12415"/>
                  <a:pt x="17512" y="12477"/>
                </a:cubicBezTo>
                <a:cubicBezTo>
                  <a:pt x="17497" y="12559"/>
                  <a:pt x="17485" y="12811"/>
                  <a:pt x="17537" y="12874"/>
                </a:cubicBezTo>
                <a:cubicBezTo>
                  <a:pt x="17560" y="12903"/>
                  <a:pt x="17572" y="12955"/>
                  <a:pt x="17611" y="12973"/>
                </a:cubicBezTo>
                <a:cubicBezTo>
                  <a:pt x="17646" y="12989"/>
                  <a:pt x="17710" y="12965"/>
                  <a:pt x="17735" y="12948"/>
                </a:cubicBezTo>
                <a:cubicBezTo>
                  <a:pt x="17767" y="12927"/>
                  <a:pt x="17826" y="12837"/>
                  <a:pt x="17835" y="12799"/>
                </a:cubicBezTo>
                <a:cubicBezTo>
                  <a:pt x="17859" y="12699"/>
                  <a:pt x="17830" y="12569"/>
                  <a:pt x="17810" y="12477"/>
                </a:cubicBezTo>
                <a:cubicBezTo>
                  <a:pt x="17801" y="12438"/>
                  <a:pt x="17770" y="12355"/>
                  <a:pt x="17735" y="12328"/>
                </a:cubicBezTo>
                <a:cubicBezTo>
                  <a:pt x="17721" y="12317"/>
                  <a:pt x="17637" y="12288"/>
                  <a:pt x="17611" y="12303"/>
                </a:cubicBezTo>
                <a:cubicBezTo>
                  <a:pt x="17585" y="12318"/>
                  <a:pt x="17521" y="12445"/>
                  <a:pt x="17512" y="12477"/>
                </a:cubicBezTo>
                <a:cubicBezTo>
                  <a:pt x="17495" y="12540"/>
                  <a:pt x="17512" y="12633"/>
                  <a:pt x="17512" y="12700"/>
                </a:cubicBezTo>
              </a:path>
              <a:path w="21556" h="3548">
                <a:moveTo>
                  <a:pt x="17983" y="12402"/>
                </a:moveTo>
                <a:cubicBezTo>
                  <a:pt x="17960" y="12434"/>
                  <a:pt x="17941" y="12493"/>
                  <a:pt x="17934" y="12526"/>
                </a:cubicBezTo>
                <a:cubicBezTo>
                  <a:pt x="17917" y="12611"/>
                  <a:pt x="17909" y="12835"/>
                  <a:pt x="17959" y="12898"/>
                </a:cubicBezTo>
                <a:cubicBezTo>
                  <a:pt x="18003" y="12954"/>
                  <a:pt x="18035" y="12978"/>
                  <a:pt x="18083" y="12973"/>
                </a:cubicBezTo>
                <a:cubicBezTo>
                  <a:pt x="18151" y="12966"/>
                  <a:pt x="18140" y="12923"/>
                  <a:pt x="18157" y="12874"/>
                </a:cubicBezTo>
                <a:cubicBezTo>
                  <a:pt x="18178" y="12816"/>
                  <a:pt x="18200" y="12740"/>
                  <a:pt x="18182" y="12675"/>
                </a:cubicBezTo>
                <a:cubicBezTo>
                  <a:pt x="18163" y="12609"/>
                  <a:pt x="18148" y="12536"/>
                  <a:pt x="18107" y="12477"/>
                </a:cubicBezTo>
                <a:cubicBezTo>
                  <a:pt x="18083" y="12441"/>
                  <a:pt x="18060" y="12407"/>
                  <a:pt x="18033" y="12378"/>
                </a:cubicBezTo>
                <a:cubicBezTo>
                  <a:pt x="18005" y="12347"/>
                  <a:pt x="17997" y="12353"/>
                  <a:pt x="17959" y="12353"/>
                </a:cubicBezTo>
                <a:cubicBezTo>
                  <a:pt x="17925" y="12364"/>
                  <a:pt x="17929" y="12406"/>
                  <a:pt x="17909" y="12452"/>
                </a:cubicBezTo>
              </a:path>
              <a:path w="21556" h="3548">
                <a:moveTo>
                  <a:pt x="18256" y="13047"/>
                </a:moveTo>
                <a:cubicBezTo>
                  <a:pt x="18243" y="13104"/>
                  <a:pt x="18276" y="13183"/>
                  <a:pt x="18231" y="13221"/>
                </a:cubicBezTo>
                <a:cubicBezTo>
                  <a:pt x="18207" y="13221"/>
                  <a:pt x="18199" y="13221"/>
                  <a:pt x="18207" y="13246"/>
                </a:cubicBezTo>
                <a:cubicBezTo>
                  <a:pt x="18241" y="13234"/>
                  <a:pt x="18231" y="13238"/>
                  <a:pt x="18231" y="13196"/>
                </a:cubicBezTo>
              </a:path>
              <a:path w="21556" h="3548">
                <a:moveTo>
                  <a:pt x="18628" y="12402"/>
                </a:moveTo>
                <a:cubicBezTo>
                  <a:pt x="18596" y="12359"/>
                  <a:pt x="18610" y="12353"/>
                  <a:pt x="18554" y="12353"/>
                </a:cubicBezTo>
                <a:cubicBezTo>
                  <a:pt x="18517" y="12353"/>
                  <a:pt x="18482" y="12360"/>
                  <a:pt x="18455" y="12378"/>
                </a:cubicBezTo>
                <a:cubicBezTo>
                  <a:pt x="18412" y="12406"/>
                  <a:pt x="18405" y="12430"/>
                  <a:pt x="18405" y="12477"/>
                </a:cubicBezTo>
                <a:cubicBezTo>
                  <a:pt x="18405" y="12542"/>
                  <a:pt x="18428" y="12616"/>
                  <a:pt x="18455" y="12675"/>
                </a:cubicBezTo>
                <a:cubicBezTo>
                  <a:pt x="18495" y="12762"/>
                  <a:pt x="18549" y="12857"/>
                  <a:pt x="18579" y="12948"/>
                </a:cubicBezTo>
                <a:cubicBezTo>
                  <a:pt x="18599" y="13009"/>
                  <a:pt x="18636" y="13110"/>
                  <a:pt x="18554" y="13146"/>
                </a:cubicBezTo>
                <a:cubicBezTo>
                  <a:pt x="18510" y="13165"/>
                  <a:pt x="18481" y="13123"/>
                  <a:pt x="18455" y="13097"/>
                </a:cubicBezTo>
                <a:cubicBezTo>
                  <a:pt x="18416" y="13058"/>
                  <a:pt x="18386" y="13031"/>
                  <a:pt x="18380" y="12973"/>
                </a:cubicBezTo>
                <a:cubicBezTo>
                  <a:pt x="18375" y="12920"/>
                  <a:pt x="18374" y="12870"/>
                  <a:pt x="18405" y="12824"/>
                </a:cubicBezTo>
                <a:cubicBezTo>
                  <a:pt x="18434" y="12781"/>
                  <a:pt x="18477" y="12745"/>
                  <a:pt x="18504" y="12700"/>
                </a:cubicBezTo>
                <a:cubicBezTo>
                  <a:pt x="18532" y="12653"/>
                  <a:pt x="18554" y="12600"/>
                  <a:pt x="18579" y="12551"/>
                </a:cubicBezTo>
              </a:path>
              <a:path w="21556" h="3548">
                <a:moveTo>
                  <a:pt x="18678" y="12353"/>
                </a:moveTo>
                <a:cubicBezTo>
                  <a:pt x="18718" y="12406"/>
                  <a:pt x="18684" y="12411"/>
                  <a:pt x="18678" y="12477"/>
                </a:cubicBezTo>
                <a:cubicBezTo>
                  <a:pt x="18673" y="12537"/>
                  <a:pt x="18658" y="12569"/>
                  <a:pt x="18653" y="12626"/>
                </a:cubicBezTo>
                <a:cubicBezTo>
                  <a:pt x="18649" y="12676"/>
                  <a:pt x="18665" y="12685"/>
                  <a:pt x="18678" y="12725"/>
                </a:cubicBezTo>
                <a:cubicBezTo>
                  <a:pt x="18691" y="12764"/>
                  <a:pt x="18705" y="12794"/>
                  <a:pt x="18752" y="12799"/>
                </a:cubicBezTo>
                <a:cubicBezTo>
                  <a:pt x="18801" y="12804"/>
                  <a:pt x="18841" y="12805"/>
                  <a:pt x="18876" y="12774"/>
                </a:cubicBezTo>
                <a:cubicBezTo>
                  <a:pt x="18901" y="12750"/>
                  <a:pt x="18910" y="12742"/>
                  <a:pt x="18926" y="12725"/>
                </a:cubicBezTo>
              </a:path>
              <a:path w="21556" h="3548">
                <a:moveTo>
                  <a:pt x="18951" y="12278"/>
                </a:moveTo>
                <a:cubicBezTo>
                  <a:pt x="18926" y="12337"/>
                  <a:pt x="18904" y="12387"/>
                  <a:pt x="18901" y="12452"/>
                </a:cubicBezTo>
                <a:cubicBezTo>
                  <a:pt x="18894" y="12621"/>
                  <a:pt x="18907" y="12785"/>
                  <a:pt x="18926" y="12948"/>
                </a:cubicBezTo>
                <a:cubicBezTo>
                  <a:pt x="18937" y="13044"/>
                  <a:pt x="18923" y="13137"/>
                  <a:pt x="18951" y="13221"/>
                </a:cubicBezTo>
                <a:cubicBezTo>
                  <a:pt x="18968" y="13272"/>
                  <a:pt x="18951" y="13217"/>
                  <a:pt x="18951" y="13196"/>
                </a:cubicBezTo>
              </a:path>
              <a:path w="21556" h="3548">
                <a:moveTo>
                  <a:pt x="19025" y="12526"/>
                </a:moveTo>
                <a:cubicBezTo>
                  <a:pt x="19055" y="12475"/>
                  <a:pt x="19092" y="12425"/>
                  <a:pt x="19149" y="12402"/>
                </a:cubicBezTo>
                <a:cubicBezTo>
                  <a:pt x="19202" y="12381"/>
                  <a:pt x="19252" y="12415"/>
                  <a:pt x="19298" y="12427"/>
                </a:cubicBezTo>
                <a:cubicBezTo>
                  <a:pt x="19330" y="12435"/>
                  <a:pt x="19381" y="12466"/>
                  <a:pt x="19397" y="12502"/>
                </a:cubicBezTo>
                <a:cubicBezTo>
                  <a:pt x="19425" y="12565"/>
                  <a:pt x="19401" y="12588"/>
                  <a:pt x="19397" y="12650"/>
                </a:cubicBezTo>
                <a:cubicBezTo>
                  <a:pt x="19392" y="12726"/>
                  <a:pt x="19360" y="12762"/>
                  <a:pt x="19323" y="12824"/>
                </a:cubicBezTo>
                <a:cubicBezTo>
                  <a:pt x="19288" y="12882"/>
                  <a:pt x="19273" y="12946"/>
                  <a:pt x="19248" y="12998"/>
                </a:cubicBezTo>
                <a:cubicBezTo>
                  <a:pt x="19223" y="13049"/>
                  <a:pt x="19224" y="13079"/>
                  <a:pt x="19224" y="13146"/>
                </a:cubicBezTo>
                <a:cubicBezTo>
                  <a:pt x="19224" y="13187"/>
                  <a:pt x="19269" y="13177"/>
                  <a:pt x="19298" y="13196"/>
                </a:cubicBezTo>
                <a:cubicBezTo>
                  <a:pt x="19358" y="13236"/>
                  <a:pt x="19419" y="13222"/>
                  <a:pt x="19496" y="13196"/>
                </a:cubicBezTo>
                <a:cubicBezTo>
                  <a:pt x="19546" y="13171"/>
                  <a:pt x="19562" y="13163"/>
                  <a:pt x="19571" y="13122"/>
                </a:cubicBezTo>
              </a:path>
              <a:path w="21556" h="3548">
                <a:moveTo>
                  <a:pt x="19745" y="12824"/>
                </a:moveTo>
                <a:cubicBezTo>
                  <a:pt x="19738" y="12874"/>
                  <a:pt x="19722" y="12896"/>
                  <a:pt x="19720" y="12948"/>
                </a:cubicBezTo>
                <a:cubicBezTo>
                  <a:pt x="19716" y="13041"/>
                  <a:pt x="19710" y="13136"/>
                  <a:pt x="19745" y="13221"/>
                </a:cubicBezTo>
                <a:cubicBezTo>
                  <a:pt x="19756" y="13248"/>
                  <a:pt x="19781" y="13309"/>
                  <a:pt x="19819" y="13320"/>
                </a:cubicBezTo>
                <a:cubicBezTo>
                  <a:pt x="19852" y="13329"/>
                  <a:pt x="19896" y="13309"/>
                  <a:pt x="19918" y="13295"/>
                </a:cubicBezTo>
                <a:cubicBezTo>
                  <a:pt x="19965" y="13266"/>
                  <a:pt x="19982" y="13210"/>
                  <a:pt x="20017" y="13171"/>
                </a:cubicBezTo>
                <a:cubicBezTo>
                  <a:pt x="20053" y="13131"/>
                  <a:pt x="20082" y="13071"/>
                  <a:pt x="20092" y="13022"/>
                </a:cubicBezTo>
                <a:cubicBezTo>
                  <a:pt x="20098" y="12992"/>
                  <a:pt x="20092" y="12954"/>
                  <a:pt x="20092" y="12923"/>
                </a:cubicBezTo>
                <a:cubicBezTo>
                  <a:pt x="20086" y="12964"/>
                  <a:pt x="20073" y="12984"/>
                  <a:pt x="20067" y="13022"/>
                </a:cubicBezTo>
                <a:cubicBezTo>
                  <a:pt x="20039" y="13190"/>
                  <a:pt x="20076" y="13379"/>
                  <a:pt x="20092" y="13543"/>
                </a:cubicBezTo>
                <a:cubicBezTo>
                  <a:pt x="20107" y="13692"/>
                  <a:pt x="20098" y="13828"/>
                  <a:pt x="20042" y="13965"/>
                </a:cubicBezTo>
                <a:cubicBezTo>
                  <a:pt x="20017" y="14025"/>
                  <a:pt x="19955" y="14092"/>
                  <a:pt x="19893" y="14114"/>
                </a:cubicBezTo>
                <a:cubicBezTo>
                  <a:pt x="19863" y="14125"/>
                  <a:pt x="19749" y="14144"/>
                  <a:pt x="19720" y="14139"/>
                </a:cubicBezTo>
                <a:cubicBezTo>
                  <a:pt x="19676" y="14131"/>
                  <a:pt x="19642" y="14120"/>
                  <a:pt x="19596" y="14114"/>
                </a:cubicBezTo>
              </a:path>
              <a:path w="21556" h="3548">
                <a:moveTo>
                  <a:pt x="20414" y="12774"/>
                </a:moveTo>
                <a:cubicBezTo>
                  <a:pt x="20414" y="12880"/>
                  <a:pt x="20422" y="12973"/>
                  <a:pt x="20439" y="13072"/>
                </a:cubicBezTo>
                <a:cubicBezTo>
                  <a:pt x="20447" y="13123"/>
                  <a:pt x="20461" y="13177"/>
                  <a:pt x="20464" y="13221"/>
                </a:cubicBezTo>
                <a:cubicBezTo>
                  <a:pt x="20465" y="13237"/>
                  <a:pt x="20489" y="13357"/>
                  <a:pt x="20489" y="13295"/>
                </a:cubicBezTo>
              </a:path>
              <a:path w="21556" h="3548">
                <a:moveTo>
                  <a:pt x="20241" y="12973"/>
                </a:moveTo>
                <a:cubicBezTo>
                  <a:pt x="20298" y="12973"/>
                  <a:pt x="20337" y="12989"/>
                  <a:pt x="20389" y="12998"/>
                </a:cubicBezTo>
                <a:cubicBezTo>
                  <a:pt x="20458" y="13010"/>
                  <a:pt x="20543" y="12998"/>
                  <a:pt x="20613" y="12998"/>
                </a:cubicBezTo>
              </a:path>
              <a:path w="21556" h="3548">
                <a:moveTo>
                  <a:pt x="20861" y="12626"/>
                </a:moveTo>
                <a:cubicBezTo>
                  <a:pt x="20861" y="12715"/>
                  <a:pt x="20846" y="12792"/>
                  <a:pt x="20836" y="12874"/>
                </a:cubicBezTo>
                <a:cubicBezTo>
                  <a:pt x="20822" y="12985"/>
                  <a:pt x="20846" y="13090"/>
                  <a:pt x="20861" y="13196"/>
                </a:cubicBezTo>
                <a:cubicBezTo>
                  <a:pt x="20872" y="13271"/>
                  <a:pt x="20867" y="13351"/>
                  <a:pt x="20886" y="13395"/>
                </a:cubicBezTo>
                <a:cubicBezTo>
                  <a:pt x="20886" y="13419"/>
                  <a:pt x="20886" y="13427"/>
                  <a:pt x="20910" y="13419"/>
                </a:cubicBezTo>
              </a:path>
              <a:path w="21556" h="3548">
                <a:moveTo>
                  <a:pt x="21134" y="12477"/>
                </a:moveTo>
                <a:cubicBezTo>
                  <a:pt x="21115" y="12584"/>
                  <a:pt x="21109" y="12667"/>
                  <a:pt x="21109" y="12774"/>
                </a:cubicBezTo>
                <a:cubicBezTo>
                  <a:pt x="21109" y="12871"/>
                  <a:pt x="21130" y="12952"/>
                  <a:pt x="21134" y="13047"/>
                </a:cubicBezTo>
                <a:cubicBezTo>
                  <a:pt x="21138" y="13143"/>
                  <a:pt x="21144" y="13230"/>
                  <a:pt x="21158" y="13320"/>
                </a:cubicBezTo>
                <a:cubicBezTo>
                  <a:pt x="21166" y="13374"/>
                  <a:pt x="21178" y="13423"/>
                  <a:pt x="21183" y="13469"/>
                </a:cubicBezTo>
                <a:cubicBezTo>
                  <a:pt x="21189" y="13520"/>
                  <a:pt x="21211" y="13466"/>
                  <a:pt x="21233" y="13444"/>
                </a:cubicBezTo>
              </a:path>
              <a:path w="21556" h="3548">
                <a:moveTo>
                  <a:pt x="21282" y="12551"/>
                </a:moveTo>
                <a:cubicBezTo>
                  <a:pt x="21326" y="12551"/>
                  <a:pt x="21367" y="12560"/>
                  <a:pt x="21406" y="12576"/>
                </a:cubicBezTo>
                <a:cubicBezTo>
                  <a:pt x="21466" y="12600"/>
                  <a:pt x="21518" y="12622"/>
                  <a:pt x="21580" y="12626"/>
                </a:cubicBezTo>
                <a:cubicBezTo>
                  <a:pt x="21624" y="12629"/>
                  <a:pt x="21684" y="12672"/>
                  <a:pt x="21729" y="12650"/>
                </a:cubicBezTo>
                <a:cubicBezTo>
                  <a:pt x="21737" y="12642"/>
                  <a:pt x="21746" y="12634"/>
                  <a:pt x="21754" y="12626"/>
                </a:cubicBezTo>
                <a:cubicBezTo>
                  <a:pt x="21725" y="12663"/>
                  <a:pt x="21729" y="12677"/>
                  <a:pt x="21729" y="12725"/>
                </a:cubicBezTo>
                <a:cubicBezTo>
                  <a:pt x="21729" y="12794"/>
                  <a:pt x="21704" y="12850"/>
                  <a:pt x="21704" y="12923"/>
                </a:cubicBezTo>
                <a:cubicBezTo>
                  <a:pt x="21704" y="13005"/>
                  <a:pt x="21683" y="13066"/>
                  <a:pt x="21679" y="13146"/>
                </a:cubicBezTo>
                <a:cubicBezTo>
                  <a:pt x="21675" y="13237"/>
                  <a:pt x="21684" y="13311"/>
                  <a:pt x="21704" y="13395"/>
                </a:cubicBezTo>
                <a:cubicBezTo>
                  <a:pt x="21704" y="13403"/>
                  <a:pt x="21704" y="13411"/>
                  <a:pt x="21704" y="13419"/>
                </a:cubicBezTo>
              </a:path>
              <a:path w="21556" h="3548">
                <a:moveTo>
                  <a:pt x="21952" y="13370"/>
                </a:moveTo>
                <a:cubicBezTo>
                  <a:pt x="21952" y="13446"/>
                  <a:pt x="21948" y="13672"/>
                  <a:pt x="21952" y="13667"/>
                </a:cubicBezTo>
                <a:cubicBezTo>
                  <a:pt x="21960" y="13659"/>
                  <a:pt x="21969" y="13651"/>
                  <a:pt x="21977" y="13643"/>
                </a:cubicBezTo>
              </a:path>
              <a:path w="21556" h="3548">
                <a:moveTo>
                  <a:pt x="22175" y="12526"/>
                </a:moveTo>
                <a:cubicBezTo>
                  <a:pt x="22159" y="12650"/>
                  <a:pt x="22151" y="12752"/>
                  <a:pt x="22151" y="12874"/>
                </a:cubicBezTo>
                <a:cubicBezTo>
                  <a:pt x="22151" y="12978"/>
                  <a:pt x="22163" y="13073"/>
                  <a:pt x="22175" y="13171"/>
                </a:cubicBezTo>
                <a:cubicBezTo>
                  <a:pt x="22186" y="13264"/>
                  <a:pt x="22203" y="13292"/>
                  <a:pt x="22250" y="13370"/>
                </a:cubicBezTo>
                <a:cubicBezTo>
                  <a:pt x="22290" y="13436"/>
                  <a:pt x="22296" y="13462"/>
                  <a:pt x="22374" y="13469"/>
                </a:cubicBezTo>
                <a:cubicBezTo>
                  <a:pt x="22418" y="13473"/>
                  <a:pt x="22440" y="13473"/>
                  <a:pt x="22473" y="13444"/>
                </a:cubicBezTo>
                <a:cubicBezTo>
                  <a:pt x="22542" y="13382"/>
                  <a:pt x="22523" y="13256"/>
                  <a:pt x="22523" y="13171"/>
                </a:cubicBezTo>
                <a:cubicBezTo>
                  <a:pt x="22523" y="13098"/>
                  <a:pt x="22521" y="13104"/>
                  <a:pt x="22473" y="13072"/>
                </a:cubicBezTo>
                <a:cubicBezTo>
                  <a:pt x="22454" y="13060"/>
                  <a:pt x="22422" y="13050"/>
                  <a:pt x="22399" y="13097"/>
                </a:cubicBezTo>
                <a:cubicBezTo>
                  <a:pt x="22374" y="13148"/>
                  <a:pt x="22334" y="13237"/>
                  <a:pt x="22324" y="13295"/>
                </a:cubicBezTo>
                <a:cubicBezTo>
                  <a:pt x="22316" y="13342"/>
                  <a:pt x="22313" y="13408"/>
                  <a:pt x="22349" y="13419"/>
                </a:cubicBezTo>
              </a:path>
              <a:path w="21556" h="3548">
                <a:moveTo>
                  <a:pt x="22572" y="12601"/>
                </a:moveTo>
                <a:cubicBezTo>
                  <a:pt x="22550" y="12645"/>
                  <a:pt x="22543" y="12714"/>
                  <a:pt x="22523" y="12750"/>
                </a:cubicBezTo>
                <a:cubicBezTo>
                  <a:pt x="22515" y="12758"/>
                  <a:pt x="22506" y="12766"/>
                  <a:pt x="22498" y="12774"/>
                </a:cubicBezTo>
                <a:cubicBezTo>
                  <a:pt x="22525" y="12819"/>
                  <a:pt x="22512" y="12859"/>
                  <a:pt x="22547" y="12898"/>
                </a:cubicBezTo>
                <a:cubicBezTo>
                  <a:pt x="22577" y="12931"/>
                  <a:pt x="22576" y="12958"/>
                  <a:pt x="22622" y="12973"/>
                </a:cubicBezTo>
                <a:cubicBezTo>
                  <a:pt x="22680" y="12992"/>
                  <a:pt x="22769" y="12972"/>
                  <a:pt x="22820" y="12948"/>
                </a:cubicBezTo>
                <a:cubicBezTo>
                  <a:pt x="22874" y="12922"/>
                  <a:pt x="22884" y="12893"/>
                  <a:pt x="22920" y="12849"/>
                </a:cubicBezTo>
              </a:path>
              <a:path w="21556" h="3548">
                <a:moveTo>
                  <a:pt x="22895" y="12353"/>
                </a:moveTo>
                <a:cubicBezTo>
                  <a:pt x="22866" y="12428"/>
                  <a:pt x="22848" y="12494"/>
                  <a:pt x="22845" y="12576"/>
                </a:cubicBezTo>
                <a:cubicBezTo>
                  <a:pt x="22833" y="12894"/>
                  <a:pt x="22827" y="13232"/>
                  <a:pt x="22870" y="13543"/>
                </a:cubicBezTo>
                <a:cubicBezTo>
                  <a:pt x="22873" y="13564"/>
                  <a:pt x="22848" y="13689"/>
                  <a:pt x="22895" y="13667"/>
                </a:cubicBezTo>
                <a:cubicBezTo>
                  <a:pt x="22903" y="13659"/>
                  <a:pt x="22912" y="13651"/>
                  <a:pt x="22920" y="13643"/>
                </a:cubicBezTo>
              </a:path>
              <a:path w="21556" h="3548">
                <a:moveTo>
                  <a:pt x="23440" y="12774"/>
                </a:moveTo>
                <a:cubicBezTo>
                  <a:pt x="23466" y="12820"/>
                  <a:pt x="23470" y="12824"/>
                  <a:pt x="23490" y="12849"/>
                </a:cubicBezTo>
                <a:cubicBezTo>
                  <a:pt x="23515" y="12807"/>
                  <a:pt x="23512" y="12801"/>
                  <a:pt x="23515" y="12750"/>
                </a:cubicBezTo>
                <a:cubicBezTo>
                  <a:pt x="23519" y="12673"/>
                  <a:pt x="23467" y="12623"/>
                  <a:pt x="23416" y="12576"/>
                </a:cubicBezTo>
                <a:cubicBezTo>
                  <a:pt x="23374" y="12537"/>
                  <a:pt x="23357" y="12511"/>
                  <a:pt x="23292" y="12526"/>
                </a:cubicBezTo>
                <a:cubicBezTo>
                  <a:pt x="23253" y="12535"/>
                  <a:pt x="23195" y="12564"/>
                  <a:pt x="23168" y="12601"/>
                </a:cubicBezTo>
                <a:cubicBezTo>
                  <a:pt x="23130" y="12654"/>
                  <a:pt x="23103" y="12739"/>
                  <a:pt x="23093" y="12799"/>
                </a:cubicBezTo>
                <a:cubicBezTo>
                  <a:pt x="23082" y="12863"/>
                  <a:pt x="23091" y="12923"/>
                  <a:pt x="23118" y="12973"/>
                </a:cubicBezTo>
                <a:cubicBezTo>
                  <a:pt x="23145" y="13024"/>
                  <a:pt x="23174" y="13077"/>
                  <a:pt x="23242" y="13072"/>
                </a:cubicBezTo>
                <a:cubicBezTo>
                  <a:pt x="23258" y="13071"/>
                  <a:pt x="23335" y="13018"/>
                  <a:pt x="23341" y="12998"/>
                </a:cubicBezTo>
                <a:cubicBezTo>
                  <a:pt x="23356" y="12946"/>
                  <a:pt x="23368" y="12873"/>
                  <a:pt x="23391" y="12824"/>
                </a:cubicBezTo>
                <a:cubicBezTo>
                  <a:pt x="23411" y="12780"/>
                  <a:pt x="23416" y="12753"/>
                  <a:pt x="23416" y="12700"/>
                </a:cubicBezTo>
                <a:cubicBezTo>
                  <a:pt x="23416" y="12692"/>
                  <a:pt x="23416" y="12683"/>
                  <a:pt x="23416" y="12675"/>
                </a:cubicBezTo>
                <a:cubicBezTo>
                  <a:pt x="23389" y="12746"/>
                  <a:pt x="23369" y="12820"/>
                  <a:pt x="23366" y="12898"/>
                </a:cubicBezTo>
                <a:cubicBezTo>
                  <a:pt x="23361" y="13018"/>
                  <a:pt x="23387" y="13127"/>
                  <a:pt x="23391" y="13246"/>
                </a:cubicBezTo>
                <a:cubicBezTo>
                  <a:pt x="23395" y="13365"/>
                  <a:pt x="23418" y="13502"/>
                  <a:pt x="23440" y="13618"/>
                </a:cubicBezTo>
                <a:cubicBezTo>
                  <a:pt x="23460" y="13719"/>
                  <a:pt x="23486" y="13814"/>
                  <a:pt x="23490" y="13915"/>
                </a:cubicBezTo>
                <a:cubicBezTo>
                  <a:pt x="23492" y="13957"/>
                  <a:pt x="23494" y="14051"/>
                  <a:pt x="23515" y="14015"/>
                </a:cubicBezTo>
                <a:cubicBezTo>
                  <a:pt x="23522" y="14003"/>
                  <a:pt x="23515" y="13955"/>
                  <a:pt x="23515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9840" y="3625920"/>
            <a:ext cx="8456400" cy="1714320"/>
          </a:xfrm>
          <a:custGeom>
            <a:avLst/>
            <a:gdLst/>
            <a:ahLst/>
            <a:rect l="l" t="t" r="r" b="b"/>
            <a:pathLst>
              <a:path w="23491" h="4763">
                <a:moveTo>
                  <a:pt x="1339" y="10195"/>
                </a:moveTo>
                <a:cubicBezTo>
                  <a:pt x="1356" y="10808"/>
                  <a:pt x="1469" y="11415"/>
                  <a:pt x="1439" y="12030"/>
                </a:cubicBezTo>
                <a:cubicBezTo>
                  <a:pt x="1418" y="12452"/>
                  <a:pt x="1231" y="12835"/>
                  <a:pt x="1191" y="13246"/>
                </a:cubicBezTo>
                <a:cubicBezTo>
                  <a:pt x="1186" y="13296"/>
                  <a:pt x="1100" y="13427"/>
                  <a:pt x="1116" y="13469"/>
                </a:cubicBezTo>
                <a:cubicBezTo>
                  <a:pt x="1132" y="13511"/>
                  <a:pt x="1123" y="13511"/>
                  <a:pt x="1141" y="13543"/>
                </a:cubicBezTo>
                <a:cubicBezTo>
                  <a:pt x="1225" y="13687"/>
                  <a:pt x="1528" y="13700"/>
                  <a:pt x="1662" y="13742"/>
                </a:cubicBezTo>
                <a:cubicBezTo>
                  <a:pt x="1767" y="13775"/>
                  <a:pt x="1878" y="13770"/>
                  <a:pt x="1984" y="13791"/>
                </a:cubicBezTo>
                <a:cubicBezTo>
                  <a:pt x="2200" y="13834"/>
                  <a:pt x="2412" y="13865"/>
                  <a:pt x="2629" y="13891"/>
                </a:cubicBezTo>
                <a:cubicBezTo>
                  <a:pt x="2892" y="13922"/>
                  <a:pt x="3158" y="13947"/>
                  <a:pt x="3423" y="13965"/>
                </a:cubicBezTo>
                <a:cubicBezTo>
                  <a:pt x="3629" y="13979"/>
                  <a:pt x="3837" y="13974"/>
                  <a:pt x="4043" y="13990"/>
                </a:cubicBezTo>
                <a:cubicBezTo>
                  <a:pt x="4209" y="14003"/>
                  <a:pt x="4372" y="14028"/>
                  <a:pt x="4539" y="14039"/>
                </a:cubicBezTo>
                <a:cubicBezTo>
                  <a:pt x="4754" y="14053"/>
                  <a:pt x="4970" y="14074"/>
                  <a:pt x="5184" y="14089"/>
                </a:cubicBezTo>
                <a:cubicBezTo>
                  <a:pt x="5544" y="14113"/>
                  <a:pt x="5916" y="14131"/>
                  <a:pt x="6276" y="14139"/>
                </a:cubicBezTo>
                <a:cubicBezTo>
                  <a:pt x="6717" y="14148"/>
                  <a:pt x="7151" y="14177"/>
                  <a:pt x="7590" y="14188"/>
                </a:cubicBezTo>
                <a:cubicBezTo>
                  <a:pt x="8598" y="14213"/>
                  <a:pt x="9548" y="14293"/>
                  <a:pt x="10542" y="14412"/>
                </a:cubicBezTo>
                <a:cubicBezTo>
                  <a:pt x="10706" y="14432"/>
                  <a:pt x="10874" y="14444"/>
                  <a:pt x="11038" y="14461"/>
                </a:cubicBezTo>
                <a:cubicBezTo>
                  <a:pt x="11212" y="14479"/>
                  <a:pt x="11385" y="14494"/>
                  <a:pt x="11559" y="14511"/>
                </a:cubicBezTo>
                <a:cubicBezTo>
                  <a:pt x="11915" y="14545"/>
                  <a:pt x="12271" y="14576"/>
                  <a:pt x="12626" y="14610"/>
                </a:cubicBezTo>
                <a:cubicBezTo>
                  <a:pt x="12816" y="14628"/>
                  <a:pt x="13004" y="14648"/>
                  <a:pt x="13196" y="14660"/>
                </a:cubicBezTo>
                <a:cubicBezTo>
                  <a:pt x="14738" y="14755"/>
                  <a:pt x="16270" y="14621"/>
                  <a:pt x="17810" y="14660"/>
                </a:cubicBezTo>
                <a:cubicBezTo>
                  <a:pt x="18089" y="14667"/>
                  <a:pt x="18374" y="14694"/>
                  <a:pt x="18653" y="14709"/>
                </a:cubicBezTo>
                <a:cubicBezTo>
                  <a:pt x="18851" y="14720"/>
                  <a:pt x="19050" y="14750"/>
                  <a:pt x="19248" y="14759"/>
                </a:cubicBezTo>
                <a:cubicBezTo>
                  <a:pt x="19504" y="14770"/>
                  <a:pt x="19761" y="14778"/>
                  <a:pt x="20017" y="14784"/>
                </a:cubicBezTo>
                <a:cubicBezTo>
                  <a:pt x="20821" y="14804"/>
                  <a:pt x="21621" y="14701"/>
                  <a:pt x="22423" y="14684"/>
                </a:cubicBezTo>
                <a:cubicBezTo>
                  <a:pt x="22856" y="14675"/>
                  <a:pt x="23266" y="14758"/>
                  <a:pt x="23688" y="14784"/>
                </a:cubicBezTo>
                <a:cubicBezTo>
                  <a:pt x="23804" y="14791"/>
                  <a:pt x="23962" y="14868"/>
                  <a:pt x="24061" y="14808"/>
                </a:cubicBezTo>
                <a:cubicBezTo>
                  <a:pt x="24152" y="14753"/>
                  <a:pt x="24117" y="14754"/>
                  <a:pt x="24185" y="14684"/>
                </a:cubicBezTo>
                <a:cubicBezTo>
                  <a:pt x="24228" y="14640"/>
                  <a:pt x="24228" y="14546"/>
                  <a:pt x="24259" y="14486"/>
                </a:cubicBezTo>
                <a:cubicBezTo>
                  <a:pt x="24512" y="13995"/>
                  <a:pt x="24461" y="13253"/>
                  <a:pt x="24408" y="12725"/>
                </a:cubicBezTo>
                <a:cubicBezTo>
                  <a:pt x="24375" y="12397"/>
                  <a:pt x="24264" y="11708"/>
                  <a:pt x="23961" y="11509"/>
                </a:cubicBezTo>
                <a:cubicBezTo>
                  <a:pt x="23917" y="11480"/>
                  <a:pt x="23946" y="11501"/>
                  <a:pt x="23912" y="11485"/>
                </a:cubicBezTo>
                <a:cubicBezTo>
                  <a:pt x="23834" y="11448"/>
                  <a:pt x="23747" y="11510"/>
                  <a:pt x="23664" y="11485"/>
                </a:cubicBezTo>
                <a:cubicBezTo>
                  <a:pt x="23508" y="11438"/>
                  <a:pt x="23331" y="11414"/>
                  <a:pt x="23168" y="11385"/>
                </a:cubicBezTo>
                <a:cubicBezTo>
                  <a:pt x="21652" y="11118"/>
                  <a:pt x="20120" y="10970"/>
                  <a:pt x="18604" y="10716"/>
                </a:cubicBezTo>
                <a:cubicBezTo>
                  <a:pt x="18332" y="10670"/>
                  <a:pt x="18065" y="10625"/>
                  <a:pt x="17785" y="10592"/>
                </a:cubicBezTo>
                <a:cubicBezTo>
                  <a:pt x="17487" y="10556"/>
                  <a:pt x="17190" y="10538"/>
                  <a:pt x="16892" y="10517"/>
                </a:cubicBezTo>
                <a:cubicBezTo>
                  <a:pt x="16502" y="10490"/>
                  <a:pt x="16115" y="10468"/>
                  <a:pt x="15726" y="10443"/>
                </a:cubicBezTo>
                <a:cubicBezTo>
                  <a:pt x="15412" y="10423"/>
                  <a:pt x="15099" y="10420"/>
                  <a:pt x="14784" y="10418"/>
                </a:cubicBezTo>
                <a:cubicBezTo>
                  <a:pt x="12898" y="10407"/>
                  <a:pt x="11012" y="10452"/>
                  <a:pt x="9128" y="10418"/>
                </a:cubicBezTo>
                <a:cubicBezTo>
                  <a:pt x="8437" y="10406"/>
                  <a:pt x="7755" y="10397"/>
                  <a:pt x="7069" y="10368"/>
                </a:cubicBezTo>
                <a:cubicBezTo>
                  <a:pt x="6640" y="10350"/>
                  <a:pt x="6208" y="10367"/>
                  <a:pt x="5779" y="10344"/>
                </a:cubicBezTo>
                <a:cubicBezTo>
                  <a:pt x="5361" y="10322"/>
                  <a:pt x="4937" y="10275"/>
                  <a:pt x="4514" y="10269"/>
                </a:cubicBezTo>
                <a:cubicBezTo>
                  <a:pt x="3878" y="10260"/>
                  <a:pt x="3262" y="10211"/>
                  <a:pt x="2629" y="10195"/>
                </a:cubicBezTo>
                <a:cubicBezTo>
                  <a:pt x="2305" y="10187"/>
                  <a:pt x="2005" y="10155"/>
                  <a:pt x="1687" y="10120"/>
                </a:cubicBezTo>
                <a:cubicBezTo>
                  <a:pt x="1562" y="10106"/>
                  <a:pt x="1407" y="10066"/>
                  <a:pt x="1290" y="10071"/>
                </a:cubicBezTo>
                <a:cubicBezTo>
                  <a:pt x="1188" y="10075"/>
                  <a:pt x="1120" y="10143"/>
                  <a:pt x="1017" y="10145"/>
                </a:cubicBezTo>
                <a:cubicBezTo>
                  <a:pt x="992" y="10145"/>
                  <a:pt x="968" y="10145"/>
                  <a:pt x="943" y="101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Expand (2x – y)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7680" y="2125800"/>
            <a:ext cx="760320" cy="633240"/>
          </a:xfrm>
          <a:custGeom>
            <a:avLst/>
            <a:gdLst/>
            <a:ahLst/>
            <a:rect l="l" t="t" r="r" b="b"/>
            <a:pathLst>
              <a:path w="2109" h="1762">
                <a:moveTo>
                  <a:pt x="1439" y="7590"/>
                </a:moveTo>
                <a:cubicBezTo>
                  <a:pt x="1457" y="7602"/>
                  <a:pt x="1489" y="7635"/>
                  <a:pt x="1538" y="7640"/>
                </a:cubicBezTo>
                <a:cubicBezTo>
                  <a:pt x="1653" y="7652"/>
                  <a:pt x="1771" y="7654"/>
                  <a:pt x="1885" y="7665"/>
                </a:cubicBezTo>
                <a:cubicBezTo>
                  <a:pt x="2132" y="7690"/>
                  <a:pt x="2386" y="7630"/>
                  <a:pt x="2629" y="7640"/>
                </a:cubicBezTo>
                <a:cubicBezTo>
                  <a:pt x="2802" y="7647"/>
                  <a:pt x="2974" y="7665"/>
                  <a:pt x="3150" y="7665"/>
                </a:cubicBezTo>
                <a:cubicBezTo>
                  <a:pt x="3248" y="7665"/>
                  <a:pt x="3333" y="7674"/>
                  <a:pt x="3423" y="7640"/>
                </a:cubicBezTo>
                <a:cubicBezTo>
                  <a:pt x="3423" y="7615"/>
                  <a:pt x="3423" y="7607"/>
                  <a:pt x="3423" y="7640"/>
                </a:cubicBezTo>
              </a:path>
              <a:path w="2109" h="1762">
                <a:moveTo>
                  <a:pt x="2158" y="6077"/>
                </a:moveTo>
                <a:cubicBezTo>
                  <a:pt x="2158" y="6319"/>
                  <a:pt x="2159" y="6560"/>
                  <a:pt x="2133" y="6796"/>
                </a:cubicBezTo>
                <a:cubicBezTo>
                  <a:pt x="2119" y="6918"/>
                  <a:pt x="2083" y="7266"/>
                  <a:pt x="2158" y="7367"/>
                </a:cubicBezTo>
              </a:path>
              <a:path w="2109" h="1762">
                <a:moveTo>
                  <a:pt x="2456" y="6325"/>
                </a:moveTo>
                <a:cubicBezTo>
                  <a:pt x="2447" y="6386"/>
                  <a:pt x="2431" y="6408"/>
                  <a:pt x="2431" y="6474"/>
                </a:cubicBezTo>
                <a:cubicBezTo>
                  <a:pt x="2431" y="6557"/>
                  <a:pt x="2406" y="6633"/>
                  <a:pt x="2406" y="6722"/>
                </a:cubicBezTo>
                <a:cubicBezTo>
                  <a:pt x="2406" y="6806"/>
                  <a:pt x="2360" y="6883"/>
                  <a:pt x="2381" y="6970"/>
                </a:cubicBezTo>
                <a:cubicBezTo>
                  <a:pt x="2392" y="7016"/>
                  <a:pt x="2408" y="7105"/>
                  <a:pt x="2431" y="7144"/>
                </a:cubicBezTo>
                <a:cubicBezTo>
                  <a:pt x="2448" y="7172"/>
                  <a:pt x="2494" y="7212"/>
                  <a:pt x="2530" y="7193"/>
                </a:cubicBezTo>
                <a:cubicBezTo>
                  <a:pt x="2538" y="7185"/>
                  <a:pt x="2547" y="7177"/>
                  <a:pt x="2555" y="7169"/>
                </a:cubicBezTo>
              </a:path>
              <a:path w="2109" h="1762">
                <a:moveTo>
                  <a:pt x="2580" y="6573"/>
                </a:moveTo>
                <a:cubicBezTo>
                  <a:pt x="2606" y="6562"/>
                  <a:pt x="2670" y="6529"/>
                  <a:pt x="2704" y="6548"/>
                </a:cubicBezTo>
                <a:cubicBezTo>
                  <a:pt x="2746" y="6571"/>
                  <a:pt x="2729" y="6632"/>
                  <a:pt x="2729" y="6672"/>
                </a:cubicBezTo>
                <a:cubicBezTo>
                  <a:pt x="2729" y="6756"/>
                  <a:pt x="2671" y="6817"/>
                  <a:pt x="2654" y="6896"/>
                </a:cubicBezTo>
                <a:cubicBezTo>
                  <a:pt x="2643" y="6948"/>
                  <a:pt x="2626" y="7020"/>
                  <a:pt x="2604" y="7069"/>
                </a:cubicBezTo>
                <a:cubicBezTo>
                  <a:pt x="2581" y="7119"/>
                  <a:pt x="2566" y="7115"/>
                  <a:pt x="2604" y="7144"/>
                </a:cubicBezTo>
                <a:cubicBezTo>
                  <a:pt x="2659" y="7186"/>
                  <a:pt x="2650" y="7162"/>
                  <a:pt x="2704" y="7144"/>
                </a:cubicBezTo>
                <a:cubicBezTo>
                  <a:pt x="2735" y="7134"/>
                  <a:pt x="2770" y="7126"/>
                  <a:pt x="2803" y="7119"/>
                </a:cubicBezTo>
              </a:path>
              <a:path w="2109" h="1762">
                <a:moveTo>
                  <a:pt x="2803" y="6747"/>
                </a:moveTo>
                <a:cubicBezTo>
                  <a:pt x="2837" y="6814"/>
                  <a:pt x="2842" y="6883"/>
                  <a:pt x="2877" y="6945"/>
                </a:cubicBezTo>
                <a:cubicBezTo>
                  <a:pt x="2909" y="7003"/>
                  <a:pt x="2960" y="7062"/>
                  <a:pt x="3001" y="7094"/>
                </a:cubicBezTo>
                <a:cubicBezTo>
                  <a:pt x="3032" y="7119"/>
                  <a:pt x="3044" y="7120"/>
                  <a:pt x="3076" y="7144"/>
                </a:cubicBezTo>
                <a:cubicBezTo>
                  <a:pt x="3107" y="7120"/>
                  <a:pt x="3119" y="7118"/>
                  <a:pt x="3150" y="7094"/>
                </a:cubicBezTo>
              </a:path>
              <a:path w="2109" h="1762">
                <a:moveTo>
                  <a:pt x="3051" y="6722"/>
                </a:moveTo>
                <a:cubicBezTo>
                  <a:pt x="3012" y="6799"/>
                  <a:pt x="2970" y="6870"/>
                  <a:pt x="2927" y="6945"/>
                </a:cubicBezTo>
                <a:cubicBezTo>
                  <a:pt x="2888" y="7013"/>
                  <a:pt x="2876" y="7076"/>
                  <a:pt x="2853" y="7144"/>
                </a:cubicBezTo>
                <a:cubicBezTo>
                  <a:pt x="2852" y="7146"/>
                  <a:pt x="2792" y="7316"/>
                  <a:pt x="2828" y="7268"/>
                </a:cubicBezTo>
                <a:cubicBezTo>
                  <a:pt x="2828" y="7260"/>
                  <a:pt x="2828" y="7251"/>
                  <a:pt x="2828" y="7243"/>
                </a:cubicBezTo>
              </a:path>
              <a:path w="2109" h="1762">
                <a:moveTo>
                  <a:pt x="3026" y="6251"/>
                </a:moveTo>
                <a:cubicBezTo>
                  <a:pt x="3160" y="6318"/>
                  <a:pt x="3139" y="6367"/>
                  <a:pt x="3175" y="6524"/>
                </a:cubicBezTo>
                <a:cubicBezTo>
                  <a:pt x="3207" y="6665"/>
                  <a:pt x="3200" y="6801"/>
                  <a:pt x="3200" y="6945"/>
                </a:cubicBezTo>
                <a:cubicBezTo>
                  <a:pt x="3200" y="7035"/>
                  <a:pt x="3184" y="7137"/>
                  <a:pt x="3150" y="7218"/>
                </a:cubicBezTo>
                <a:cubicBezTo>
                  <a:pt x="3136" y="7250"/>
                  <a:pt x="3081" y="7327"/>
                  <a:pt x="3051" y="7342"/>
                </a:cubicBezTo>
                <a:cubicBezTo>
                  <a:pt x="2981" y="7377"/>
                  <a:pt x="3024" y="7276"/>
                  <a:pt x="3026" y="7268"/>
                </a:cubicBezTo>
              </a:path>
              <a:path w="2109" h="1762">
                <a:moveTo>
                  <a:pt x="3299" y="5953"/>
                </a:moveTo>
                <a:cubicBezTo>
                  <a:pt x="3357" y="5953"/>
                  <a:pt x="3404" y="5956"/>
                  <a:pt x="3448" y="5928"/>
                </a:cubicBezTo>
                <a:cubicBezTo>
                  <a:pt x="3470" y="5906"/>
                  <a:pt x="3475" y="5898"/>
                  <a:pt x="3497" y="5904"/>
                </a:cubicBezTo>
              </a:path>
              <a:path w="2109" h="1762">
                <a:moveTo>
                  <a:pt x="3299" y="5978"/>
                </a:moveTo>
                <a:cubicBezTo>
                  <a:pt x="3246" y="6040"/>
                  <a:pt x="3249" y="6030"/>
                  <a:pt x="3249" y="6102"/>
                </a:cubicBezTo>
                <a:cubicBezTo>
                  <a:pt x="3287" y="6089"/>
                  <a:pt x="3270" y="6077"/>
                  <a:pt x="3324" y="6077"/>
                </a:cubicBezTo>
                <a:cubicBezTo>
                  <a:pt x="3387" y="6077"/>
                  <a:pt x="3422" y="6074"/>
                  <a:pt x="3473" y="6102"/>
                </a:cubicBezTo>
                <a:cubicBezTo>
                  <a:pt x="3515" y="6125"/>
                  <a:pt x="3602" y="6177"/>
                  <a:pt x="3522" y="6226"/>
                </a:cubicBezTo>
                <a:cubicBezTo>
                  <a:pt x="3494" y="6243"/>
                  <a:pt x="3460" y="6251"/>
                  <a:pt x="3423" y="6251"/>
                </a:cubicBezTo>
                <a:cubicBezTo>
                  <a:pt x="3398" y="6251"/>
                  <a:pt x="3390" y="6251"/>
                  <a:pt x="3373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89040" y="2071800"/>
            <a:ext cx="6662880" cy="955440"/>
          </a:xfrm>
          <a:custGeom>
            <a:avLst/>
            <a:gdLst/>
            <a:ahLst/>
            <a:rect l="l" t="t" r="r" b="b"/>
            <a:pathLst>
              <a:path w="18506" h="2655">
                <a:moveTo>
                  <a:pt x="4762" y="7689"/>
                </a:moveTo>
                <a:cubicBezTo>
                  <a:pt x="4846" y="7720"/>
                  <a:pt x="4920" y="7714"/>
                  <a:pt x="5011" y="7714"/>
                </a:cubicBezTo>
                <a:cubicBezTo>
                  <a:pt x="5697" y="7714"/>
                  <a:pt x="6383" y="7714"/>
                  <a:pt x="7069" y="7714"/>
                </a:cubicBezTo>
              </a:path>
              <a:path w="18506" h="2655">
                <a:moveTo>
                  <a:pt x="8285" y="7813"/>
                </a:moveTo>
                <a:cubicBezTo>
                  <a:pt x="8370" y="7845"/>
                  <a:pt x="8440" y="7838"/>
                  <a:pt x="8533" y="7838"/>
                </a:cubicBezTo>
                <a:cubicBezTo>
                  <a:pt x="8890" y="7838"/>
                  <a:pt x="9243" y="7850"/>
                  <a:pt x="9599" y="7863"/>
                </a:cubicBezTo>
                <a:cubicBezTo>
                  <a:pt x="9807" y="7871"/>
                  <a:pt x="10013" y="7884"/>
                  <a:pt x="10220" y="7888"/>
                </a:cubicBezTo>
                <a:cubicBezTo>
                  <a:pt x="10266" y="7889"/>
                  <a:pt x="10608" y="7920"/>
                  <a:pt x="10616" y="7863"/>
                </a:cubicBezTo>
                <a:cubicBezTo>
                  <a:pt x="10619" y="7839"/>
                  <a:pt x="10584" y="7856"/>
                  <a:pt x="10567" y="7838"/>
                </a:cubicBezTo>
                <a:cubicBezTo>
                  <a:pt x="10593" y="7858"/>
                  <a:pt x="10566" y="7855"/>
                  <a:pt x="10616" y="7863"/>
                </a:cubicBezTo>
              </a:path>
              <a:path w="18506" h="2655">
                <a:moveTo>
                  <a:pt x="12154" y="7913"/>
                </a:moveTo>
                <a:cubicBezTo>
                  <a:pt x="12277" y="7948"/>
                  <a:pt x="12366" y="7962"/>
                  <a:pt x="12502" y="7962"/>
                </a:cubicBezTo>
                <a:cubicBezTo>
                  <a:pt x="13015" y="7962"/>
                  <a:pt x="13528" y="7966"/>
                  <a:pt x="14039" y="7938"/>
                </a:cubicBezTo>
                <a:cubicBezTo>
                  <a:pt x="14205" y="7929"/>
                  <a:pt x="14385" y="7934"/>
                  <a:pt x="14536" y="7913"/>
                </a:cubicBezTo>
                <a:cubicBezTo>
                  <a:pt x="14585" y="7906"/>
                  <a:pt x="14576" y="7906"/>
                  <a:pt x="14610" y="7888"/>
                </a:cubicBezTo>
                <a:cubicBezTo>
                  <a:pt x="14627" y="7880"/>
                  <a:pt x="14643" y="7871"/>
                  <a:pt x="14660" y="7863"/>
                </a:cubicBezTo>
              </a:path>
              <a:path w="18506" h="2655">
                <a:moveTo>
                  <a:pt x="15776" y="7987"/>
                </a:moveTo>
                <a:cubicBezTo>
                  <a:pt x="16331" y="7987"/>
                  <a:pt x="16886" y="7984"/>
                  <a:pt x="17438" y="8012"/>
                </a:cubicBezTo>
                <a:cubicBezTo>
                  <a:pt x="17612" y="8021"/>
                  <a:pt x="17787" y="8032"/>
                  <a:pt x="17959" y="8037"/>
                </a:cubicBezTo>
                <a:cubicBezTo>
                  <a:pt x="18072" y="8040"/>
                  <a:pt x="18096" y="8060"/>
                  <a:pt x="18132" y="7987"/>
                </a:cubicBezTo>
                <a:cubicBezTo>
                  <a:pt x="18107" y="7987"/>
                  <a:pt x="18099" y="7987"/>
                  <a:pt x="18132" y="7987"/>
                </a:cubicBezTo>
              </a:path>
              <a:path w="18506" h="2655">
                <a:moveTo>
                  <a:pt x="19670" y="7962"/>
                </a:moveTo>
                <a:cubicBezTo>
                  <a:pt x="19770" y="7987"/>
                  <a:pt x="19860" y="7987"/>
                  <a:pt x="19968" y="7987"/>
                </a:cubicBezTo>
                <a:cubicBezTo>
                  <a:pt x="20250" y="7987"/>
                  <a:pt x="20529" y="8008"/>
                  <a:pt x="20811" y="8012"/>
                </a:cubicBezTo>
                <a:cubicBezTo>
                  <a:pt x="21110" y="8016"/>
                  <a:pt x="21405" y="8033"/>
                  <a:pt x="21704" y="8037"/>
                </a:cubicBezTo>
                <a:cubicBezTo>
                  <a:pt x="21954" y="8040"/>
                  <a:pt x="22199" y="8074"/>
                  <a:pt x="22448" y="8086"/>
                </a:cubicBezTo>
                <a:cubicBezTo>
                  <a:pt x="22559" y="8092"/>
                  <a:pt x="22795" y="8128"/>
                  <a:pt x="22895" y="8062"/>
                </a:cubicBezTo>
                <a:cubicBezTo>
                  <a:pt x="22942" y="8031"/>
                  <a:pt x="22912" y="8050"/>
                  <a:pt x="22870" y="8037"/>
                </a:cubicBezTo>
                <a:cubicBezTo>
                  <a:pt x="22853" y="8037"/>
                  <a:pt x="22837" y="8037"/>
                  <a:pt x="22820" y="8037"/>
                </a:cubicBezTo>
              </a:path>
              <a:path w="18506" h="2655">
                <a:moveTo>
                  <a:pt x="4614" y="6226"/>
                </a:moveTo>
                <a:cubicBezTo>
                  <a:pt x="4651" y="6213"/>
                  <a:pt x="4635" y="6201"/>
                  <a:pt x="4688" y="6201"/>
                </a:cubicBezTo>
                <a:cubicBezTo>
                  <a:pt x="4809" y="6201"/>
                  <a:pt x="4921" y="6195"/>
                  <a:pt x="5035" y="6176"/>
                </a:cubicBezTo>
                <a:cubicBezTo>
                  <a:pt x="5082" y="6168"/>
                  <a:pt x="5136" y="6176"/>
                  <a:pt x="5184" y="6176"/>
                </a:cubicBezTo>
              </a:path>
              <a:path w="18506" h="2655">
                <a:moveTo>
                  <a:pt x="4638" y="6251"/>
                </a:moveTo>
                <a:cubicBezTo>
                  <a:pt x="4625" y="6305"/>
                  <a:pt x="4598" y="6378"/>
                  <a:pt x="4589" y="6424"/>
                </a:cubicBezTo>
                <a:cubicBezTo>
                  <a:pt x="4577" y="6485"/>
                  <a:pt x="4589" y="6560"/>
                  <a:pt x="4589" y="6623"/>
                </a:cubicBezTo>
                <a:cubicBezTo>
                  <a:pt x="4620" y="6618"/>
                  <a:pt x="4668" y="6618"/>
                  <a:pt x="4688" y="6598"/>
                </a:cubicBezTo>
                <a:cubicBezTo>
                  <a:pt x="4735" y="6550"/>
                  <a:pt x="4711" y="6543"/>
                  <a:pt x="4812" y="6524"/>
                </a:cubicBezTo>
                <a:cubicBezTo>
                  <a:pt x="4862" y="6515"/>
                  <a:pt x="4918" y="6522"/>
                  <a:pt x="4961" y="6548"/>
                </a:cubicBezTo>
                <a:cubicBezTo>
                  <a:pt x="5009" y="6577"/>
                  <a:pt x="5058" y="6674"/>
                  <a:pt x="5085" y="6722"/>
                </a:cubicBezTo>
                <a:cubicBezTo>
                  <a:pt x="5111" y="6769"/>
                  <a:pt x="5147" y="6891"/>
                  <a:pt x="5135" y="6945"/>
                </a:cubicBezTo>
                <a:cubicBezTo>
                  <a:pt x="5118" y="7022"/>
                  <a:pt x="5083" y="7080"/>
                  <a:pt x="5035" y="7144"/>
                </a:cubicBezTo>
                <a:cubicBezTo>
                  <a:pt x="4990" y="7203"/>
                  <a:pt x="4921" y="7198"/>
                  <a:pt x="4862" y="7218"/>
                </a:cubicBezTo>
                <a:cubicBezTo>
                  <a:pt x="4803" y="7238"/>
                  <a:pt x="4729" y="7261"/>
                  <a:pt x="4663" y="7243"/>
                </a:cubicBezTo>
                <a:cubicBezTo>
                  <a:pt x="4623" y="7232"/>
                  <a:pt x="4548" y="7211"/>
                  <a:pt x="4514" y="7193"/>
                </a:cubicBezTo>
                <a:cubicBezTo>
                  <a:pt x="4479" y="7175"/>
                  <a:pt x="4443" y="7122"/>
                  <a:pt x="4415" y="7094"/>
                </a:cubicBezTo>
              </a:path>
              <a:path w="18506" h="2655">
                <a:moveTo>
                  <a:pt x="8210" y="6201"/>
                </a:moveTo>
                <a:cubicBezTo>
                  <a:pt x="8221" y="6246"/>
                  <a:pt x="8248" y="6269"/>
                  <a:pt x="8235" y="6325"/>
                </a:cubicBezTo>
                <a:cubicBezTo>
                  <a:pt x="8211" y="6429"/>
                  <a:pt x="8210" y="6514"/>
                  <a:pt x="8210" y="6623"/>
                </a:cubicBezTo>
                <a:cubicBezTo>
                  <a:pt x="8210" y="6751"/>
                  <a:pt x="8196" y="6870"/>
                  <a:pt x="8186" y="6995"/>
                </a:cubicBezTo>
                <a:cubicBezTo>
                  <a:pt x="8176" y="7119"/>
                  <a:pt x="8166" y="7244"/>
                  <a:pt x="8161" y="7367"/>
                </a:cubicBezTo>
                <a:cubicBezTo>
                  <a:pt x="8158" y="7433"/>
                  <a:pt x="8161" y="7499"/>
                  <a:pt x="8161" y="7565"/>
                </a:cubicBezTo>
                <a:cubicBezTo>
                  <a:pt x="8176" y="7479"/>
                  <a:pt x="8203" y="7405"/>
                  <a:pt x="8210" y="7317"/>
                </a:cubicBezTo>
              </a:path>
              <a:path w="18506" h="2655">
                <a:moveTo>
                  <a:pt x="8458" y="6524"/>
                </a:moveTo>
                <a:cubicBezTo>
                  <a:pt x="8450" y="6650"/>
                  <a:pt x="8420" y="6770"/>
                  <a:pt x="8409" y="6896"/>
                </a:cubicBezTo>
                <a:cubicBezTo>
                  <a:pt x="8400" y="7008"/>
                  <a:pt x="8368" y="7129"/>
                  <a:pt x="8384" y="7243"/>
                </a:cubicBezTo>
                <a:cubicBezTo>
                  <a:pt x="8399" y="7350"/>
                  <a:pt x="8414" y="7397"/>
                  <a:pt x="8483" y="7466"/>
                </a:cubicBezTo>
                <a:cubicBezTo>
                  <a:pt x="8582" y="7442"/>
                  <a:pt x="8611" y="7407"/>
                  <a:pt x="8657" y="7317"/>
                </a:cubicBezTo>
                <a:cubicBezTo>
                  <a:pt x="8707" y="7219"/>
                  <a:pt x="8744" y="7106"/>
                  <a:pt x="8731" y="6995"/>
                </a:cubicBezTo>
                <a:cubicBezTo>
                  <a:pt x="8718" y="6881"/>
                  <a:pt x="8699" y="6756"/>
                  <a:pt x="8657" y="6648"/>
                </a:cubicBezTo>
                <a:cubicBezTo>
                  <a:pt x="8636" y="6595"/>
                  <a:pt x="8586" y="6565"/>
                  <a:pt x="8558" y="6524"/>
                </a:cubicBezTo>
                <a:cubicBezTo>
                  <a:pt x="8533" y="6499"/>
                  <a:pt x="8525" y="6491"/>
                  <a:pt x="8508" y="6474"/>
                </a:cubicBezTo>
              </a:path>
              <a:path w="18506" h="2655">
                <a:moveTo>
                  <a:pt x="11832" y="6548"/>
                </a:moveTo>
                <a:cubicBezTo>
                  <a:pt x="11832" y="6645"/>
                  <a:pt x="11810" y="6726"/>
                  <a:pt x="11807" y="6821"/>
                </a:cubicBezTo>
                <a:cubicBezTo>
                  <a:pt x="11802" y="6974"/>
                  <a:pt x="11816" y="7120"/>
                  <a:pt x="11832" y="7268"/>
                </a:cubicBezTo>
                <a:cubicBezTo>
                  <a:pt x="11841" y="7353"/>
                  <a:pt x="11851" y="7434"/>
                  <a:pt x="11857" y="7516"/>
                </a:cubicBezTo>
                <a:cubicBezTo>
                  <a:pt x="11859" y="7548"/>
                  <a:pt x="11874" y="7560"/>
                  <a:pt x="11881" y="7590"/>
                </a:cubicBezTo>
                <a:cubicBezTo>
                  <a:pt x="11933" y="7551"/>
                  <a:pt x="11919" y="7584"/>
                  <a:pt x="11931" y="7516"/>
                </a:cubicBezTo>
              </a:path>
              <a:path w="18506" h="2655">
                <a:moveTo>
                  <a:pt x="12278" y="6747"/>
                </a:moveTo>
                <a:cubicBezTo>
                  <a:pt x="12220" y="6941"/>
                  <a:pt x="12179" y="7052"/>
                  <a:pt x="12179" y="7243"/>
                </a:cubicBezTo>
                <a:cubicBezTo>
                  <a:pt x="12179" y="7333"/>
                  <a:pt x="12154" y="7461"/>
                  <a:pt x="12204" y="7541"/>
                </a:cubicBezTo>
                <a:cubicBezTo>
                  <a:pt x="12220" y="7567"/>
                  <a:pt x="12256" y="7593"/>
                  <a:pt x="12278" y="7615"/>
                </a:cubicBezTo>
                <a:cubicBezTo>
                  <a:pt x="12303" y="7609"/>
                  <a:pt x="12386" y="7563"/>
                  <a:pt x="12402" y="7541"/>
                </a:cubicBezTo>
                <a:cubicBezTo>
                  <a:pt x="12474" y="7439"/>
                  <a:pt x="12469" y="7331"/>
                  <a:pt x="12502" y="7218"/>
                </a:cubicBezTo>
                <a:cubicBezTo>
                  <a:pt x="12527" y="7134"/>
                  <a:pt x="12547" y="7011"/>
                  <a:pt x="12526" y="6921"/>
                </a:cubicBezTo>
                <a:cubicBezTo>
                  <a:pt x="12511" y="6857"/>
                  <a:pt x="12456" y="6783"/>
                  <a:pt x="12402" y="6747"/>
                </a:cubicBezTo>
                <a:cubicBezTo>
                  <a:pt x="12356" y="6716"/>
                  <a:pt x="12331" y="6697"/>
                  <a:pt x="12278" y="6697"/>
                </a:cubicBezTo>
              </a:path>
              <a:path w="18506" h="2655">
                <a:moveTo>
                  <a:pt x="15850" y="6722"/>
                </a:moveTo>
                <a:cubicBezTo>
                  <a:pt x="15939" y="6722"/>
                  <a:pt x="16012" y="6709"/>
                  <a:pt x="16098" y="6697"/>
                </a:cubicBezTo>
                <a:cubicBezTo>
                  <a:pt x="16160" y="6688"/>
                  <a:pt x="16246" y="6722"/>
                  <a:pt x="16297" y="6672"/>
                </a:cubicBezTo>
                <a:cubicBezTo>
                  <a:pt x="16297" y="6664"/>
                  <a:pt x="16297" y="6656"/>
                  <a:pt x="16297" y="6648"/>
                </a:cubicBezTo>
              </a:path>
              <a:path w="18506" h="2655">
                <a:moveTo>
                  <a:pt x="15776" y="6747"/>
                </a:moveTo>
                <a:cubicBezTo>
                  <a:pt x="15743" y="6840"/>
                  <a:pt x="15706" y="6924"/>
                  <a:pt x="15701" y="7020"/>
                </a:cubicBezTo>
                <a:cubicBezTo>
                  <a:pt x="15698" y="7074"/>
                  <a:pt x="15690" y="7129"/>
                  <a:pt x="15726" y="7169"/>
                </a:cubicBezTo>
                <a:cubicBezTo>
                  <a:pt x="15726" y="7193"/>
                  <a:pt x="15726" y="7201"/>
                  <a:pt x="15751" y="7193"/>
                </a:cubicBezTo>
                <a:cubicBezTo>
                  <a:pt x="15761" y="7183"/>
                  <a:pt x="15787" y="7130"/>
                  <a:pt x="15801" y="7119"/>
                </a:cubicBezTo>
                <a:cubicBezTo>
                  <a:pt x="15874" y="7058"/>
                  <a:pt x="15954" y="7111"/>
                  <a:pt x="16024" y="7144"/>
                </a:cubicBezTo>
                <a:cubicBezTo>
                  <a:pt x="16098" y="7178"/>
                  <a:pt x="16185" y="7293"/>
                  <a:pt x="16222" y="7367"/>
                </a:cubicBezTo>
                <a:cubicBezTo>
                  <a:pt x="16259" y="7440"/>
                  <a:pt x="16289" y="7532"/>
                  <a:pt x="16272" y="7615"/>
                </a:cubicBezTo>
                <a:cubicBezTo>
                  <a:pt x="16250" y="7720"/>
                  <a:pt x="16212" y="7745"/>
                  <a:pt x="16123" y="7789"/>
                </a:cubicBezTo>
                <a:cubicBezTo>
                  <a:pt x="16035" y="7832"/>
                  <a:pt x="15971" y="7838"/>
                  <a:pt x="15875" y="7838"/>
                </a:cubicBezTo>
                <a:cubicBezTo>
                  <a:pt x="15800" y="7838"/>
                  <a:pt x="15779" y="7841"/>
                  <a:pt x="15726" y="7789"/>
                </a:cubicBezTo>
                <a:cubicBezTo>
                  <a:pt x="15703" y="7766"/>
                  <a:pt x="15695" y="7762"/>
                  <a:pt x="15701" y="7739"/>
                </a:cubicBezTo>
              </a:path>
              <a:path w="18506" h="2655">
                <a:moveTo>
                  <a:pt x="19546" y="6573"/>
                </a:moveTo>
                <a:cubicBezTo>
                  <a:pt x="19577" y="6655"/>
                  <a:pt x="19580" y="6734"/>
                  <a:pt x="19596" y="6821"/>
                </a:cubicBezTo>
                <a:cubicBezTo>
                  <a:pt x="19624" y="6969"/>
                  <a:pt x="19641" y="7117"/>
                  <a:pt x="19645" y="7268"/>
                </a:cubicBezTo>
                <a:cubicBezTo>
                  <a:pt x="19648" y="7406"/>
                  <a:pt x="19652" y="7531"/>
                  <a:pt x="19670" y="7665"/>
                </a:cubicBezTo>
                <a:cubicBezTo>
                  <a:pt x="19680" y="7737"/>
                  <a:pt x="19670" y="7815"/>
                  <a:pt x="19670" y="7888"/>
                </a:cubicBezTo>
              </a:path>
              <a:path w="18506" h="2655">
                <a:moveTo>
                  <a:pt x="5457" y="6102"/>
                </a:moveTo>
                <a:cubicBezTo>
                  <a:pt x="5457" y="6169"/>
                  <a:pt x="5417" y="6209"/>
                  <a:pt x="5407" y="6276"/>
                </a:cubicBezTo>
                <a:cubicBezTo>
                  <a:pt x="5373" y="6496"/>
                  <a:pt x="5329" y="6720"/>
                  <a:pt x="5308" y="6945"/>
                </a:cubicBezTo>
                <a:cubicBezTo>
                  <a:pt x="5300" y="7026"/>
                  <a:pt x="5308" y="7119"/>
                  <a:pt x="5333" y="7193"/>
                </a:cubicBezTo>
                <a:cubicBezTo>
                  <a:pt x="5349" y="7240"/>
                  <a:pt x="5384" y="7288"/>
                  <a:pt x="5432" y="7293"/>
                </a:cubicBezTo>
                <a:cubicBezTo>
                  <a:pt x="5457" y="7293"/>
                  <a:pt x="5465" y="7293"/>
                  <a:pt x="5482" y="7293"/>
                </a:cubicBezTo>
              </a:path>
              <a:path w="18506" h="2655">
                <a:moveTo>
                  <a:pt x="5507" y="6623"/>
                </a:moveTo>
                <a:cubicBezTo>
                  <a:pt x="5528" y="6608"/>
                  <a:pt x="5612" y="6524"/>
                  <a:pt x="5655" y="6548"/>
                </a:cubicBezTo>
                <a:cubicBezTo>
                  <a:pt x="5707" y="6577"/>
                  <a:pt x="5720" y="6642"/>
                  <a:pt x="5705" y="6697"/>
                </a:cubicBezTo>
                <a:cubicBezTo>
                  <a:pt x="5685" y="6770"/>
                  <a:pt x="5639" y="6853"/>
                  <a:pt x="5606" y="6921"/>
                </a:cubicBezTo>
                <a:cubicBezTo>
                  <a:pt x="5579" y="6977"/>
                  <a:pt x="5551" y="7035"/>
                  <a:pt x="5531" y="7094"/>
                </a:cubicBezTo>
                <a:cubicBezTo>
                  <a:pt x="5518" y="7132"/>
                  <a:pt x="5546" y="7178"/>
                  <a:pt x="5581" y="7193"/>
                </a:cubicBezTo>
                <a:cubicBezTo>
                  <a:pt x="5611" y="7206"/>
                  <a:pt x="5705" y="7181"/>
                  <a:pt x="5730" y="7169"/>
                </a:cubicBezTo>
                <a:cubicBezTo>
                  <a:pt x="5755" y="7144"/>
                  <a:pt x="5763" y="7136"/>
                  <a:pt x="5779" y="7119"/>
                </a:cubicBezTo>
              </a:path>
              <a:path w="18506" h="2655">
                <a:moveTo>
                  <a:pt x="5804" y="6722"/>
                </a:moveTo>
                <a:cubicBezTo>
                  <a:pt x="5841" y="6817"/>
                  <a:pt x="5899" y="6922"/>
                  <a:pt x="5928" y="7020"/>
                </a:cubicBezTo>
                <a:cubicBezTo>
                  <a:pt x="5938" y="7054"/>
                  <a:pt x="5986" y="7125"/>
                  <a:pt x="6028" y="7144"/>
                </a:cubicBezTo>
                <a:cubicBezTo>
                  <a:pt x="6060" y="7159"/>
                  <a:pt x="6081" y="7135"/>
                  <a:pt x="6102" y="7119"/>
                </a:cubicBezTo>
              </a:path>
              <a:path w="18506" h="2655">
                <a:moveTo>
                  <a:pt x="6003" y="6722"/>
                </a:moveTo>
                <a:cubicBezTo>
                  <a:pt x="5950" y="6859"/>
                  <a:pt x="5903" y="6976"/>
                  <a:pt x="5829" y="7094"/>
                </a:cubicBezTo>
                <a:cubicBezTo>
                  <a:pt x="5806" y="7131"/>
                  <a:pt x="5773" y="7176"/>
                  <a:pt x="5755" y="7218"/>
                </a:cubicBezTo>
                <a:cubicBezTo>
                  <a:pt x="5753" y="7223"/>
                  <a:pt x="5755" y="7312"/>
                  <a:pt x="5755" y="7243"/>
                </a:cubicBezTo>
              </a:path>
              <a:path w="18506" h="2655">
                <a:moveTo>
                  <a:pt x="6003" y="6052"/>
                </a:moveTo>
                <a:cubicBezTo>
                  <a:pt x="6114" y="6086"/>
                  <a:pt x="6161" y="6101"/>
                  <a:pt x="6226" y="6201"/>
                </a:cubicBezTo>
                <a:cubicBezTo>
                  <a:pt x="6305" y="6323"/>
                  <a:pt x="6297" y="6488"/>
                  <a:pt x="6300" y="6623"/>
                </a:cubicBezTo>
                <a:cubicBezTo>
                  <a:pt x="6303" y="6768"/>
                  <a:pt x="6295" y="6882"/>
                  <a:pt x="6251" y="7020"/>
                </a:cubicBezTo>
                <a:cubicBezTo>
                  <a:pt x="6225" y="7101"/>
                  <a:pt x="6201" y="7196"/>
                  <a:pt x="6152" y="7268"/>
                </a:cubicBezTo>
                <a:cubicBezTo>
                  <a:pt x="6143" y="7282"/>
                  <a:pt x="6063" y="7376"/>
                  <a:pt x="6077" y="7317"/>
                </a:cubicBezTo>
                <a:cubicBezTo>
                  <a:pt x="6085" y="7292"/>
                  <a:pt x="6094" y="7268"/>
                  <a:pt x="6102" y="7243"/>
                </a:cubicBezTo>
              </a:path>
              <a:path w="18506" h="2655">
                <a:moveTo>
                  <a:pt x="6375" y="5928"/>
                </a:moveTo>
                <a:cubicBezTo>
                  <a:pt x="6375" y="5969"/>
                  <a:pt x="6355" y="6079"/>
                  <a:pt x="6400" y="6102"/>
                </a:cubicBezTo>
                <a:cubicBezTo>
                  <a:pt x="6440" y="6123"/>
                  <a:pt x="6515" y="6091"/>
                  <a:pt x="6548" y="6077"/>
                </a:cubicBezTo>
              </a:path>
              <a:path w="18506" h="2655">
                <a:moveTo>
                  <a:pt x="6598" y="5755"/>
                </a:moveTo>
                <a:cubicBezTo>
                  <a:pt x="6565" y="5932"/>
                  <a:pt x="6524" y="6097"/>
                  <a:pt x="6524" y="6276"/>
                </a:cubicBezTo>
                <a:cubicBezTo>
                  <a:pt x="6524" y="6327"/>
                  <a:pt x="6525" y="6345"/>
                  <a:pt x="6548" y="6375"/>
                </a:cubicBezTo>
              </a:path>
              <a:path w="18506" h="2655">
                <a:moveTo>
                  <a:pt x="9128" y="6300"/>
                </a:moveTo>
                <a:cubicBezTo>
                  <a:pt x="9089" y="6368"/>
                  <a:pt x="9041" y="6428"/>
                  <a:pt x="9004" y="6499"/>
                </a:cubicBezTo>
                <a:cubicBezTo>
                  <a:pt x="8933" y="6635"/>
                  <a:pt x="8933" y="6752"/>
                  <a:pt x="8905" y="6896"/>
                </a:cubicBezTo>
                <a:cubicBezTo>
                  <a:pt x="8884" y="7006"/>
                  <a:pt x="8880" y="7105"/>
                  <a:pt x="8880" y="7218"/>
                </a:cubicBezTo>
                <a:cubicBezTo>
                  <a:pt x="8880" y="7294"/>
                  <a:pt x="8898" y="7356"/>
                  <a:pt x="8930" y="7417"/>
                </a:cubicBezTo>
                <a:cubicBezTo>
                  <a:pt x="8955" y="7465"/>
                  <a:pt x="8984" y="7501"/>
                  <a:pt x="9029" y="7466"/>
                </a:cubicBezTo>
                <a:cubicBezTo>
                  <a:pt x="9037" y="7458"/>
                  <a:pt x="9046" y="7449"/>
                  <a:pt x="9054" y="7441"/>
                </a:cubicBezTo>
              </a:path>
              <a:path w="18506" h="2655">
                <a:moveTo>
                  <a:pt x="9079" y="6796"/>
                </a:moveTo>
                <a:cubicBezTo>
                  <a:pt x="9108" y="6784"/>
                  <a:pt x="9197" y="6735"/>
                  <a:pt x="9227" y="6747"/>
                </a:cubicBezTo>
                <a:cubicBezTo>
                  <a:pt x="9271" y="6765"/>
                  <a:pt x="9277" y="6806"/>
                  <a:pt x="9277" y="6846"/>
                </a:cubicBezTo>
                <a:cubicBezTo>
                  <a:pt x="9277" y="6932"/>
                  <a:pt x="9257" y="6967"/>
                  <a:pt x="9227" y="7045"/>
                </a:cubicBezTo>
                <a:cubicBezTo>
                  <a:pt x="9198" y="7121"/>
                  <a:pt x="9165" y="7173"/>
                  <a:pt x="9128" y="7243"/>
                </a:cubicBezTo>
                <a:cubicBezTo>
                  <a:pt x="9101" y="7295"/>
                  <a:pt x="9079" y="7311"/>
                  <a:pt x="9079" y="7367"/>
                </a:cubicBezTo>
                <a:cubicBezTo>
                  <a:pt x="9079" y="7431"/>
                  <a:pt x="9129" y="7417"/>
                  <a:pt x="9178" y="7417"/>
                </a:cubicBezTo>
                <a:cubicBezTo>
                  <a:pt x="9228" y="7417"/>
                  <a:pt x="9289" y="7398"/>
                  <a:pt x="9327" y="7367"/>
                </a:cubicBezTo>
                <a:cubicBezTo>
                  <a:pt x="9351" y="7342"/>
                  <a:pt x="9359" y="7333"/>
                  <a:pt x="9376" y="7317"/>
                </a:cubicBezTo>
              </a:path>
              <a:path w="18506" h="2655">
                <a:moveTo>
                  <a:pt x="9426" y="6921"/>
                </a:moveTo>
                <a:cubicBezTo>
                  <a:pt x="9461" y="7028"/>
                  <a:pt x="9475" y="7119"/>
                  <a:pt x="9525" y="7218"/>
                </a:cubicBezTo>
                <a:cubicBezTo>
                  <a:pt x="9552" y="7272"/>
                  <a:pt x="9587" y="7313"/>
                  <a:pt x="9624" y="7342"/>
                </a:cubicBezTo>
                <a:cubicBezTo>
                  <a:pt x="9669" y="7377"/>
                  <a:pt x="9685" y="7374"/>
                  <a:pt x="9699" y="7317"/>
                </a:cubicBezTo>
              </a:path>
              <a:path w="18506" h="2655">
                <a:moveTo>
                  <a:pt x="9500" y="6921"/>
                </a:moveTo>
                <a:cubicBezTo>
                  <a:pt x="9459" y="7028"/>
                  <a:pt x="9417" y="7136"/>
                  <a:pt x="9376" y="7243"/>
                </a:cubicBezTo>
                <a:cubicBezTo>
                  <a:pt x="9351" y="7308"/>
                  <a:pt x="9355" y="7386"/>
                  <a:pt x="9327" y="7441"/>
                </a:cubicBezTo>
                <a:cubicBezTo>
                  <a:pt x="9307" y="7481"/>
                  <a:pt x="9309" y="7519"/>
                  <a:pt x="9327" y="7466"/>
                </a:cubicBezTo>
              </a:path>
              <a:path w="18506" h="2655">
                <a:moveTo>
                  <a:pt x="9649" y="6300"/>
                </a:moveTo>
                <a:cubicBezTo>
                  <a:pt x="9722" y="6359"/>
                  <a:pt x="9804" y="6424"/>
                  <a:pt x="9823" y="6524"/>
                </a:cubicBezTo>
                <a:cubicBezTo>
                  <a:pt x="9848" y="6653"/>
                  <a:pt x="9847" y="6788"/>
                  <a:pt x="9847" y="6921"/>
                </a:cubicBezTo>
                <a:cubicBezTo>
                  <a:pt x="9847" y="7051"/>
                  <a:pt x="9839" y="7145"/>
                  <a:pt x="9798" y="7268"/>
                </a:cubicBezTo>
                <a:cubicBezTo>
                  <a:pt x="9773" y="7343"/>
                  <a:pt x="9753" y="7387"/>
                  <a:pt x="9699" y="7441"/>
                </a:cubicBezTo>
                <a:cubicBezTo>
                  <a:pt x="9676" y="7464"/>
                  <a:pt x="9672" y="7472"/>
                  <a:pt x="9649" y="7466"/>
                </a:cubicBezTo>
                <a:cubicBezTo>
                  <a:pt x="9668" y="7397"/>
                  <a:pt x="9680" y="7337"/>
                  <a:pt x="9699" y="7268"/>
                </a:cubicBezTo>
              </a:path>
              <a:path w="18506" h="2655">
                <a:moveTo>
                  <a:pt x="9996" y="6028"/>
                </a:moveTo>
                <a:cubicBezTo>
                  <a:pt x="10078" y="6009"/>
                  <a:pt x="10163" y="5969"/>
                  <a:pt x="10195" y="6077"/>
                </a:cubicBezTo>
                <a:cubicBezTo>
                  <a:pt x="10210" y="6126"/>
                  <a:pt x="10175" y="6168"/>
                  <a:pt x="10145" y="6201"/>
                </a:cubicBezTo>
                <a:cubicBezTo>
                  <a:pt x="10125" y="6224"/>
                  <a:pt x="10057" y="6235"/>
                  <a:pt x="10046" y="6251"/>
                </a:cubicBezTo>
                <a:cubicBezTo>
                  <a:pt x="10046" y="6259"/>
                  <a:pt x="10046" y="6268"/>
                  <a:pt x="10046" y="6276"/>
                </a:cubicBezTo>
                <a:cubicBezTo>
                  <a:pt x="10085" y="6276"/>
                  <a:pt x="10139" y="6281"/>
                  <a:pt x="10170" y="6300"/>
                </a:cubicBezTo>
                <a:cubicBezTo>
                  <a:pt x="10200" y="6318"/>
                  <a:pt x="10241" y="6387"/>
                  <a:pt x="10220" y="6424"/>
                </a:cubicBezTo>
                <a:cubicBezTo>
                  <a:pt x="10192" y="6474"/>
                  <a:pt x="10122" y="6489"/>
                  <a:pt x="10071" y="6499"/>
                </a:cubicBezTo>
                <a:cubicBezTo>
                  <a:pt x="10009" y="6512"/>
                  <a:pt x="9977" y="6488"/>
                  <a:pt x="9922" y="6474"/>
                </a:cubicBezTo>
                <a:cubicBezTo>
                  <a:pt x="9914" y="6474"/>
                  <a:pt x="9905" y="6474"/>
                  <a:pt x="9897" y="6474"/>
                </a:cubicBezTo>
              </a:path>
              <a:path w="18506" h="2655">
                <a:moveTo>
                  <a:pt x="12824" y="6573"/>
                </a:moveTo>
                <a:cubicBezTo>
                  <a:pt x="12793" y="6645"/>
                  <a:pt x="12775" y="6720"/>
                  <a:pt x="12750" y="6796"/>
                </a:cubicBezTo>
                <a:cubicBezTo>
                  <a:pt x="12709" y="6919"/>
                  <a:pt x="12684" y="7045"/>
                  <a:pt x="12650" y="7169"/>
                </a:cubicBezTo>
                <a:cubicBezTo>
                  <a:pt x="12622" y="7272"/>
                  <a:pt x="12570" y="7426"/>
                  <a:pt x="12601" y="7541"/>
                </a:cubicBezTo>
                <a:cubicBezTo>
                  <a:pt x="12612" y="7583"/>
                  <a:pt x="12655" y="7669"/>
                  <a:pt x="12700" y="7689"/>
                </a:cubicBezTo>
                <a:cubicBezTo>
                  <a:pt x="12718" y="7697"/>
                  <a:pt x="12784" y="7689"/>
                  <a:pt x="12799" y="7689"/>
                </a:cubicBezTo>
              </a:path>
              <a:path w="18506" h="2655">
                <a:moveTo>
                  <a:pt x="12874" y="7020"/>
                </a:moveTo>
                <a:cubicBezTo>
                  <a:pt x="12930" y="6994"/>
                  <a:pt x="13009" y="6922"/>
                  <a:pt x="13047" y="6970"/>
                </a:cubicBezTo>
                <a:cubicBezTo>
                  <a:pt x="13080" y="7012"/>
                  <a:pt x="13063" y="7097"/>
                  <a:pt x="13047" y="7144"/>
                </a:cubicBezTo>
                <a:cubicBezTo>
                  <a:pt x="13016" y="7236"/>
                  <a:pt x="12944" y="7308"/>
                  <a:pt x="12898" y="7392"/>
                </a:cubicBezTo>
                <a:cubicBezTo>
                  <a:pt x="12886" y="7414"/>
                  <a:pt x="12840" y="7522"/>
                  <a:pt x="12849" y="7541"/>
                </a:cubicBezTo>
                <a:cubicBezTo>
                  <a:pt x="12857" y="7558"/>
                  <a:pt x="12935" y="7618"/>
                  <a:pt x="12948" y="7615"/>
                </a:cubicBezTo>
                <a:cubicBezTo>
                  <a:pt x="12992" y="7605"/>
                  <a:pt x="13036" y="7577"/>
                  <a:pt x="13072" y="7541"/>
                </a:cubicBezTo>
                <a:cubicBezTo>
                  <a:pt x="13108" y="7506"/>
                  <a:pt x="13121" y="7486"/>
                  <a:pt x="13146" y="7441"/>
                </a:cubicBezTo>
              </a:path>
              <a:path w="18506" h="2655">
                <a:moveTo>
                  <a:pt x="13146" y="7094"/>
                </a:moveTo>
                <a:cubicBezTo>
                  <a:pt x="13181" y="7193"/>
                  <a:pt x="13219" y="7323"/>
                  <a:pt x="13271" y="7417"/>
                </a:cubicBezTo>
                <a:cubicBezTo>
                  <a:pt x="13293" y="7457"/>
                  <a:pt x="13356" y="7494"/>
                  <a:pt x="13370" y="7516"/>
                </a:cubicBezTo>
                <a:cubicBezTo>
                  <a:pt x="13370" y="7524"/>
                  <a:pt x="13370" y="7533"/>
                  <a:pt x="13370" y="7541"/>
                </a:cubicBezTo>
                <a:cubicBezTo>
                  <a:pt x="13422" y="7502"/>
                  <a:pt x="13414" y="7511"/>
                  <a:pt x="13444" y="7441"/>
                </a:cubicBezTo>
              </a:path>
              <a:path w="18506" h="2655">
                <a:moveTo>
                  <a:pt x="13320" y="7094"/>
                </a:moveTo>
                <a:cubicBezTo>
                  <a:pt x="13271" y="7222"/>
                  <a:pt x="13214" y="7336"/>
                  <a:pt x="13171" y="7466"/>
                </a:cubicBezTo>
                <a:cubicBezTo>
                  <a:pt x="13148" y="7533"/>
                  <a:pt x="13115" y="7605"/>
                  <a:pt x="13097" y="7665"/>
                </a:cubicBezTo>
                <a:cubicBezTo>
                  <a:pt x="13079" y="7724"/>
                  <a:pt x="13107" y="7710"/>
                  <a:pt x="13122" y="7665"/>
                </a:cubicBezTo>
                <a:cubicBezTo>
                  <a:pt x="13122" y="7657"/>
                  <a:pt x="13122" y="7648"/>
                  <a:pt x="13122" y="7640"/>
                </a:cubicBezTo>
              </a:path>
              <a:path w="18506" h="2655">
                <a:moveTo>
                  <a:pt x="13395" y="6573"/>
                </a:moveTo>
                <a:cubicBezTo>
                  <a:pt x="13451" y="6662"/>
                  <a:pt x="13491" y="6743"/>
                  <a:pt x="13519" y="6846"/>
                </a:cubicBezTo>
                <a:cubicBezTo>
                  <a:pt x="13573" y="7040"/>
                  <a:pt x="13535" y="7225"/>
                  <a:pt x="13519" y="7417"/>
                </a:cubicBezTo>
                <a:cubicBezTo>
                  <a:pt x="13510" y="7517"/>
                  <a:pt x="13488" y="7597"/>
                  <a:pt x="13444" y="7689"/>
                </a:cubicBezTo>
                <a:cubicBezTo>
                  <a:pt x="13415" y="7750"/>
                  <a:pt x="13408" y="7764"/>
                  <a:pt x="13345" y="7764"/>
                </a:cubicBezTo>
                <a:cubicBezTo>
                  <a:pt x="13345" y="7723"/>
                  <a:pt x="13345" y="7681"/>
                  <a:pt x="13345" y="7640"/>
                </a:cubicBezTo>
              </a:path>
              <a:path w="18506" h="2655">
                <a:moveTo>
                  <a:pt x="13643" y="6424"/>
                </a:moveTo>
                <a:cubicBezTo>
                  <a:pt x="13742" y="6395"/>
                  <a:pt x="13726" y="6385"/>
                  <a:pt x="13767" y="6449"/>
                </a:cubicBezTo>
                <a:cubicBezTo>
                  <a:pt x="13810" y="6516"/>
                  <a:pt x="13777" y="6554"/>
                  <a:pt x="13742" y="6623"/>
                </a:cubicBezTo>
                <a:cubicBezTo>
                  <a:pt x="13720" y="6667"/>
                  <a:pt x="13671" y="6693"/>
                  <a:pt x="13667" y="6722"/>
                </a:cubicBezTo>
                <a:cubicBezTo>
                  <a:pt x="13667" y="6730"/>
                  <a:pt x="13667" y="6739"/>
                  <a:pt x="13667" y="6747"/>
                </a:cubicBezTo>
                <a:cubicBezTo>
                  <a:pt x="13720" y="6736"/>
                  <a:pt x="13789" y="6737"/>
                  <a:pt x="13841" y="6722"/>
                </a:cubicBezTo>
                <a:cubicBezTo>
                  <a:pt x="13906" y="6704"/>
                  <a:pt x="13900" y="6709"/>
                  <a:pt x="13965" y="6722"/>
                </a:cubicBezTo>
              </a:path>
              <a:path w="18506" h="2655">
                <a:moveTo>
                  <a:pt x="16594" y="6722"/>
                </a:moveTo>
                <a:cubicBezTo>
                  <a:pt x="16539" y="6849"/>
                  <a:pt x="16488" y="6988"/>
                  <a:pt x="16446" y="7119"/>
                </a:cubicBezTo>
                <a:cubicBezTo>
                  <a:pt x="16412" y="7224"/>
                  <a:pt x="16400" y="7357"/>
                  <a:pt x="16396" y="7466"/>
                </a:cubicBezTo>
                <a:cubicBezTo>
                  <a:pt x="16393" y="7545"/>
                  <a:pt x="16372" y="7678"/>
                  <a:pt x="16421" y="7739"/>
                </a:cubicBezTo>
                <a:cubicBezTo>
                  <a:pt x="16471" y="7801"/>
                  <a:pt x="16465" y="7784"/>
                  <a:pt x="16495" y="7739"/>
                </a:cubicBezTo>
                <a:cubicBezTo>
                  <a:pt x="16503" y="7731"/>
                  <a:pt x="16512" y="7722"/>
                  <a:pt x="16520" y="7714"/>
                </a:cubicBezTo>
              </a:path>
              <a:path w="18506" h="2655">
                <a:moveTo>
                  <a:pt x="16644" y="7045"/>
                </a:moveTo>
                <a:cubicBezTo>
                  <a:pt x="16686" y="7045"/>
                  <a:pt x="16845" y="7015"/>
                  <a:pt x="16867" y="7094"/>
                </a:cubicBezTo>
                <a:cubicBezTo>
                  <a:pt x="16884" y="7153"/>
                  <a:pt x="16866" y="7223"/>
                  <a:pt x="16842" y="7268"/>
                </a:cubicBezTo>
                <a:cubicBezTo>
                  <a:pt x="16793" y="7360"/>
                  <a:pt x="16747" y="7453"/>
                  <a:pt x="16694" y="7541"/>
                </a:cubicBezTo>
                <a:cubicBezTo>
                  <a:pt x="16674" y="7574"/>
                  <a:pt x="16644" y="7639"/>
                  <a:pt x="16694" y="7665"/>
                </a:cubicBezTo>
                <a:cubicBezTo>
                  <a:pt x="16723" y="7680"/>
                  <a:pt x="16779" y="7705"/>
                  <a:pt x="16818" y="7689"/>
                </a:cubicBezTo>
                <a:cubicBezTo>
                  <a:pt x="16862" y="7671"/>
                  <a:pt x="16928" y="7615"/>
                  <a:pt x="16966" y="7590"/>
                </a:cubicBezTo>
              </a:path>
              <a:path w="18506" h="2655">
                <a:moveTo>
                  <a:pt x="16942" y="7218"/>
                </a:moveTo>
                <a:cubicBezTo>
                  <a:pt x="16995" y="7325"/>
                  <a:pt x="17043" y="7445"/>
                  <a:pt x="17115" y="7541"/>
                </a:cubicBezTo>
                <a:cubicBezTo>
                  <a:pt x="17128" y="7558"/>
                  <a:pt x="17221" y="7598"/>
                  <a:pt x="17239" y="7590"/>
                </a:cubicBezTo>
                <a:cubicBezTo>
                  <a:pt x="17264" y="7565"/>
                  <a:pt x="17272" y="7557"/>
                  <a:pt x="17289" y="7541"/>
                </a:cubicBezTo>
              </a:path>
              <a:path w="18506" h="2655">
                <a:moveTo>
                  <a:pt x="17140" y="7218"/>
                </a:moveTo>
                <a:cubicBezTo>
                  <a:pt x="17075" y="7341"/>
                  <a:pt x="16949" y="7534"/>
                  <a:pt x="16917" y="7689"/>
                </a:cubicBezTo>
                <a:cubicBezTo>
                  <a:pt x="16914" y="7703"/>
                  <a:pt x="16907" y="7820"/>
                  <a:pt x="16917" y="7789"/>
                </a:cubicBezTo>
                <a:cubicBezTo>
                  <a:pt x="16917" y="7772"/>
                  <a:pt x="16917" y="7756"/>
                  <a:pt x="16917" y="7739"/>
                </a:cubicBezTo>
              </a:path>
              <a:path w="18506" h="2655">
                <a:moveTo>
                  <a:pt x="17214" y="6747"/>
                </a:moveTo>
                <a:cubicBezTo>
                  <a:pt x="17359" y="6829"/>
                  <a:pt x="17371" y="6859"/>
                  <a:pt x="17413" y="7020"/>
                </a:cubicBezTo>
                <a:cubicBezTo>
                  <a:pt x="17454" y="7177"/>
                  <a:pt x="17428" y="7310"/>
                  <a:pt x="17413" y="7466"/>
                </a:cubicBezTo>
                <a:cubicBezTo>
                  <a:pt x="17401" y="7592"/>
                  <a:pt x="17381" y="7701"/>
                  <a:pt x="17314" y="7813"/>
                </a:cubicBezTo>
                <a:cubicBezTo>
                  <a:pt x="17296" y="7843"/>
                  <a:pt x="17227" y="7884"/>
                  <a:pt x="17190" y="7863"/>
                </a:cubicBezTo>
                <a:cubicBezTo>
                  <a:pt x="17164" y="7848"/>
                  <a:pt x="17151" y="7789"/>
                  <a:pt x="17140" y="7764"/>
                </a:cubicBezTo>
              </a:path>
              <a:path w="18506" h="2655">
                <a:moveTo>
                  <a:pt x="17562" y="6573"/>
                </a:moveTo>
                <a:cubicBezTo>
                  <a:pt x="17546" y="6697"/>
                  <a:pt x="17521" y="6823"/>
                  <a:pt x="17512" y="6945"/>
                </a:cubicBezTo>
                <a:cubicBezTo>
                  <a:pt x="17512" y="6970"/>
                  <a:pt x="17512" y="6978"/>
                  <a:pt x="17512" y="6995"/>
                </a:cubicBezTo>
              </a:path>
              <a:path w="18506" h="2655">
                <a:moveTo>
                  <a:pt x="20513" y="6499"/>
                </a:moveTo>
                <a:cubicBezTo>
                  <a:pt x="20482" y="6552"/>
                  <a:pt x="20462" y="6608"/>
                  <a:pt x="20439" y="6672"/>
                </a:cubicBezTo>
                <a:cubicBezTo>
                  <a:pt x="20398" y="6786"/>
                  <a:pt x="20370" y="6902"/>
                  <a:pt x="20340" y="7020"/>
                </a:cubicBezTo>
                <a:cubicBezTo>
                  <a:pt x="20301" y="7176"/>
                  <a:pt x="20265" y="7304"/>
                  <a:pt x="20265" y="7466"/>
                </a:cubicBezTo>
                <a:cubicBezTo>
                  <a:pt x="20265" y="7564"/>
                  <a:pt x="20272" y="7624"/>
                  <a:pt x="20315" y="7714"/>
                </a:cubicBezTo>
                <a:cubicBezTo>
                  <a:pt x="20356" y="7801"/>
                  <a:pt x="20371" y="7779"/>
                  <a:pt x="20439" y="7813"/>
                </a:cubicBezTo>
                <a:cubicBezTo>
                  <a:pt x="20515" y="7851"/>
                  <a:pt x="20504" y="7796"/>
                  <a:pt x="20538" y="7739"/>
                </a:cubicBezTo>
              </a:path>
              <a:path w="18506" h="2655">
                <a:moveTo>
                  <a:pt x="20588" y="7466"/>
                </a:moveTo>
                <a:cubicBezTo>
                  <a:pt x="20655" y="7447"/>
                  <a:pt x="20759" y="7433"/>
                  <a:pt x="20811" y="7392"/>
                </a:cubicBezTo>
                <a:cubicBezTo>
                  <a:pt x="20834" y="7369"/>
                  <a:pt x="20838" y="7361"/>
                  <a:pt x="20861" y="7367"/>
                </a:cubicBezTo>
              </a:path>
              <a:path w="18506" h="2655">
                <a:moveTo>
                  <a:pt x="20861" y="7392"/>
                </a:moveTo>
                <a:cubicBezTo>
                  <a:pt x="20865" y="7445"/>
                  <a:pt x="20862" y="7564"/>
                  <a:pt x="20886" y="7615"/>
                </a:cubicBezTo>
                <a:cubicBezTo>
                  <a:pt x="20913" y="7671"/>
                  <a:pt x="20981" y="7710"/>
                  <a:pt x="21034" y="7714"/>
                </a:cubicBezTo>
                <a:cubicBezTo>
                  <a:pt x="21085" y="7718"/>
                  <a:pt x="21155" y="7659"/>
                  <a:pt x="21183" y="7615"/>
                </a:cubicBezTo>
                <a:cubicBezTo>
                  <a:pt x="21218" y="7560"/>
                  <a:pt x="21247" y="7504"/>
                  <a:pt x="21258" y="7441"/>
                </a:cubicBezTo>
                <a:cubicBezTo>
                  <a:pt x="21269" y="7378"/>
                  <a:pt x="21247" y="7391"/>
                  <a:pt x="21282" y="7342"/>
                </a:cubicBezTo>
                <a:cubicBezTo>
                  <a:pt x="21282" y="7300"/>
                  <a:pt x="21282" y="7375"/>
                  <a:pt x="21282" y="7417"/>
                </a:cubicBezTo>
                <a:cubicBezTo>
                  <a:pt x="21282" y="7507"/>
                  <a:pt x="21261" y="7578"/>
                  <a:pt x="21258" y="7665"/>
                </a:cubicBezTo>
                <a:cubicBezTo>
                  <a:pt x="21252" y="7826"/>
                  <a:pt x="21251" y="7980"/>
                  <a:pt x="21233" y="8136"/>
                </a:cubicBezTo>
                <a:cubicBezTo>
                  <a:pt x="21223" y="8225"/>
                  <a:pt x="21187" y="8276"/>
                  <a:pt x="21158" y="8334"/>
                </a:cubicBezTo>
                <a:cubicBezTo>
                  <a:pt x="21158" y="8380"/>
                  <a:pt x="21140" y="8401"/>
                  <a:pt x="21084" y="8409"/>
                </a:cubicBezTo>
                <a:cubicBezTo>
                  <a:pt x="21039" y="8364"/>
                  <a:pt x="20971" y="8311"/>
                  <a:pt x="20935" y="8260"/>
                </a:cubicBezTo>
                <a:cubicBezTo>
                  <a:pt x="20901" y="8211"/>
                  <a:pt x="20910" y="8167"/>
                  <a:pt x="20910" y="8111"/>
                </a:cubicBezTo>
              </a:path>
              <a:path w="18506" h="2655">
                <a:moveTo>
                  <a:pt x="21431" y="6548"/>
                </a:moveTo>
                <a:cubicBezTo>
                  <a:pt x="21479" y="6564"/>
                  <a:pt x="21507" y="6637"/>
                  <a:pt x="21530" y="6697"/>
                </a:cubicBezTo>
                <a:cubicBezTo>
                  <a:pt x="21577" y="6821"/>
                  <a:pt x="21639" y="6963"/>
                  <a:pt x="21654" y="7094"/>
                </a:cubicBezTo>
                <a:cubicBezTo>
                  <a:pt x="21654" y="7135"/>
                  <a:pt x="21654" y="7177"/>
                  <a:pt x="21654" y="7218"/>
                </a:cubicBezTo>
              </a:path>
              <a:path w="18506" h="2655">
                <a:moveTo>
                  <a:pt x="21654" y="7665"/>
                </a:moveTo>
                <a:cubicBezTo>
                  <a:pt x="21620" y="7783"/>
                  <a:pt x="21613" y="7878"/>
                  <a:pt x="21530" y="7962"/>
                </a:cubicBezTo>
                <a:cubicBezTo>
                  <a:pt x="21488" y="8004"/>
                  <a:pt x="21469" y="7988"/>
                  <a:pt x="21456" y="7938"/>
                </a:cubicBezTo>
              </a:path>
              <a:path w="18506" h="2655">
                <a:moveTo>
                  <a:pt x="21754" y="6325"/>
                </a:moveTo>
                <a:cubicBezTo>
                  <a:pt x="21798" y="6314"/>
                  <a:pt x="21829" y="6288"/>
                  <a:pt x="21878" y="6276"/>
                </a:cubicBezTo>
                <a:cubicBezTo>
                  <a:pt x="21922" y="6265"/>
                  <a:pt x="21937" y="6275"/>
                  <a:pt x="21977" y="6251"/>
                </a:cubicBezTo>
              </a:path>
              <a:path w="18506" h="2655">
                <a:moveTo>
                  <a:pt x="21729" y="6449"/>
                </a:moveTo>
                <a:cubicBezTo>
                  <a:pt x="21712" y="6507"/>
                  <a:pt x="21679" y="6565"/>
                  <a:pt x="21754" y="6598"/>
                </a:cubicBezTo>
                <a:cubicBezTo>
                  <a:pt x="21798" y="6617"/>
                  <a:pt x="21848" y="6579"/>
                  <a:pt x="21878" y="6573"/>
                </a:cubicBezTo>
                <a:cubicBezTo>
                  <a:pt x="21933" y="6562"/>
                  <a:pt x="21988" y="6613"/>
                  <a:pt x="22027" y="6648"/>
                </a:cubicBezTo>
                <a:cubicBezTo>
                  <a:pt x="22071" y="6687"/>
                  <a:pt x="22059" y="6756"/>
                  <a:pt x="22027" y="6796"/>
                </a:cubicBezTo>
                <a:cubicBezTo>
                  <a:pt x="21974" y="6862"/>
                  <a:pt x="21877" y="6846"/>
                  <a:pt x="21803" y="6846"/>
                </a:cubicBezTo>
              </a:path>
              <a:path w="18506" h="2655">
                <a:moveTo>
                  <a:pt x="17810" y="6772"/>
                </a:moveTo>
                <a:cubicBezTo>
                  <a:pt x="17778" y="6891"/>
                  <a:pt x="17758" y="7001"/>
                  <a:pt x="17735" y="7119"/>
                </a:cubicBezTo>
                <a:cubicBezTo>
                  <a:pt x="17713" y="7233"/>
                  <a:pt x="17686" y="7323"/>
                  <a:pt x="17686" y="7441"/>
                </a:cubicBezTo>
                <a:cubicBezTo>
                  <a:pt x="17686" y="7534"/>
                  <a:pt x="17683" y="7628"/>
                  <a:pt x="17711" y="7714"/>
                </a:cubicBezTo>
                <a:cubicBezTo>
                  <a:pt x="17727" y="7762"/>
                  <a:pt x="17761" y="7808"/>
                  <a:pt x="17810" y="7813"/>
                </a:cubicBezTo>
                <a:cubicBezTo>
                  <a:pt x="17818" y="7813"/>
                  <a:pt x="17827" y="7813"/>
                  <a:pt x="17835" y="7813"/>
                </a:cubicBezTo>
              </a:path>
              <a:path w="18506" h="2655">
                <a:moveTo>
                  <a:pt x="17884" y="7466"/>
                </a:moveTo>
                <a:cubicBezTo>
                  <a:pt x="17968" y="7458"/>
                  <a:pt x="18026" y="7441"/>
                  <a:pt x="18107" y="7417"/>
                </a:cubicBezTo>
              </a:path>
              <a:path w="18506" h="2655">
                <a:moveTo>
                  <a:pt x="18107" y="7367"/>
                </a:moveTo>
                <a:cubicBezTo>
                  <a:pt x="18114" y="7468"/>
                  <a:pt x="18143" y="7541"/>
                  <a:pt x="18157" y="7640"/>
                </a:cubicBezTo>
                <a:cubicBezTo>
                  <a:pt x="18164" y="7690"/>
                  <a:pt x="18172" y="7707"/>
                  <a:pt x="18231" y="7714"/>
                </a:cubicBezTo>
                <a:cubicBezTo>
                  <a:pt x="18266" y="7714"/>
                  <a:pt x="18284" y="7709"/>
                  <a:pt x="18306" y="7689"/>
                </a:cubicBezTo>
              </a:path>
              <a:path w="18506" h="2655">
                <a:moveTo>
                  <a:pt x="18380" y="7367"/>
                </a:moveTo>
                <a:cubicBezTo>
                  <a:pt x="18372" y="7359"/>
                  <a:pt x="18363" y="7350"/>
                  <a:pt x="18355" y="7342"/>
                </a:cubicBezTo>
                <a:cubicBezTo>
                  <a:pt x="18355" y="7414"/>
                  <a:pt x="18372" y="7476"/>
                  <a:pt x="18380" y="7541"/>
                </a:cubicBezTo>
                <a:cubicBezTo>
                  <a:pt x="18392" y="7638"/>
                  <a:pt x="18394" y="7742"/>
                  <a:pt x="18405" y="7838"/>
                </a:cubicBezTo>
                <a:cubicBezTo>
                  <a:pt x="18418" y="7952"/>
                  <a:pt x="18420" y="8024"/>
                  <a:pt x="18405" y="8136"/>
                </a:cubicBezTo>
                <a:cubicBezTo>
                  <a:pt x="18396" y="8204"/>
                  <a:pt x="18385" y="8287"/>
                  <a:pt x="18306" y="8310"/>
                </a:cubicBezTo>
                <a:cubicBezTo>
                  <a:pt x="18241" y="8329"/>
                  <a:pt x="18194" y="8333"/>
                  <a:pt x="18132" y="8285"/>
                </a:cubicBezTo>
                <a:cubicBezTo>
                  <a:pt x="18070" y="8222"/>
                  <a:pt x="18043" y="8191"/>
                  <a:pt x="18008" y="8136"/>
                </a:cubicBezTo>
              </a:path>
              <a:path w="18506" h="2655">
                <a:moveTo>
                  <a:pt x="18380" y="6623"/>
                </a:moveTo>
                <a:cubicBezTo>
                  <a:pt x="18506" y="6764"/>
                  <a:pt x="18598" y="6895"/>
                  <a:pt x="18628" y="7094"/>
                </a:cubicBezTo>
                <a:cubicBezTo>
                  <a:pt x="18650" y="7236"/>
                  <a:pt x="18640" y="7352"/>
                  <a:pt x="18628" y="7491"/>
                </a:cubicBezTo>
                <a:cubicBezTo>
                  <a:pt x="18619" y="7604"/>
                  <a:pt x="18604" y="7685"/>
                  <a:pt x="18554" y="7789"/>
                </a:cubicBezTo>
                <a:cubicBezTo>
                  <a:pt x="18536" y="7827"/>
                  <a:pt x="18500" y="7901"/>
                  <a:pt x="18479" y="7838"/>
                </a:cubicBezTo>
              </a:path>
              <a:path w="18506" h="2655">
                <a:moveTo>
                  <a:pt x="18554" y="6424"/>
                </a:moveTo>
                <a:cubicBezTo>
                  <a:pt x="18554" y="6475"/>
                  <a:pt x="18565" y="6483"/>
                  <a:pt x="18579" y="6524"/>
                </a:cubicBezTo>
                <a:cubicBezTo>
                  <a:pt x="18594" y="6567"/>
                  <a:pt x="18651" y="6548"/>
                  <a:pt x="18703" y="6548"/>
                </a:cubicBezTo>
                <a:cubicBezTo>
                  <a:pt x="18778" y="6548"/>
                  <a:pt x="18792" y="6511"/>
                  <a:pt x="18827" y="6449"/>
                </a:cubicBezTo>
              </a:path>
              <a:path w="18506" h="2655">
                <a:moveTo>
                  <a:pt x="18678" y="6226"/>
                </a:moveTo>
                <a:cubicBezTo>
                  <a:pt x="18664" y="6388"/>
                  <a:pt x="18653" y="6536"/>
                  <a:pt x="18653" y="6697"/>
                </a:cubicBezTo>
                <a:cubicBezTo>
                  <a:pt x="18653" y="6739"/>
                  <a:pt x="18653" y="6747"/>
                  <a:pt x="18653" y="6772"/>
                </a:cubicBezTo>
              </a:path>
              <a:path w="18506" h="2655">
                <a:moveTo>
                  <a:pt x="14089" y="6524"/>
                </a:moveTo>
                <a:cubicBezTo>
                  <a:pt x="14076" y="6574"/>
                  <a:pt x="14036" y="6619"/>
                  <a:pt x="14015" y="6672"/>
                </a:cubicBezTo>
                <a:cubicBezTo>
                  <a:pt x="13971" y="6785"/>
                  <a:pt x="13948" y="6904"/>
                  <a:pt x="13915" y="7020"/>
                </a:cubicBezTo>
                <a:cubicBezTo>
                  <a:pt x="13881" y="7139"/>
                  <a:pt x="13870" y="7268"/>
                  <a:pt x="13866" y="7392"/>
                </a:cubicBezTo>
                <a:cubicBezTo>
                  <a:pt x="13863" y="7489"/>
                  <a:pt x="13861" y="7559"/>
                  <a:pt x="13915" y="7640"/>
                </a:cubicBezTo>
                <a:cubicBezTo>
                  <a:pt x="13959" y="7706"/>
                  <a:pt x="13973" y="7765"/>
                  <a:pt x="14039" y="7714"/>
                </a:cubicBezTo>
              </a:path>
              <a:path w="18506" h="2655">
                <a:moveTo>
                  <a:pt x="14015" y="7218"/>
                </a:moveTo>
                <a:cubicBezTo>
                  <a:pt x="14086" y="7218"/>
                  <a:pt x="14154" y="7208"/>
                  <a:pt x="14188" y="7193"/>
                </a:cubicBezTo>
                <a:cubicBezTo>
                  <a:pt x="14212" y="7182"/>
                  <a:pt x="14236" y="7175"/>
                  <a:pt x="14263" y="7169"/>
                </a:cubicBezTo>
              </a:path>
              <a:path w="18506" h="2655">
                <a:moveTo>
                  <a:pt x="14263" y="7218"/>
                </a:moveTo>
                <a:cubicBezTo>
                  <a:pt x="14239" y="7352"/>
                  <a:pt x="14239" y="7391"/>
                  <a:pt x="14263" y="7516"/>
                </a:cubicBezTo>
                <a:cubicBezTo>
                  <a:pt x="14269" y="7546"/>
                  <a:pt x="14323" y="7557"/>
                  <a:pt x="14362" y="7541"/>
                </a:cubicBezTo>
                <a:cubicBezTo>
                  <a:pt x="14425" y="7515"/>
                  <a:pt x="14432" y="7396"/>
                  <a:pt x="14436" y="7342"/>
                </a:cubicBezTo>
                <a:cubicBezTo>
                  <a:pt x="14439" y="7293"/>
                  <a:pt x="14436" y="7242"/>
                  <a:pt x="14436" y="7193"/>
                </a:cubicBezTo>
                <a:cubicBezTo>
                  <a:pt x="14436" y="7262"/>
                  <a:pt x="14429" y="7282"/>
                  <a:pt x="14436" y="7342"/>
                </a:cubicBezTo>
                <a:cubicBezTo>
                  <a:pt x="14451" y="7473"/>
                  <a:pt x="14446" y="7610"/>
                  <a:pt x="14461" y="7739"/>
                </a:cubicBezTo>
                <a:cubicBezTo>
                  <a:pt x="14470" y="7822"/>
                  <a:pt x="14467" y="7912"/>
                  <a:pt x="14436" y="7987"/>
                </a:cubicBezTo>
                <a:cubicBezTo>
                  <a:pt x="14416" y="8036"/>
                  <a:pt x="14379" y="8096"/>
                  <a:pt x="14337" y="8111"/>
                </a:cubicBezTo>
                <a:cubicBezTo>
                  <a:pt x="14230" y="8151"/>
                  <a:pt x="14197" y="8100"/>
                  <a:pt x="14139" y="8012"/>
                </a:cubicBezTo>
                <a:cubicBezTo>
                  <a:pt x="14131" y="7995"/>
                  <a:pt x="14122" y="7979"/>
                  <a:pt x="14114" y="7962"/>
                </a:cubicBezTo>
              </a:path>
              <a:path w="18506" h="2655">
                <a:moveTo>
                  <a:pt x="14536" y="6598"/>
                </a:moveTo>
                <a:cubicBezTo>
                  <a:pt x="14641" y="6817"/>
                  <a:pt x="14678" y="6945"/>
                  <a:pt x="14684" y="7193"/>
                </a:cubicBezTo>
                <a:cubicBezTo>
                  <a:pt x="14687" y="7314"/>
                  <a:pt x="14666" y="7448"/>
                  <a:pt x="14635" y="7565"/>
                </a:cubicBezTo>
                <a:cubicBezTo>
                  <a:pt x="14613" y="7647"/>
                  <a:pt x="14571" y="7778"/>
                  <a:pt x="14511" y="7838"/>
                </a:cubicBezTo>
                <a:cubicBezTo>
                  <a:pt x="14486" y="7838"/>
                  <a:pt x="14478" y="7838"/>
                  <a:pt x="14486" y="7813"/>
                </a:cubicBezTo>
              </a:path>
              <a:path w="18506" h="2655">
                <a:moveTo>
                  <a:pt x="14759" y="6276"/>
                </a:moveTo>
                <a:cubicBezTo>
                  <a:pt x="14805" y="6230"/>
                  <a:pt x="14816" y="6226"/>
                  <a:pt x="14883" y="6226"/>
                </a:cubicBezTo>
                <a:cubicBezTo>
                  <a:pt x="14947" y="6226"/>
                  <a:pt x="14963" y="6257"/>
                  <a:pt x="15007" y="6300"/>
                </a:cubicBezTo>
                <a:cubicBezTo>
                  <a:pt x="15055" y="6348"/>
                  <a:pt x="15023" y="6354"/>
                  <a:pt x="15007" y="6400"/>
                </a:cubicBezTo>
                <a:cubicBezTo>
                  <a:pt x="14995" y="6436"/>
                  <a:pt x="14971" y="6461"/>
                  <a:pt x="14932" y="6474"/>
                </a:cubicBezTo>
                <a:cubicBezTo>
                  <a:pt x="14924" y="6474"/>
                  <a:pt x="14916" y="6474"/>
                  <a:pt x="14908" y="6474"/>
                </a:cubicBezTo>
                <a:cubicBezTo>
                  <a:pt x="14911" y="6483"/>
                  <a:pt x="14949" y="6543"/>
                  <a:pt x="14957" y="6548"/>
                </a:cubicBezTo>
                <a:cubicBezTo>
                  <a:pt x="15003" y="6578"/>
                  <a:pt x="14974" y="6573"/>
                  <a:pt x="14957" y="6623"/>
                </a:cubicBezTo>
                <a:cubicBezTo>
                  <a:pt x="14944" y="6661"/>
                  <a:pt x="14859" y="6669"/>
                  <a:pt x="14808" y="6672"/>
                </a:cubicBezTo>
                <a:cubicBezTo>
                  <a:pt x="14734" y="6676"/>
                  <a:pt x="14685" y="6663"/>
                  <a:pt x="14610" y="6648"/>
                </a:cubicBezTo>
              </a:path>
              <a:path w="18506" h="2655">
                <a:moveTo>
                  <a:pt x="10220" y="6499"/>
                </a:moveTo>
                <a:cubicBezTo>
                  <a:pt x="10244" y="6499"/>
                  <a:pt x="10252" y="6499"/>
                  <a:pt x="10244" y="6474"/>
                </a:cubicBezTo>
                <a:cubicBezTo>
                  <a:pt x="10311" y="6541"/>
                  <a:pt x="10280" y="6539"/>
                  <a:pt x="10269" y="6623"/>
                </a:cubicBezTo>
                <a:cubicBezTo>
                  <a:pt x="10255" y="6729"/>
                  <a:pt x="10241" y="6841"/>
                  <a:pt x="10220" y="6945"/>
                </a:cubicBezTo>
                <a:cubicBezTo>
                  <a:pt x="10197" y="7060"/>
                  <a:pt x="10170" y="7149"/>
                  <a:pt x="10170" y="7268"/>
                </a:cubicBezTo>
                <a:cubicBezTo>
                  <a:pt x="10170" y="7349"/>
                  <a:pt x="10189" y="7405"/>
                  <a:pt x="10244" y="7466"/>
                </a:cubicBezTo>
                <a:cubicBezTo>
                  <a:pt x="10309" y="7539"/>
                  <a:pt x="10346" y="7520"/>
                  <a:pt x="10418" y="7466"/>
                </a:cubicBezTo>
                <a:cubicBezTo>
                  <a:pt x="10426" y="7458"/>
                  <a:pt x="10435" y="7449"/>
                  <a:pt x="10443" y="7441"/>
                </a:cubicBezTo>
              </a:path>
              <a:path w="18506" h="2655">
                <a:moveTo>
                  <a:pt x="10368" y="6995"/>
                </a:moveTo>
                <a:cubicBezTo>
                  <a:pt x="10453" y="6995"/>
                  <a:pt x="10576" y="7020"/>
                  <a:pt x="10641" y="6970"/>
                </a:cubicBezTo>
              </a:path>
              <a:path w="18506" h="2655">
                <a:moveTo>
                  <a:pt x="10666" y="6995"/>
                </a:moveTo>
                <a:cubicBezTo>
                  <a:pt x="10666" y="7083"/>
                  <a:pt x="10677" y="7146"/>
                  <a:pt x="10691" y="7218"/>
                </a:cubicBezTo>
                <a:cubicBezTo>
                  <a:pt x="10706" y="7295"/>
                  <a:pt x="10709" y="7280"/>
                  <a:pt x="10765" y="7317"/>
                </a:cubicBezTo>
                <a:cubicBezTo>
                  <a:pt x="10801" y="7341"/>
                  <a:pt x="10855" y="7316"/>
                  <a:pt x="10889" y="7268"/>
                </a:cubicBezTo>
                <a:cubicBezTo>
                  <a:pt x="10938" y="7200"/>
                  <a:pt x="10939" y="7124"/>
                  <a:pt x="10939" y="7045"/>
                </a:cubicBezTo>
                <a:cubicBezTo>
                  <a:pt x="10939" y="7035"/>
                  <a:pt x="10939" y="6881"/>
                  <a:pt x="10939" y="6945"/>
                </a:cubicBezTo>
                <a:cubicBezTo>
                  <a:pt x="10910" y="7023"/>
                  <a:pt x="10914" y="7084"/>
                  <a:pt x="10914" y="7169"/>
                </a:cubicBezTo>
                <a:cubicBezTo>
                  <a:pt x="10914" y="7273"/>
                  <a:pt x="10953" y="7365"/>
                  <a:pt x="10964" y="7466"/>
                </a:cubicBezTo>
                <a:cubicBezTo>
                  <a:pt x="10977" y="7582"/>
                  <a:pt x="10981" y="7729"/>
                  <a:pt x="10939" y="7838"/>
                </a:cubicBezTo>
                <a:cubicBezTo>
                  <a:pt x="10912" y="7908"/>
                  <a:pt x="10840" y="7970"/>
                  <a:pt x="10765" y="7987"/>
                </a:cubicBezTo>
                <a:cubicBezTo>
                  <a:pt x="10707" y="8000"/>
                  <a:pt x="10584" y="7991"/>
                  <a:pt x="10542" y="7938"/>
                </a:cubicBezTo>
                <a:cubicBezTo>
                  <a:pt x="10517" y="7896"/>
                  <a:pt x="10493" y="7855"/>
                  <a:pt x="10468" y="7813"/>
                </a:cubicBezTo>
              </a:path>
              <a:path w="18506" h="2655">
                <a:moveTo>
                  <a:pt x="10840" y="6350"/>
                </a:moveTo>
                <a:cubicBezTo>
                  <a:pt x="10957" y="6467"/>
                  <a:pt x="11020" y="6534"/>
                  <a:pt x="11063" y="6697"/>
                </a:cubicBezTo>
                <a:cubicBezTo>
                  <a:pt x="11110" y="6874"/>
                  <a:pt x="11112" y="7014"/>
                  <a:pt x="11112" y="7193"/>
                </a:cubicBezTo>
                <a:cubicBezTo>
                  <a:pt x="11112" y="7307"/>
                  <a:pt x="11082" y="7410"/>
                  <a:pt x="11038" y="7516"/>
                </a:cubicBezTo>
                <a:cubicBezTo>
                  <a:pt x="11023" y="7553"/>
                  <a:pt x="10993" y="7611"/>
                  <a:pt x="10964" y="7615"/>
                </a:cubicBezTo>
                <a:cubicBezTo>
                  <a:pt x="10956" y="7615"/>
                  <a:pt x="10947" y="7615"/>
                  <a:pt x="10939" y="7615"/>
                </a:cubicBezTo>
              </a:path>
              <a:path w="18506" h="2655">
                <a:moveTo>
                  <a:pt x="11088" y="6127"/>
                </a:moveTo>
                <a:cubicBezTo>
                  <a:pt x="11128" y="6127"/>
                  <a:pt x="11168" y="6133"/>
                  <a:pt x="11187" y="6176"/>
                </a:cubicBezTo>
                <a:cubicBezTo>
                  <a:pt x="11211" y="6229"/>
                  <a:pt x="11208" y="6272"/>
                  <a:pt x="11187" y="6325"/>
                </a:cubicBezTo>
                <a:cubicBezTo>
                  <a:pt x="11166" y="6378"/>
                  <a:pt x="11162" y="6394"/>
                  <a:pt x="11162" y="6449"/>
                </a:cubicBezTo>
                <a:cubicBezTo>
                  <a:pt x="11222" y="6449"/>
                  <a:pt x="11213" y="6423"/>
                  <a:pt x="11261" y="6400"/>
                </a:cubicBezTo>
                <a:cubicBezTo>
                  <a:pt x="11314" y="6375"/>
                  <a:pt x="11335" y="6375"/>
                  <a:pt x="11385" y="6375"/>
                </a:cubicBezTo>
              </a:path>
              <a:path w="18506" h="2655">
                <a:moveTo>
                  <a:pt x="6821" y="6226"/>
                </a:moveTo>
                <a:cubicBezTo>
                  <a:pt x="6821" y="6201"/>
                  <a:pt x="6821" y="6193"/>
                  <a:pt x="6821" y="6176"/>
                </a:cubicBezTo>
                <a:cubicBezTo>
                  <a:pt x="6821" y="6250"/>
                  <a:pt x="6798" y="6282"/>
                  <a:pt x="6772" y="6350"/>
                </a:cubicBezTo>
                <a:cubicBezTo>
                  <a:pt x="6722" y="6478"/>
                  <a:pt x="6684" y="6615"/>
                  <a:pt x="6648" y="6747"/>
                </a:cubicBezTo>
                <a:cubicBezTo>
                  <a:pt x="6610" y="6886"/>
                  <a:pt x="6598" y="6999"/>
                  <a:pt x="6598" y="7144"/>
                </a:cubicBezTo>
                <a:cubicBezTo>
                  <a:pt x="6598" y="7195"/>
                  <a:pt x="6618" y="7269"/>
                  <a:pt x="6672" y="7293"/>
                </a:cubicBezTo>
                <a:cubicBezTo>
                  <a:pt x="6697" y="7304"/>
                  <a:pt x="6743" y="7293"/>
                  <a:pt x="6772" y="7293"/>
                </a:cubicBezTo>
              </a:path>
              <a:path w="18506" h="2655">
                <a:moveTo>
                  <a:pt x="6796" y="6772"/>
                </a:moveTo>
                <a:cubicBezTo>
                  <a:pt x="6854" y="6796"/>
                  <a:pt x="6882" y="6796"/>
                  <a:pt x="6945" y="6796"/>
                </a:cubicBezTo>
                <a:cubicBezTo>
                  <a:pt x="6953" y="6796"/>
                  <a:pt x="6962" y="6796"/>
                  <a:pt x="6970" y="6796"/>
                </a:cubicBezTo>
              </a:path>
              <a:path w="18506" h="2655">
                <a:moveTo>
                  <a:pt x="7045" y="6796"/>
                </a:moveTo>
                <a:cubicBezTo>
                  <a:pt x="7045" y="6873"/>
                  <a:pt x="7014" y="7056"/>
                  <a:pt x="7069" y="7119"/>
                </a:cubicBezTo>
                <a:cubicBezTo>
                  <a:pt x="7103" y="7158"/>
                  <a:pt x="7134" y="7151"/>
                  <a:pt x="7169" y="7119"/>
                </a:cubicBezTo>
                <a:cubicBezTo>
                  <a:pt x="7213" y="7079"/>
                  <a:pt x="7196" y="7017"/>
                  <a:pt x="7218" y="6970"/>
                </a:cubicBezTo>
                <a:cubicBezTo>
                  <a:pt x="7237" y="6929"/>
                  <a:pt x="7244" y="6861"/>
                  <a:pt x="7268" y="6821"/>
                </a:cubicBezTo>
                <a:cubicBezTo>
                  <a:pt x="7290" y="6799"/>
                  <a:pt x="7299" y="6794"/>
                  <a:pt x="7293" y="6772"/>
                </a:cubicBezTo>
                <a:cubicBezTo>
                  <a:pt x="7293" y="6835"/>
                  <a:pt x="7271" y="6880"/>
                  <a:pt x="7268" y="6945"/>
                </a:cubicBezTo>
                <a:cubicBezTo>
                  <a:pt x="7264" y="7030"/>
                  <a:pt x="7243" y="7105"/>
                  <a:pt x="7243" y="7193"/>
                </a:cubicBezTo>
                <a:cubicBezTo>
                  <a:pt x="7243" y="7299"/>
                  <a:pt x="7230" y="7393"/>
                  <a:pt x="7218" y="7491"/>
                </a:cubicBezTo>
                <a:cubicBezTo>
                  <a:pt x="7209" y="7559"/>
                  <a:pt x="7210" y="7642"/>
                  <a:pt x="7144" y="7689"/>
                </a:cubicBezTo>
                <a:cubicBezTo>
                  <a:pt x="7080" y="7734"/>
                  <a:pt x="6989" y="7763"/>
                  <a:pt x="6921" y="7714"/>
                </a:cubicBezTo>
                <a:cubicBezTo>
                  <a:pt x="6874" y="7668"/>
                  <a:pt x="6860" y="7656"/>
                  <a:pt x="6846" y="7615"/>
                </a:cubicBezTo>
              </a:path>
              <a:path w="18506" h="2655">
                <a:moveTo>
                  <a:pt x="7293" y="6276"/>
                </a:moveTo>
                <a:cubicBezTo>
                  <a:pt x="7358" y="6360"/>
                  <a:pt x="7406" y="6470"/>
                  <a:pt x="7441" y="6573"/>
                </a:cubicBezTo>
                <a:cubicBezTo>
                  <a:pt x="7482" y="6693"/>
                  <a:pt x="7484" y="6869"/>
                  <a:pt x="7466" y="6995"/>
                </a:cubicBezTo>
                <a:cubicBezTo>
                  <a:pt x="7449" y="7113"/>
                  <a:pt x="7434" y="7264"/>
                  <a:pt x="7367" y="7367"/>
                </a:cubicBezTo>
                <a:cubicBezTo>
                  <a:pt x="7344" y="7390"/>
                  <a:pt x="7340" y="7398"/>
                  <a:pt x="7317" y="7392"/>
                </a:cubicBezTo>
                <a:cubicBezTo>
                  <a:pt x="7287" y="7310"/>
                  <a:pt x="7275" y="7232"/>
                  <a:pt x="7268" y="7144"/>
                </a:cubicBezTo>
              </a:path>
              <a:path w="18506" h="2655">
                <a:moveTo>
                  <a:pt x="7565" y="5978"/>
                </a:moveTo>
                <a:cubicBezTo>
                  <a:pt x="7605" y="6118"/>
                  <a:pt x="7622" y="6140"/>
                  <a:pt x="7615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840" y="3054240"/>
            <a:ext cx="339480" cy="509760"/>
          </a:xfrm>
          <a:custGeom>
            <a:avLst/>
            <a:gdLst/>
            <a:ahLst/>
            <a:rect l="l" t="t" r="r" b="b"/>
            <a:pathLst>
              <a:path w="944" h="1415">
                <a:moveTo>
                  <a:pt x="1042" y="9376"/>
                </a:moveTo>
                <a:cubicBezTo>
                  <a:pt x="1100" y="9376"/>
                  <a:pt x="1157" y="9376"/>
                  <a:pt x="1215" y="9376"/>
                </a:cubicBezTo>
              </a:path>
              <a:path w="944" h="1415">
                <a:moveTo>
                  <a:pt x="967" y="9376"/>
                </a:moveTo>
                <a:cubicBezTo>
                  <a:pt x="967" y="9429"/>
                  <a:pt x="948" y="9456"/>
                  <a:pt x="943" y="9500"/>
                </a:cubicBezTo>
                <a:cubicBezTo>
                  <a:pt x="943" y="9508"/>
                  <a:pt x="943" y="9517"/>
                  <a:pt x="943" y="9525"/>
                </a:cubicBezTo>
                <a:cubicBezTo>
                  <a:pt x="964" y="9518"/>
                  <a:pt x="981" y="9459"/>
                  <a:pt x="1017" y="9475"/>
                </a:cubicBezTo>
                <a:cubicBezTo>
                  <a:pt x="1026" y="9479"/>
                  <a:pt x="1116" y="9525"/>
                  <a:pt x="1116" y="9525"/>
                </a:cubicBezTo>
                <a:cubicBezTo>
                  <a:pt x="1161" y="9604"/>
                  <a:pt x="1196" y="9740"/>
                  <a:pt x="1141" y="9823"/>
                </a:cubicBezTo>
                <a:cubicBezTo>
                  <a:pt x="1134" y="9833"/>
                  <a:pt x="1053" y="9895"/>
                  <a:pt x="1042" y="9897"/>
                </a:cubicBezTo>
                <a:cubicBezTo>
                  <a:pt x="942" y="9919"/>
                  <a:pt x="878" y="9910"/>
                  <a:pt x="868" y="9823"/>
                </a:cubicBezTo>
              </a:path>
              <a:path w="944" h="1415">
                <a:moveTo>
                  <a:pt x="1662" y="8706"/>
                </a:moveTo>
                <a:cubicBezTo>
                  <a:pt x="1662" y="8649"/>
                  <a:pt x="1659" y="8622"/>
                  <a:pt x="1637" y="8582"/>
                </a:cubicBezTo>
                <a:cubicBezTo>
                  <a:pt x="1626" y="8563"/>
                  <a:pt x="1558" y="8494"/>
                  <a:pt x="1538" y="8483"/>
                </a:cubicBezTo>
                <a:cubicBezTo>
                  <a:pt x="1501" y="8462"/>
                  <a:pt x="1472" y="8488"/>
                  <a:pt x="1463" y="8508"/>
                </a:cubicBezTo>
                <a:cubicBezTo>
                  <a:pt x="1441" y="8557"/>
                  <a:pt x="1422" y="8583"/>
                  <a:pt x="1389" y="8632"/>
                </a:cubicBezTo>
                <a:cubicBezTo>
                  <a:pt x="1355" y="8683"/>
                  <a:pt x="1361" y="8746"/>
                  <a:pt x="1339" y="8806"/>
                </a:cubicBezTo>
                <a:cubicBezTo>
                  <a:pt x="1304" y="8901"/>
                  <a:pt x="1317" y="8989"/>
                  <a:pt x="1290" y="9079"/>
                </a:cubicBezTo>
                <a:cubicBezTo>
                  <a:pt x="1272" y="9140"/>
                  <a:pt x="1271" y="9235"/>
                  <a:pt x="1315" y="9302"/>
                </a:cubicBezTo>
                <a:cubicBezTo>
                  <a:pt x="1347" y="9352"/>
                  <a:pt x="1355" y="9376"/>
                  <a:pt x="1414" y="9376"/>
                </a:cubicBezTo>
                <a:cubicBezTo>
                  <a:pt x="1436" y="9376"/>
                  <a:pt x="1532" y="9375"/>
                  <a:pt x="1538" y="9376"/>
                </a:cubicBezTo>
                <a:cubicBezTo>
                  <a:pt x="1579" y="9384"/>
                  <a:pt x="1582" y="9376"/>
                  <a:pt x="1637" y="9376"/>
                </a:cubicBezTo>
              </a:path>
              <a:path w="944" h="1415">
                <a:moveTo>
                  <a:pt x="1612" y="9674"/>
                </a:moveTo>
                <a:cubicBezTo>
                  <a:pt x="1642" y="9794"/>
                  <a:pt x="1653" y="9782"/>
                  <a:pt x="1712" y="9847"/>
                </a:cubicBezTo>
                <a:cubicBezTo>
                  <a:pt x="1732" y="9888"/>
                  <a:pt x="1729" y="9905"/>
                  <a:pt x="1761" y="9897"/>
                </a:cubicBezTo>
                <a:cubicBezTo>
                  <a:pt x="1773" y="9825"/>
                  <a:pt x="1804" y="9856"/>
                  <a:pt x="1811" y="9773"/>
                </a:cubicBezTo>
                <a:cubicBezTo>
                  <a:pt x="1816" y="9711"/>
                  <a:pt x="1798" y="9674"/>
                  <a:pt x="1761" y="9624"/>
                </a:cubicBezTo>
                <a:cubicBezTo>
                  <a:pt x="1735" y="9589"/>
                  <a:pt x="1708" y="9568"/>
                  <a:pt x="1687" y="9550"/>
                </a:cubicBezTo>
                <a:cubicBezTo>
                  <a:pt x="1664" y="9527"/>
                  <a:pt x="1656" y="9516"/>
                  <a:pt x="1662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35040" y="3000240"/>
            <a:ext cx="385920" cy="669960"/>
          </a:xfrm>
          <a:custGeom>
            <a:avLst/>
            <a:gdLst/>
            <a:ahLst/>
            <a:rect l="l" t="t" r="r" b="b"/>
            <a:pathLst>
              <a:path w="1068" h="1862">
                <a:moveTo>
                  <a:pt x="4589" y="9550"/>
                </a:moveTo>
                <a:cubicBezTo>
                  <a:pt x="4622" y="9550"/>
                  <a:pt x="4655" y="9550"/>
                  <a:pt x="4688" y="9550"/>
                </a:cubicBezTo>
              </a:path>
              <a:path w="1068" h="1862">
                <a:moveTo>
                  <a:pt x="4490" y="9599"/>
                </a:moveTo>
                <a:cubicBezTo>
                  <a:pt x="4446" y="9654"/>
                  <a:pt x="4440" y="9679"/>
                  <a:pt x="4440" y="9748"/>
                </a:cubicBezTo>
                <a:cubicBezTo>
                  <a:pt x="4484" y="9727"/>
                  <a:pt x="4481" y="9699"/>
                  <a:pt x="4539" y="9699"/>
                </a:cubicBezTo>
                <a:cubicBezTo>
                  <a:pt x="4564" y="9699"/>
                  <a:pt x="4572" y="9699"/>
                  <a:pt x="4589" y="9699"/>
                </a:cubicBezTo>
                <a:cubicBezTo>
                  <a:pt x="4603" y="9780"/>
                  <a:pt x="4634" y="9717"/>
                  <a:pt x="4638" y="9773"/>
                </a:cubicBezTo>
                <a:cubicBezTo>
                  <a:pt x="4643" y="9846"/>
                  <a:pt x="4651" y="9856"/>
                  <a:pt x="4638" y="9922"/>
                </a:cubicBezTo>
                <a:cubicBezTo>
                  <a:pt x="4627" y="9974"/>
                  <a:pt x="4604" y="10049"/>
                  <a:pt x="4539" y="10071"/>
                </a:cubicBezTo>
                <a:cubicBezTo>
                  <a:pt x="4473" y="10093"/>
                  <a:pt x="4402" y="10055"/>
                  <a:pt x="4341" y="10046"/>
                </a:cubicBezTo>
                <a:cubicBezTo>
                  <a:pt x="4275" y="10036"/>
                  <a:pt x="4279" y="10038"/>
                  <a:pt x="4266" y="9971"/>
                </a:cubicBezTo>
              </a:path>
              <a:path w="1068" h="1862">
                <a:moveTo>
                  <a:pt x="5308" y="8483"/>
                </a:moveTo>
                <a:cubicBezTo>
                  <a:pt x="5333" y="8483"/>
                  <a:pt x="5341" y="8483"/>
                  <a:pt x="5333" y="8508"/>
                </a:cubicBezTo>
                <a:cubicBezTo>
                  <a:pt x="5313" y="8475"/>
                  <a:pt x="5323" y="8459"/>
                  <a:pt x="5308" y="8409"/>
                </a:cubicBezTo>
                <a:cubicBezTo>
                  <a:pt x="5297" y="8374"/>
                  <a:pt x="5277" y="8366"/>
                  <a:pt x="5259" y="8334"/>
                </a:cubicBezTo>
                <a:cubicBezTo>
                  <a:pt x="5205" y="8368"/>
                  <a:pt x="5205" y="8353"/>
                  <a:pt x="5159" y="8409"/>
                </a:cubicBezTo>
                <a:cubicBezTo>
                  <a:pt x="5115" y="8463"/>
                  <a:pt x="5075" y="8525"/>
                  <a:pt x="5035" y="8582"/>
                </a:cubicBezTo>
                <a:cubicBezTo>
                  <a:pt x="4975" y="8667"/>
                  <a:pt x="4923" y="8758"/>
                  <a:pt x="4887" y="8855"/>
                </a:cubicBezTo>
                <a:cubicBezTo>
                  <a:pt x="4847" y="8963"/>
                  <a:pt x="4793" y="9069"/>
                  <a:pt x="4787" y="9178"/>
                </a:cubicBezTo>
                <a:cubicBezTo>
                  <a:pt x="4782" y="9270"/>
                  <a:pt x="4794" y="9324"/>
                  <a:pt x="4837" y="9401"/>
                </a:cubicBezTo>
                <a:cubicBezTo>
                  <a:pt x="4877" y="9472"/>
                  <a:pt x="4936" y="9508"/>
                  <a:pt x="4986" y="9550"/>
                </a:cubicBezTo>
                <a:cubicBezTo>
                  <a:pt x="5062" y="9614"/>
                  <a:pt x="5033" y="9582"/>
                  <a:pt x="5110" y="9599"/>
                </a:cubicBezTo>
              </a:path>
              <a:path w="1068" h="1862">
                <a:moveTo>
                  <a:pt x="5259" y="9823"/>
                </a:moveTo>
                <a:cubicBezTo>
                  <a:pt x="5253" y="9906"/>
                  <a:pt x="5234" y="9966"/>
                  <a:pt x="5234" y="10046"/>
                </a:cubicBezTo>
                <a:cubicBezTo>
                  <a:pt x="5234" y="10055"/>
                  <a:pt x="5254" y="10187"/>
                  <a:pt x="5259" y="10195"/>
                </a:cubicBezTo>
                <a:cubicBezTo>
                  <a:pt x="5267" y="10195"/>
                  <a:pt x="5275" y="10195"/>
                  <a:pt x="5283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51120" y="3187800"/>
            <a:ext cx="428760" cy="563400"/>
          </a:xfrm>
          <a:custGeom>
            <a:avLst/>
            <a:gdLst/>
            <a:ahLst/>
            <a:rect l="l" t="t" r="r" b="b"/>
            <a:pathLst>
              <a:path w="1191" h="1564">
                <a:moveTo>
                  <a:pt x="7938" y="9847"/>
                </a:moveTo>
                <a:cubicBezTo>
                  <a:pt x="7987" y="9847"/>
                  <a:pt x="8037" y="9847"/>
                  <a:pt x="8086" y="9847"/>
                </a:cubicBezTo>
              </a:path>
              <a:path w="1191" h="1564">
                <a:moveTo>
                  <a:pt x="7838" y="9897"/>
                </a:moveTo>
                <a:cubicBezTo>
                  <a:pt x="7816" y="9970"/>
                  <a:pt x="7813" y="9976"/>
                  <a:pt x="7813" y="10046"/>
                </a:cubicBezTo>
                <a:cubicBezTo>
                  <a:pt x="7857" y="10024"/>
                  <a:pt x="7854" y="9996"/>
                  <a:pt x="7913" y="9996"/>
                </a:cubicBezTo>
                <a:cubicBezTo>
                  <a:pt x="7947" y="9996"/>
                  <a:pt x="7985" y="10049"/>
                  <a:pt x="7987" y="10071"/>
                </a:cubicBezTo>
                <a:cubicBezTo>
                  <a:pt x="7991" y="10127"/>
                  <a:pt x="7979" y="10222"/>
                  <a:pt x="7962" y="10269"/>
                </a:cubicBezTo>
                <a:cubicBezTo>
                  <a:pt x="7947" y="10311"/>
                  <a:pt x="7878" y="10395"/>
                  <a:pt x="7838" y="10418"/>
                </a:cubicBezTo>
                <a:cubicBezTo>
                  <a:pt x="7781" y="10451"/>
                  <a:pt x="7661" y="10426"/>
                  <a:pt x="7640" y="10368"/>
                </a:cubicBezTo>
                <a:cubicBezTo>
                  <a:pt x="7640" y="10335"/>
                  <a:pt x="7640" y="10319"/>
                  <a:pt x="7640" y="10294"/>
                </a:cubicBezTo>
              </a:path>
              <a:path w="1191" h="1564">
                <a:moveTo>
                  <a:pt x="8582" y="9079"/>
                </a:moveTo>
                <a:cubicBezTo>
                  <a:pt x="8605" y="9101"/>
                  <a:pt x="8610" y="9109"/>
                  <a:pt x="8632" y="9103"/>
                </a:cubicBezTo>
                <a:cubicBezTo>
                  <a:pt x="8572" y="9089"/>
                  <a:pt x="8579" y="9057"/>
                  <a:pt x="8558" y="9004"/>
                </a:cubicBezTo>
                <a:cubicBezTo>
                  <a:pt x="8535" y="8947"/>
                  <a:pt x="8504" y="8919"/>
                  <a:pt x="8483" y="8880"/>
                </a:cubicBezTo>
                <a:cubicBezTo>
                  <a:pt x="8470" y="8855"/>
                  <a:pt x="8410" y="8840"/>
                  <a:pt x="8384" y="8855"/>
                </a:cubicBezTo>
                <a:cubicBezTo>
                  <a:pt x="8341" y="8879"/>
                  <a:pt x="8325" y="8962"/>
                  <a:pt x="8310" y="9004"/>
                </a:cubicBezTo>
                <a:cubicBezTo>
                  <a:pt x="8283" y="9080"/>
                  <a:pt x="8249" y="9174"/>
                  <a:pt x="8235" y="9252"/>
                </a:cubicBezTo>
                <a:cubicBezTo>
                  <a:pt x="8220" y="9334"/>
                  <a:pt x="8198" y="9421"/>
                  <a:pt x="8186" y="9500"/>
                </a:cubicBezTo>
                <a:cubicBezTo>
                  <a:pt x="8173" y="9588"/>
                  <a:pt x="8195" y="9665"/>
                  <a:pt x="8210" y="9748"/>
                </a:cubicBezTo>
                <a:cubicBezTo>
                  <a:pt x="8228" y="9848"/>
                  <a:pt x="8256" y="9788"/>
                  <a:pt x="8310" y="9847"/>
                </a:cubicBezTo>
                <a:cubicBezTo>
                  <a:pt x="8366" y="9908"/>
                  <a:pt x="8362" y="9897"/>
                  <a:pt x="8458" y="9897"/>
                </a:cubicBezTo>
                <a:cubicBezTo>
                  <a:pt x="8466" y="9897"/>
                  <a:pt x="8475" y="9897"/>
                  <a:pt x="8483" y="9897"/>
                </a:cubicBezTo>
              </a:path>
              <a:path w="1191" h="1564">
                <a:moveTo>
                  <a:pt x="8533" y="10046"/>
                </a:moveTo>
                <a:cubicBezTo>
                  <a:pt x="8564" y="10046"/>
                  <a:pt x="8669" y="10028"/>
                  <a:pt x="8682" y="10071"/>
                </a:cubicBezTo>
                <a:cubicBezTo>
                  <a:pt x="8702" y="10135"/>
                  <a:pt x="8661" y="10173"/>
                  <a:pt x="8632" y="10220"/>
                </a:cubicBezTo>
                <a:cubicBezTo>
                  <a:pt x="8615" y="10248"/>
                  <a:pt x="8583" y="10322"/>
                  <a:pt x="8558" y="10344"/>
                </a:cubicBezTo>
                <a:cubicBezTo>
                  <a:pt x="8550" y="10344"/>
                  <a:pt x="8541" y="10344"/>
                  <a:pt x="8533" y="10344"/>
                </a:cubicBezTo>
                <a:cubicBezTo>
                  <a:pt x="8542" y="10369"/>
                  <a:pt x="8552" y="10410"/>
                  <a:pt x="8582" y="10418"/>
                </a:cubicBezTo>
                <a:cubicBezTo>
                  <a:pt x="8632" y="10431"/>
                  <a:pt x="8835" y="10418"/>
                  <a:pt x="8806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10040" y="3224160"/>
            <a:ext cx="455760" cy="660600"/>
          </a:xfrm>
          <a:custGeom>
            <a:avLst/>
            <a:gdLst/>
            <a:ahLst/>
            <a:rect l="l" t="t" r="r" b="b"/>
            <a:pathLst>
              <a:path w="1266" h="1837">
                <a:moveTo>
                  <a:pt x="11410" y="9996"/>
                </a:moveTo>
                <a:cubicBezTo>
                  <a:pt x="11472" y="10049"/>
                  <a:pt x="11463" y="10046"/>
                  <a:pt x="11534" y="10046"/>
                </a:cubicBezTo>
                <a:cubicBezTo>
                  <a:pt x="11542" y="10046"/>
                  <a:pt x="11551" y="10046"/>
                  <a:pt x="11559" y="10046"/>
                </a:cubicBezTo>
              </a:path>
              <a:path w="1266" h="1837">
                <a:moveTo>
                  <a:pt x="11311" y="10046"/>
                </a:moveTo>
                <a:cubicBezTo>
                  <a:pt x="11290" y="10128"/>
                  <a:pt x="11282" y="10144"/>
                  <a:pt x="11286" y="10195"/>
                </a:cubicBezTo>
                <a:cubicBezTo>
                  <a:pt x="11348" y="10103"/>
                  <a:pt x="11325" y="10154"/>
                  <a:pt x="11385" y="10195"/>
                </a:cubicBezTo>
                <a:cubicBezTo>
                  <a:pt x="11439" y="10232"/>
                  <a:pt x="11425" y="10173"/>
                  <a:pt x="11460" y="10269"/>
                </a:cubicBezTo>
                <a:cubicBezTo>
                  <a:pt x="11482" y="10328"/>
                  <a:pt x="11505" y="10429"/>
                  <a:pt x="11485" y="10492"/>
                </a:cubicBezTo>
                <a:cubicBezTo>
                  <a:pt x="11468" y="10545"/>
                  <a:pt x="11413" y="10597"/>
                  <a:pt x="11385" y="10641"/>
                </a:cubicBezTo>
                <a:cubicBezTo>
                  <a:pt x="11334" y="10720"/>
                  <a:pt x="11334" y="10716"/>
                  <a:pt x="11237" y="10716"/>
                </a:cubicBezTo>
                <a:cubicBezTo>
                  <a:pt x="11156" y="10716"/>
                  <a:pt x="11142" y="10629"/>
                  <a:pt x="11137" y="10567"/>
                </a:cubicBezTo>
                <a:cubicBezTo>
                  <a:pt x="11137" y="10542"/>
                  <a:pt x="11137" y="10517"/>
                  <a:pt x="11137" y="10492"/>
                </a:cubicBezTo>
              </a:path>
              <a:path w="1266" h="1837">
                <a:moveTo>
                  <a:pt x="12154" y="9153"/>
                </a:moveTo>
                <a:cubicBezTo>
                  <a:pt x="12182" y="9181"/>
                  <a:pt x="12191" y="9194"/>
                  <a:pt x="12179" y="9227"/>
                </a:cubicBezTo>
                <a:cubicBezTo>
                  <a:pt x="12169" y="9160"/>
                  <a:pt x="12140" y="9138"/>
                  <a:pt x="12105" y="9079"/>
                </a:cubicBezTo>
                <a:cubicBezTo>
                  <a:pt x="12081" y="9039"/>
                  <a:pt x="12022" y="9048"/>
                  <a:pt x="12005" y="9004"/>
                </a:cubicBezTo>
                <a:cubicBezTo>
                  <a:pt x="12005" y="8987"/>
                  <a:pt x="12005" y="8971"/>
                  <a:pt x="12005" y="8954"/>
                </a:cubicBezTo>
                <a:cubicBezTo>
                  <a:pt x="11996" y="8967"/>
                  <a:pt x="11936" y="8996"/>
                  <a:pt x="11931" y="9004"/>
                </a:cubicBezTo>
                <a:cubicBezTo>
                  <a:pt x="11882" y="9085"/>
                  <a:pt x="11890" y="9135"/>
                  <a:pt x="11857" y="9227"/>
                </a:cubicBezTo>
                <a:cubicBezTo>
                  <a:pt x="11832" y="9298"/>
                  <a:pt x="11792" y="9369"/>
                  <a:pt x="11782" y="9451"/>
                </a:cubicBezTo>
                <a:cubicBezTo>
                  <a:pt x="11770" y="9552"/>
                  <a:pt x="11757" y="9644"/>
                  <a:pt x="11757" y="9748"/>
                </a:cubicBezTo>
                <a:cubicBezTo>
                  <a:pt x="11757" y="9822"/>
                  <a:pt x="11739" y="9906"/>
                  <a:pt x="11782" y="9971"/>
                </a:cubicBezTo>
                <a:cubicBezTo>
                  <a:pt x="11809" y="10012"/>
                  <a:pt x="11831" y="10097"/>
                  <a:pt x="11881" y="10120"/>
                </a:cubicBezTo>
                <a:cubicBezTo>
                  <a:pt x="11915" y="10136"/>
                  <a:pt x="12018" y="10136"/>
                  <a:pt x="12055" y="10145"/>
                </a:cubicBezTo>
                <a:cubicBezTo>
                  <a:pt x="12063" y="10145"/>
                  <a:pt x="12072" y="10145"/>
                  <a:pt x="12080" y="10145"/>
                </a:cubicBezTo>
              </a:path>
              <a:path w="1266" h="1837">
                <a:moveTo>
                  <a:pt x="12154" y="10269"/>
                </a:moveTo>
                <a:cubicBezTo>
                  <a:pt x="12185" y="10269"/>
                  <a:pt x="12290" y="10251"/>
                  <a:pt x="12303" y="10294"/>
                </a:cubicBezTo>
                <a:cubicBezTo>
                  <a:pt x="12317" y="10339"/>
                  <a:pt x="12334" y="10374"/>
                  <a:pt x="12278" y="10418"/>
                </a:cubicBezTo>
                <a:cubicBezTo>
                  <a:pt x="12254" y="10437"/>
                  <a:pt x="12213" y="10443"/>
                  <a:pt x="12179" y="10443"/>
                </a:cubicBezTo>
                <a:cubicBezTo>
                  <a:pt x="12188" y="10495"/>
                  <a:pt x="12199" y="10498"/>
                  <a:pt x="12254" y="10517"/>
                </a:cubicBezTo>
                <a:cubicBezTo>
                  <a:pt x="12277" y="10525"/>
                  <a:pt x="12334" y="10565"/>
                  <a:pt x="12353" y="10592"/>
                </a:cubicBezTo>
                <a:cubicBezTo>
                  <a:pt x="12401" y="10660"/>
                  <a:pt x="12395" y="10700"/>
                  <a:pt x="12378" y="10740"/>
                </a:cubicBezTo>
                <a:cubicBezTo>
                  <a:pt x="12354" y="10798"/>
                  <a:pt x="12347" y="10790"/>
                  <a:pt x="12278" y="10790"/>
                </a:cubicBezTo>
                <a:cubicBezTo>
                  <a:pt x="12206" y="10790"/>
                  <a:pt x="12165" y="10784"/>
                  <a:pt x="12129" y="10765"/>
                </a:cubicBezTo>
                <a:cubicBezTo>
                  <a:pt x="12121" y="10765"/>
                  <a:pt x="12113" y="10765"/>
                  <a:pt x="12105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73800" y="3295800"/>
            <a:ext cx="465120" cy="704880"/>
          </a:xfrm>
          <a:custGeom>
            <a:avLst/>
            <a:gdLst/>
            <a:ahLst/>
            <a:rect l="l" t="t" r="r" b="b"/>
            <a:pathLst>
              <a:path w="1291" h="1960">
                <a:moveTo>
                  <a:pt x="15528" y="10195"/>
                </a:moveTo>
                <a:cubicBezTo>
                  <a:pt x="15540" y="10254"/>
                  <a:pt x="15542" y="10269"/>
                  <a:pt x="15602" y="10269"/>
                </a:cubicBezTo>
                <a:cubicBezTo>
                  <a:pt x="15627" y="10269"/>
                  <a:pt x="15652" y="10269"/>
                  <a:pt x="15677" y="10269"/>
                </a:cubicBezTo>
              </a:path>
              <a:path w="1291" h="1960">
                <a:moveTo>
                  <a:pt x="15379" y="10269"/>
                </a:moveTo>
                <a:cubicBezTo>
                  <a:pt x="15379" y="10319"/>
                  <a:pt x="15379" y="10368"/>
                  <a:pt x="15379" y="10418"/>
                </a:cubicBezTo>
                <a:cubicBezTo>
                  <a:pt x="15467" y="10418"/>
                  <a:pt x="15502" y="10398"/>
                  <a:pt x="15553" y="10492"/>
                </a:cubicBezTo>
                <a:cubicBezTo>
                  <a:pt x="15572" y="10528"/>
                  <a:pt x="15611" y="10651"/>
                  <a:pt x="15602" y="10691"/>
                </a:cubicBezTo>
                <a:cubicBezTo>
                  <a:pt x="15590" y="10742"/>
                  <a:pt x="15577" y="10809"/>
                  <a:pt x="15528" y="10840"/>
                </a:cubicBezTo>
                <a:cubicBezTo>
                  <a:pt x="15471" y="10876"/>
                  <a:pt x="15446" y="10889"/>
                  <a:pt x="15379" y="10889"/>
                </a:cubicBezTo>
                <a:cubicBezTo>
                  <a:pt x="15324" y="10889"/>
                  <a:pt x="15270" y="10875"/>
                  <a:pt x="15230" y="10840"/>
                </a:cubicBezTo>
                <a:cubicBezTo>
                  <a:pt x="15222" y="10832"/>
                  <a:pt x="15213" y="10823"/>
                  <a:pt x="15205" y="10815"/>
                </a:cubicBezTo>
              </a:path>
              <a:path w="1291" h="1960">
                <a:moveTo>
                  <a:pt x="16346" y="9376"/>
                </a:moveTo>
                <a:cubicBezTo>
                  <a:pt x="16366" y="9309"/>
                  <a:pt x="16355" y="9291"/>
                  <a:pt x="16321" y="9227"/>
                </a:cubicBezTo>
                <a:cubicBezTo>
                  <a:pt x="16282" y="9152"/>
                  <a:pt x="16278" y="9157"/>
                  <a:pt x="16197" y="9153"/>
                </a:cubicBezTo>
                <a:cubicBezTo>
                  <a:pt x="16127" y="9149"/>
                  <a:pt x="16110" y="9172"/>
                  <a:pt x="16073" y="9227"/>
                </a:cubicBezTo>
                <a:cubicBezTo>
                  <a:pt x="16017" y="9310"/>
                  <a:pt x="15958" y="9382"/>
                  <a:pt x="15925" y="9475"/>
                </a:cubicBezTo>
                <a:cubicBezTo>
                  <a:pt x="15886" y="9583"/>
                  <a:pt x="15890" y="9663"/>
                  <a:pt x="15875" y="9773"/>
                </a:cubicBezTo>
                <a:cubicBezTo>
                  <a:pt x="15859" y="9889"/>
                  <a:pt x="15847" y="9935"/>
                  <a:pt x="15875" y="10046"/>
                </a:cubicBezTo>
                <a:cubicBezTo>
                  <a:pt x="15891" y="10109"/>
                  <a:pt x="15930" y="10173"/>
                  <a:pt x="15974" y="10220"/>
                </a:cubicBezTo>
                <a:cubicBezTo>
                  <a:pt x="16047" y="10298"/>
                  <a:pt x="16095" y="10230"/>
                  <a:pt x="16173" y="10294"/>
                </a:cubicBezTo>
                <a:cubicBezTo>
                  <a:pt x="16181" y="10311"/>
                  <a:pt x="16189" y="10327"/>
                  <a:pt x="16197" y="10344"/>
                </a:cubicBezTo>
              </a:path>
              <a:path w="1291" h="1960">
                <a:moveTo>
                  <a:pt x="16297" y="10492"/>
                </a:moveTo>
                <a:cubicBezTo>
                  <a:pt x="16295" y="10512"/>
                  <a:pt x="16288" y="10619"/>
                  <a:pt x="16272" y="10641"/>
                </a:cubicBezTo>
                <a:cubicBezTo>
                  <a:pt x="16257" y="10661"/>
                  <a:pt x="16247" y="10688"/>
                  <a:pt x="16247" y="10740"/>
                </a:cubicBezTo>
                <a:cubicBezTo>
                  <a:pt x="16315" y="10740"/>
                  <a:pt x="16420" y="10761"/>
                  <a:pt x="16470" y="10716"/>
                </a:cubicBezTo>
                <a:cubicBezTo>
                  <a:pt x="16478" y="10708"/>
                  <a:pt x="16487" y="10699"/>
                  <a:pt x="16495" y="10691"/>
                </a:cubicBezTo>
              </a:path>
              <a:path w="1291" h="1960">
                <a:moveTo>
                  <a:pt x="16495" y="10492"/>
                </a:moveTo>
                <a:cubicBezTo>
                  <a:pt x="16479" y="10600"/>
                  <a:pt x="16470" y="10684"/>
                  <a:pt x="16470" y="10790"/>
                </a:cubicBezTo>
                <a:cubicBezTo>
                  <a:pt x="16470" y="10900"/>
                  <a:pt x="16457" y="11011"/>
                  <a:pt x="16495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67360" y="3402000"/>
            <a:ext cx="446400" cy="679320"/>
          </a:xfrm>
          <a:custGeom>
            <a:avLst/>
            <a:gdLst/>
            <a:ahLst/>
            <a:rect l="l" t="t" r="r" b="b"/>
            <a:pathLst>
              <a:path w="1241" h="1886">
                <a:moveTo>
                  <a:pt x="19273" y="10815"/>
                </a:moveTo>
                <a:cubicBezTo>
                  <a:pt x="19331" y="10815"/>
                  <a:pt x="19389" y="10815"/>
                  <a:pt x="19447" y="10815"/>
                </a:cubicBezTo>
              </a:path>
              <a:path w="1241" h="1886">
                <a:moveTo>
                  <a:pt x="19248" y="10864"/>
                </a:moveTo>
                <a:cubicBezTo>
                  <a:pt x="19226" y="10887"/>
                  <a:pt x="19221" y="10895"/>
                  <a:pt x="19199" y="10889"/>
                </a:cubicBezTo>
                <a:cubicBezTo>
                  <a:pt x="19219" y="10948"/>
                  <a:pt x="19225" y="10905"/>
                  <a:pt x="19248" y="10914"/>
                </a:cubicBezTo>
                <a:cubicBezTo>
                  <a:pt x="19266" y="10921"/>
                  <a:pt x="19364" y="10953"/>
                  <a:pt x="19372" y="10964"/>
                </a:cubicBezTo>
                <a:cubicBezTo>
                  <a:pt x="19397" y="11002"/>
                  <a:pt x="19418" y="11039"/>
                  <a:pt x="19422" y="11088"/>
                </a:cubicBezTo>
                <a:cubicBezTo>
                  <a:pt x="19425" y="11123"/>
                  <a:pt x="19414" y="11162"/>
                  <a:pt x="19397" y="11187"/>
                </a:cubicBezTo>
                <a:cubicBezTo>
                  <a:pt x="19361" y="11241"/>
                  <a:pt x="19304" y="11237"/>
                  <a:pt x="19248" y="11237"/>
                </a:cubicBezTo>
                <a:cubicBezTo>
                  <a:pt x="19212" y="11237"/>
                  <a:pt x="19153" y="11210"/>
                  <a:pt x="19124" y="11187"/>
                </a:cubicBezTo>
                <a:cubicBezTo>
                  <a:pt x="19064" y="11138"/>
                  <a:pt x="19090" y="11050"/>
                  <a:pt x="19100" y="10988"/>
                </a:cubicBezTo>
              </a:path>
              <a:path w="1241" h="1886">
                <a:moveTo>
                  <a:pt x="20141" y="9550"/>
                </a:moveTo>
                <a:cubicBezTo>
                  <a:pt x="20160" y="9607"/>
                  <a:pt x="20169" y="9650"/>
                  <a:pt x="20166" y="9599"/>
                </a:cubicBezTo>
                <a:cubicBezTo>
                  <a:pt x="20163" y="9576"/>
                  <a:pt x="20152" y="9482"/>
                  <a:pt x="20117" y="9475"/>
                </a:cubicBezTo>
                <a:cubicBezTo>
                  <a:pt x="20091" y="9470"/>
                  <a:pt x="19993" y="9463"/>
                  <a:pt x="19943" y="9525"/>
                </a:cubicBezTo>
                <a:cubicBezTo>
                  <a:pt x="19874" y="9611"/>
                  <a:pt x="19793" y="9724"/>
                  <a:pt x="19745" y="9823"/>
                </a:cubicBezTo>
                <a:cubicBezTo>
                  <a:pt x="19699" y="9918"/>
                  <a:pt x="19645" y="10043"/>
                  <a:pt x="19621" y="10145"/>
                </a:cubicBezTo>
                <a:cubicBezTo>
                  <a:pt x="19593" y="10268"/>
                  <a:pt x="19589" y="10397"/>
                  <a:pt x="19621" y="10517"/>
                </a:cubicBezTo>
                <a:cubicBezTo>
                  <a:pt x="19636" y="10574"/>
                  <a:pt x="19675" y="10698"/>
                  <a:pt x="19720" y="10740"/>
                </a:cubicBezTo>
                <a:cubicBezTo>
                  <a:pt x="19757" y="10775"/>
                  <a:pt x="19821" y="10805"/>
                  <a:pt x="19869" y="10815"/>
                </a:cubicBezTo>
                <a:cubicBezTo>
                  <a:pt x="19901" y="10822"/>
                  <a:pt x="19960" y="10815"/>
                  <a:pt x="19993" y="10815"/>
                </a:cubicBezTo>
              </a:path>
              <a:path w="1241" h="1886">
                <a:moveTo>
                  <a:pt x="20117" y="10815"/>
                </a:moveTo>
                <a:cubicBezTo>
                  <a:pt x="20175" y="10815"/>
                  <a:pt x="20220" y="10825"/>
                  <a:pt x="20265" y="10790"/>
                </a:cubicBezTo>
              </a:path>
              <a:path w="1241" h="1886">
                <a:moveTo>
                  <a:pt x="20092" y="10864"/>
                </a:moveTo>
                <a:cubicBezTo>
                  <a:pt x="20034" y="10922"/>
                  <a:pt x="19992" y="10931"/>
                  <a:pt x="20042" y="10964"/>
                </a:cubicBezTo>
                <a:cubicBezTo>
                  <a:pt x="20074" y="10987"/>
                  <a:pt x="20125" y="11003"/>
                  <a:pt x="20166" y="11013"/>
                </a:cubicBezTo>
                <a:cubicBezTo>
                  <a:pt x="20205" y="11023"/>
                  <a:pt x="20272" y="11040"/>
                  <a:pt x="20290" y="11088"/>
                </a:cubicBezTo>
                <a:cubicBezTo>
                  <a:pt x="20315" y="11154"/>
                  <a:pt x="20335" y="11211"/>
                  <a:pt x="20290" y="11261"/>
                </a:cubicBezTo>
                <a:cubicBezTo>
                  <a:pt x="20262" y="11292"/>
                  <a:pt x="20176" y="11327"/>
                  <a:pt x="20141" y="11336"/>
                </a:cubicBezTo>
                <a:cubicBezTo>
                  <a:pt x="20083" y="11351"/>
                  <a:pt x="20023" y="11318"/>
                  <a:pt x="19968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680" y="4089240"/>
            <a:ext cx="4465440" cy="1027440"/>
          </a:xfrm>
          <a:custGeom>
            <a:avLst/>
            <a:gdLst/>
            <a:ahLst/>
            <a:rect l="l" t="t" r="r" b="b"/>
            <a:pathLst>
              <a:path w="12403" h="2853">
                <a:moveTo>
                  <a:pt x="1637" y="11708"/>
                </a:moveTo>
                <a:cubicBezTo>
                  <a:pt x="1612" y="11657"/>
                  <a:pt x="1642" y="11654"/>
                  <a:pt x="1687" y="11609"/>
                </a:cubicBezTo>
                <a:cubicBezTo>
                  <a:pt x="1724" y="11572"/>
                  <a:pt x="1759" y="11584"/>
                  <a:pt x="1811" y="11584"/>
                </a:cubicBezTo>
                <a:cubicBezTo>
                  <a:pt x="1857" y="11584"/>
                  <a:pt x="1874" y="11578"/>
                  <a:pt x="1910" y="11609"/>
                </a:cubicBezTo>
                <a:cubicBezTo>
                  <a:pt x="1929" y="11625"/>
                  <a:pt x="1967" y="11682"/>
                  <a:pt x="1960" y="11708"/>
                </a:cubicBezTo>
                <a:cubicBezTo>
                  <a:pt x="1944" y="11764"/>
                  <a:pt x="1899" y="11810"/>
                  <a:pt x="1885" y="11857"/>
                </a:cubicBezTo>
                <a:cubicBezTo>
                  <a:pt x="1872" y="11901"/>
                  <a:pt x="1867" y="11956"/>
                  <a:pt x="1811" y="11981"/>
                </a:cubicBezTo>
                <a:cubicBezTo>
                  <a:pt x="1787" y="11992"/>
                  <a:pt x="1762" y="11999"/>
                  <a:pt x="1736" y="12005"/>
                </a:cubicBezTo>
                <a:cubicBezTo>
                  <a:pt x="1769" y="11981"/>
                  <a:pt x="1781" y="11960"/>
                  <a:pt x="1811" y="11956"/>
                </a:cubicBezTo>
                <a:cubicBezTo>
                  <a:pt x="1864" y="11949"/>
                  <a:pt x="1867" y="12003"/>
                  <a:pt x="1885" y="12030"/>
                </a:cubicBezTo>
                <a:cubicBezTo>
                  <a:pt x="1927" y="12092"/>
                  <a:pt x="1938" y="12136"/>
                  <a:pt x="1960" y="12204"/>
                </a:cubicBezTo>
                <a:cubicBezTo>
                  <a:pt x="1985" y="12281"/>
                  <a:pt x="2004" y="12349"/>
                  <a:pt x="1960" y="12427"/>
                </a:cubicBezTo>
                <a:cubicBezTo>
                  <a:pt x="1931" y="12478"/>
                  <a:pt x="1895" y="12531"/>
                  <a:pt x="1836" y="12551"/>
                </a:cubicBezTo>
                <a:cubicBezTo>
                  <a:pt x="1788" y="12567"/>
                  <a:pt x="1702" y="12554"/>
                  <a:pt x="1662" y="12526"/>
                </a:cubicBezTo>
                <a:cubicBezTo>
                  <a:pt x="1613" y="12491"/>
                  <a:pt x="1529" y="12411"/>
                  <a:pt x="1513" y="12353"/>
                </a:cubicBezTo>
                <a:cubicBezTo>
                  <a:pt x="1498" y="12299"/>
                  <a:pt x="1520" y="12252"/>
                  <a:pt x="1538" y="12204"/>
                </a:cubicBezTo>
              </a:path>
              <a:path w="12403" h="2853">
                <a:moveTo>
                  <a:pt x="2108" y="11782"/>
                </a:moveTo>
                <a:cubicBezTo>
                  <a:pt x="2089" y="11840"/>
                  <a:pt x="2081" y="11883"/>
                  <a:pt x="2084" y="11832"/>
                </a:cubicBezTo>
                <a:cubicBezTo>
                  <a:pt x="2107" y="11800"/>
                  <a:pt x="2129" y="11746"/>
                  <a:pt x="2133" y="11708"/>
                </a:cubicBezTo>
                <a:cubicBezTo>
                  <a:pt x="2139" y="11650"/>
                  <a:pt x="2176" y="11612"/>
                  <a:pt x="2232" y="11584"/>
                </a:cubicBezTo>
                <a:cubicBezTo>
                  <a:pt x="2266" y="11567"/>
                  <a:pt x="2310" y="11589"/>
                  <a:pt x="2332" y="11609"/>
                </a:cubicBezTo>
                <a:cubicBezTo>
                  <a:pt x="2365" y="11639"/>
                  <a:pt x="2389" y="11714"/>
                  <a:pt x="2406" y="11757"/>
                </a:cubicBezTo>
                <a:cubicBezTo>
                  <a:pt x="2441" y="11846"/>
                  <a:pt x="2431" y="11936"/>
                  <a:pt x="2431" y="12030"/>
                </a:cubicBezTo>
                <a:cubicBezTo>
                  <a:pt x="2431" y="12133"/>
                  <a:pt x="2442" y="12230"/>
                  <a:pt x="2406" y="12328"/>
                </a:cubicBezTo>
                <a:cubicBezTo>
                  <a:pt x="2380" y="12400"/>
                  <a:pt x="2345" y="12463"/>
                  <a:pt x="2307" y="12526"/>
                </a:cubicBezTo>
                <a:cubicBezTo>
                  <a:pt x="2294" y="12547"/>
                  <a:pt x="2248" y="12619"/>
                  <a:pt x="2208" y="12601"/>
                </a:cubicBezTo>
                <a:cubicBezTo>
                  <a:pt x="2180" y="12588"/>
                  <a:pt x="2140" y="12558"/>
                  <a:pt x="2133" y="12526"/>
                </a:cubicBezTo>
                <a:cubicBezTo>
                  <a:pt x="2119" y="12461"/>
                  <a:pt x="2124" y="12433"/>
                  <a:pt x="2133" y="12378"/>
                </a:cubicBezTo>
                <a:cubicBezTo>
                  <a:pt x="2139" y="12342"/>
                  <a:pt x="2129" y="12277"/>
                  <a:pt x="2158" y="12254"/>
                </a:cubicBezTo>
                <a:cubicBezTo>
                  <a:pt x="2203" y="12218"/>
                  <a:pt x="2243" y="12229"/>
                  <a:pt x="2282" y="12254"/>
                </a:cubicBezTo>
                <a:cubicBezTo>
                  <a:pt x="2334" y="12288"/>
                  <a:pt x="2355" y="12350"/>
                  <a:pt x="2381" y="12402"/>
                </a:cubicBezTo>
                <a:cubicBezTo>
                  <a:pt x="2411" y="12463"/>
                  <a:pt x="2446" y="12519"/>
                  <a:pt x="2480" y="12576"/>
                </a:cubicBezTo>
                <a:cubicBezTo>
                  <a:pt x="2503" y="12615"/>
                  <a:pt x="2520" y="12671"/>
                  <a:pt x="2555" y="12675"/>
                </a:cubicBezTo>
                <a:cubicBezTo>
                  <a:pt x="2580" y="12675"/>
                  <a:pt x="2588" y="12675"/>
                  <a:pt x="2580" y="12650"/>
                </a:cubicBezTo>
              </a:path>
              <a:path w="12403" h="2853">
                <a:moveTo>
                  <a:pt x="2654" y="12055"/>
                </a:moveTo>
                <a:cubicBezTo>
                  <a:pt x="2699" y="12100"/>
                  <a:pt x="2714" y="12141"/>
                  <a:pt x="2729" y="12204"/>
                </a:cubicBezTo>
                <a:cubicBezTo>
                  <a:pt x="2742" y="12258"/>
                  <a:pt x="2767" y="12332"/>
                  <a:pt x="2803" y="12378"/>
                </a:cubicBezTo>
                <a:cubicBezTo>
                  <a:pt x="2850" y="12438"/>
                  <a:pt x="2918" y="12530"/>
                  <a:pt x="2977" y="12576"/>
                </a:cubicBezTo>
                <a:cubicBezTo>
                  <a:pt x="3011" y="12602"/>
                  <a:pt x="3106" y="12664"/>
                  <a:pt x="3150" y="12650"/>
                </a:cubicBezTo>
                <a:cubicBezTo>
                  <a:pt x="3158" y="12642"/>
                  <a:pt x="3167" y="12634"/>
                  <a:pt x="3175" y="12626"/>
                </a:cubicBezTo>
              </a:path>
              <a:path w="12403" h="2853">
                <a:moveTo>
                  <a:pt x="2977" y="11981"/>
                </a:moveTo>
                <a:cubicBezTo>
                  <a:pt x="2949" y="12077"/>
                  <a:pt x="2911" y="12161"/>
                  <a:pt x="2877" y="12254"/>
                </a:cubicBezTo>
                <a:cubicBezTo>
                  <a:pt x="2840" y="12354"/>
                  <a:pt x="2839" y="12453"/>
                  <a:pt x="2803" y="12551"/>
                </a:cubicBezTo>
                <a:cubicBezTo>
                  <a:pt x="2800" y="12561"/>
                  <a:pt x="2772" y="12706"/>
                  <a:pt x="2753" y="12700"/>
                </a:cubicBezTo>
                <a:cubicBezTo>
                  <a:pt x="2753" y="12692"/>
                  <a:pt x="2753" y="12683"/>
                  <a:pt x="2753" y="12675"/>
                </a:cubicBezTo>
              </a:path>
              <a:path w="12403" h="2853">
                <a:moveTo>
                  <a:pt x="3076" y="11385"/>
                </a:moveTo>
                <a:cubicBezTo>
                  <a:pt x="3135" y="11385"/>
                  <a:pt x="3151" y="11406"/>
                  <a:pt x="3200" y="11410"/>
                </a:cubicBezTo>
                <a:cubicBezTo>
                  <a:pt x="3249" y="11414"/>
                  <a:pt x="3300" y="11410"/>
                  <a:pt x="3349" y="11410"/>
                </a:cubicBezTo>
                <a:cubicBezTo>
                  <a:pt x="3349" y="11382"/>
                  <a:pt x="3351" y="11372"/>
                  <a:pt x="3373" y="11361"/>
                </a:cubicBezTo>
              </a:path>
              <a:path w="12403" h="2853">
                <a:moveTo>
                  <a:pt x="3001" y="11361"/>
                </a:moveTo>
                <a:cubicBezTo>
                  <a:pt x="2987" y="11409"/>
                  <a:pt x="2957" y="11466"/>
                  <a:pt x="2952" y="11509"/>
                </a:cubicBezTo>
                <a:cubicBezTo>
                  <a:pt x="2948" y="11547"/>
                  <a:pt x="2979" y="11576"/>
                  <a:pt x="3001" y="11584"/>
                </a:cubicBezTo>
                <a:cubicBezTo>
                  <a:pt x="3039" y="11571"/>
                  <a:pt x="3022" y="11559"/>
                  <a:pt x="3076" y="11559"/>
                </a:cubicBezTo>
                <a:cubicBezTo>
                  <a:pt x="3127" y="11559"/>
                  <a:pt x="3129" y="11574"/>
                  <a:pt x="3150" y="11584"/>
                </a:cubicBezTo>
                <a:cubicBezTo>
                  <a:pt x="3180" y="11599"/>
                  <a:pt x="3259" y="11617"/>
                  <a:pt x="3274" y="11658"/>
                </a:cubicBezTo>
                <a:cubicBezTo>
                  <a:pt x="3294" y="11714"/>
                  <a:pt x="3293" y="11755"/>
                  <a:pt x="3324" y="11807"/>
                </a:cubicBezTo>
                <a:cubicBezTo>
                  <a:pt x="3290" y="11863"/>
                  <a:pt x="3303" y="11905"/>
                  <a:pt x="3225" y="11931"/>
                </a:cubicBezTo>
                <a:cubicBezTo>
                  <a:pt x="3184" y="11945"/>
                  <a:pt x="3129" y="11931"/>
                  <a:pt x="3101" y="11906"/>
                </a:cubicBezTo>
                <a:cubicBezTo>
                  <a:pt x="3083" y="11890"/>
                  <a:pt x="3035" y="11838"/>
                  <a:pt x="3026" y="11832"/>
                </a:cubicBezTo>
                <a:cubicBezTo>
                  <a:pt x="2996" y="11812"/>
                  <a:pt x="3001" y="11831"/>
                  <a:pt x="3001" y="11782"/>
                </a:cubicBezTo>
              </a:path>
              <a:path w="12403" h="2853">
                <a:moveTo>
                  <a:pt x="3373" y="12179"/>
                </a:moveTo>
                <a:cubicBezTo>
                  <a:pt x="3373" y="12171"/>
                  <a:pt x="3373" y="12162"/>
                  <a:pt x="3373" y="12154"/>
                </a:cubicBezTo>
                <a:cubicBezTo>
                  <a:pt x="3463" y="12154"/>
                  <a:pt x="3537" y="12159"/>
                  <a:pt x="3621" y="12179"/>
                </a:cubicBezTo>
                <a:cubicBezTo>
                  <a:pt x="3663" y="12189"/>
                  <a:pt x="3686" y="12163"/>
                  <a:pt x="3721" y="12154"/>
                </a:cubicBezTo>
              </a:path>
              <a:path w="12403" h="2853">
                <a:moveTo>
                  <a:pt x="4440" y="11807"/>
                </a:moveTo>
                <a:cubicBezTo>
                  <a:pt x="4466" y="11772"/>
                  <a:pt x="4465" y="11776"/>
                  <a:pt x="4465" y="11733"/>
                </a:cubicBezTo>
                <a:cubicBezTo>
                  <a:pt x="4432" y="11722"/>
                  <a:pt x="4435" y="11693"/>
                  <a:pt x="4415" y="11683"/>
                </a:cubicBezTo>
                <a:cubicBezTo>
                  <a:pt x="4395" y="11673"/>
                  <a:pt x="4337" y="11659"/>
                  <a:pt x="4316" y="11658"/>
                </a:cubicBezTo>
                <a:cubicBezTo>
                  <a:pt x="4271" y="11655"/>
                  <a:pt x="4116" y="11636"/>
                  <a:pt x="4093" y="11683"/>
                </a:cubicBezTo>
                <a:cubicBezTo>
                  <a:pt x="4064" y="11742"/>
                  <a:pt x="4087" y="11716"/>
                  <a:pt x="4093" y="11782"/>
                </a:cubicBezTo>
                <a:cubicBezTo>
                  <a:pt x="4096" y="11819"/>
                  <a:pt x="4099" y="11852"/>
                  <a:pt x="4118" y="11881"/>
                </a:cubicBezTo>
                <a:cubicBezTo>
                  <a:pt x="4148" y="11926"/>
                  <a:pt x="4161" y="11967"/>
                  <a:pt x="4192" y="12005"/>
                </a:cubicBezTo>
                <a:cubicBezTo>
                  <a:pt x="4231" y="12053"/>
                  <a:pt x="4280" y="12087"/>
                  <a:pt x="4316" y="12129"/>
                </a:cubicBezTo>
                <a:cubicBezTo>
                  <a:pt x="4354" y="12173"/>
                  <a:pt x="4385" y="12253"/>
                  <a:pt x="4415" y="12303"/>
                </a:cubicBezTo>
                <a:cubicBezTo>
                  <a:pt x="4452" y="12365"/>
                  <a:pt x="4443" y="12437"/>
                  <a:pt x="4465" y="12502"/>
                </a:cubicBezTo>
                <a:cubicBezTo>
                  <a:pt x="4486" y="12564"/>
                  <a:pt x="4511" y="12593"/>
                  <a:pt x="4465" y="12650"/>
                </a:cubicBezTo>
                <a:cubicBezTo>
                  <a:pt x="4444" y="12676"/>
                  <a:pt x="4428" y="12739"/>
                  <a:pt x="4390" y="12750"/>
                </a:cubicBezTo>
                <a:cubicBezTo>
                  <a:pt x="4328" y="12768"/>
                  <a:pt x="4272" y="12739"/>
                  <a:pt x="4217" y="12725"/>
                </a:cubicBezTo>
                <a:cubicBezTo>
                  <a:pt x="4164" y="12712"/>
                  <a:pt x="4167" y="12688"/>
                  <a:pt x="4142" y="12650"/>
                </a:cubicBezTo>
                <a:cubicBezTo>
                  <a:pt x="4112" y="12604"/>
                  <a:pt x="4098" y="12585"/>
                  <a:pt x="4093" y="12526"/>
                </a:cubicBezTo>
                <a:cubicBezTo>
                  <a:pt x="4089" y="12477"/>
                  <a:pt x="4102" y="12421"/>
                  <a:pt x="4118" y="12378"/>
                </a:cubicBezTo>
                <a:cubicBezTo>
                  <a:pt x="4138" y="12323"/>
                  <a:pt x="4177" y="12293"/>
                  <a:pt x="4217" y="12254"/>
                </a:cubicBezTo>
                <a:cubicBezTo>
                  <a:pt x="4289" y="12183"/>
                  <a:pt x="4364" y="12107"/>
                  <a:pt x="4415" y="12030"/>
                </a:cubicBezTo>
                <a:cubicBezTo>
                  <a:pt x="4440" y="12005"/>
                  <a:pt x="4448" y="11997"/>
                  <a:pt x="4465" y="11981"/>
                </a:cubicBezTo>
              </a:path>
              <a:path w="12403" h="2853">
                <a:moveTo>
                  <a:pt x="4638" y="11782"/>
                </a:moveTo>
                <a:cubicBezTo>
                  <a:pt x="4638" y="11841"/>
                  <a:pt x="4619" y="11857"/>
                  <a:pt x="4614" y="11906"/>
                </a:cubicBezTo>
                <a:cubicBezTo>
                  <a:pt x="4610" y="11940"/>
                  <a:pt x="4601" y="11995"/>
                  <a:pt x="4589" y="12030"/>
                </a:cubicBezTo>
                <a:cubicBezTo>
                  <a:pt x="4567" y="12097"/>
                  <a:pt x="4573" y="12134"/>
                  <a:pt x="4564" y="12204"/>
                </a:cubicBezTo>
                <a:cubicBezTo>
                  <a:pt x="4551" y="12305"/>
                  <a:pt x="4519" y="12405"/>
                  <a:pt x="4514" y="12502"/>
                </a:cubicBezTo>
                <a:cubicBezTo>
                  <a:pt x="4511" y="12561"/>
                  <a:pt x="4515" y="12649"/>
                  <a:pt x="4539" y="12700"/>
                </a:cubicBezTo>
                <a:cubicBezTo>
                  <a:pt x="4550" y="12723"/>
                  <a:pt x="4584" y="12790"/>
                  <a:pt x="4614" y="12799"/>
                </a:cubicBezTo>
                <a:cubicBezTo>
                  <a:pt x="4681" y="12818"/>
                  <a:pt x="4717" y="12791"/>
                  <a:pt x="4762" y="12750"/>
                </a:cubicBezTo>
                <a:cubicBezTo>
                  <a:pt x="4797" y="12718"/>
                  <a:pt x="4829" y="12647"/>
                  <a:pt x="4837" y="12601"/>
                </a:cubicBezTo>
                <a:cubicBezTo>
                  <a:pt x="4852" y="12517"/>
                  <a:pt x="4862" y="12440"/>
                  <a:pt x="4862" y="12353"/>
                </a:cubicBezTo>
                <a:cubicBezTo>
                  <a:pt x="4862" y="12252"/>
                  <a:pt x="4830" y="12200"/>
                  <a:pt x="4812" y="12105"/>
                </a:cubicBezTo>
                <a:cubicBezTo>
                  <a:pt x="4798" y="12031"/>
                  <a:pt x="4773" y="11976"/>
                  <a:pt x="4738" y="11906"/>
                </a:cubicBezTo>
                <a:cubicBezTo>
                  <a:pt x="4713" y="11857"/>
                  <a:pt x="4664" y="11782"/>
                  <a:pt x="4614" y="11757"/>
                </a:cubicBezTo>
                <a:cubicBezTo>
                  <a:pt x="4578" y="11739"/>
                  <a:pt x="4544" y="11747"/>
                  <a:pt x="4539" y="11757"/>
                </a:cubicBezTo>
              </a:path>
              <a:path w="12403" h="2853">
                <a:moveTo>
                  <a:pt x="4986" y="12179"/>
                </a:moveTo>
                <a:cubicBezTo>
                  <a:pt x="4992" y="12222"/>
                  <a:pt x="4997" y="12262"/>
                  <a:pt x="5011" y="12303"/>
                </a:cubicBezTo>
                <a:cubicBezTo>
                  <a:pt x="5031" y="12360"/>
                  <a:pt x="5050" y="12426"/>
                  <a:pt x="5085" y="12477"/>
                </a:cubicBezTo>
                <a:cubicBezTo>
                  <a:pt x="5143" y="12561"/>
                  <a:pt x="5185" y="12625"/>
                  <a:pt x="5259" y="12700"/>
                </a:cubicBezTo>
                <a:cubicBezTo>
                  <a:pt x="5288" y="12729"/>
                  <a:pt x="5321" y="12762"/>
                  <a:pt x="5358" y="12774"/>
                </a:cubicBezTo>
                <a:cubicBezTo>
                  <a:pt x="5383" y="12774"/>
                  <a:pt x="5391" y="12774"/>
                  <a:pt x="5383" y="12750"/>
                </a:cubicBezTo>
              </a:path>
              <a:path w="12403" h="2853">
                <a:moveTo>
                  <a:pt x="5209" y="12129"/>
                </a:moveTo>
                <a:cubicBezTo>
                  <a:pt x="5191" y="12171"/>
                  <a:pt x="5145" y="12239"/>
                  <a:pt x="5135" y="12278"/>
                </a:cubicBezTo>
                <a:cubicBezTo>
                  <a:pt x="5117" y="12348"/>
                  <a:pt x="5107" y="12433"/>
                  <a:pt x="5085" y="12502"/>
                </a:cubicBezTo>
                <a:cubicBezTo>
                  <a:pt x="5061" y="12578"/>
                  <a:pt x="4980" y="12654"/>
                  <a:pt x="4961" y="12725"/>
                </a:cubicBezTo>
                <a:cubicBezTo>
                  <a:pt x="4958" y="12738"/>
                  <a:pt x="4940" y="12832"/>
                  <a:pt x="4936" y="12824"/>
                </a:cubicBezTo>
                <a:cubicBezTo>
                  <a:pt x="4936" y="12796"/>
                  <a:pt x="4938" y="12785"/>
                  <a:pt x="4961" y="12774"/>
                </a:cubicBezTo>
              </a:path>
              <a:path w="12403" h="2853">
                <a:moveTo>
                  <a:pt x="5283" y="11658"/>
                </a:moveTo>
                <a:cubicBezTo>
                  <a:pt x="5283" y="11703"/>
                  <a:pt x="5263" y="11717"/>
                  <a:pt x="5259" y="11757"/>
                </a:cubicBezTo>
                <a:cubicBezTo>
                  <a:pt x="5259" y="11765"/>
                  <a:pt x="5259" y="11774"/>
                  <a:pt x="5259" y="11782"/>
                </a:cubicBezTo>
                <a:cubicBezTo>
                  <a:pt x="5221" y="11795"/>
                  <a:pt x="5234" y="11812"/>
                  <a:pt x="5234" y="11857"/>
                </a:cubicBezTo>
                <a:cubicBezTo>
                  <a:pt x="5234" y="11899"/>
                  <a:pt x="5270" y="11927"/>
                  <a:pt x="5308" y="11931"/>
                </a:cubicBezTo>
                <a:cubicBezTo>
                  <a:pt x="5358" y="11937"/>
                  <a:pt x="5444" y="11944"/>
                  <a:pt x="5457" y="11906"/>
                </a:cubicBezTo>
              </a:path>
              <a:path w="12403" h="2853">
                <a:moveTo>
                  <a:pt x="5407" y="11460"/>
                </a:moveTo>
                <a:cubicBezTo>
                  <a:pt x="5407" y="11534"/>
                  <a:pt x="5394" y="11589"/>
                  <a:pt x="5383" y="11658"/>
                </a:cubicBezTo>
                <a:cubicBezTo>
                  <a:pt x="5353" y="11844"/>
                  <a:pt x="5370" y="12097"/>
                  <a:pt x="5407" y="12278"/>
                </a:cubicBezTo>
              </a:path>
              <a:path w="12403" h="2853">
                <a:moveTo>
                  <a:pt x="5606" y="12278"/>
                </a:moveTo>
                <a:cubicBezTo>
                  <a:pt x="5606" y="12387"/>
                  <a:pt x="5594" y="12507"/>
                  <a:pt x="5631" y="12601"/>
                </a:cubicBezTo>
                <a:cubicBezTo>
                  <a:pt x="5650" y="12648"/>
                  <a:pt x="5659" y="12677"/>
                  <a:pt x="5680" y="12700"/>
                </a:cubicBezTo>
                <a:cubicBezTo>
                  <a:pt x="5703" y="12726"/>
                  <a:pt x="5743" y="12736"/>
                  <a:pt x="5779" y="12725"/>
                </a:cubicBezTo>
                <a:cubicBezTo>
                  <a:pt x="5816" y="12714"/>
                  <a:pt x="5866" y="12632"/>
                  <a:pt x="5879" y="12601"/>
                </a:cubicBezTo>
                <a:cubicBezTo>
                  <a:pt x="5897" y="12557"/>
                  <a:pt x="5909" y="12491"/>
                  <a:pt x="5928" y="12452"/>
                </a:cubicBezTo>
                <a:cubicBezTo>
                  <a:pt x="5947" y="12414"/>
                  <a:pt x="5971" y="12350"/>
                  <a:pt x="5978" y="12303"/>
                </a:cubicBezTo>
                <a:cubicBezTo>
                  <a:pt x="5984" y="12264"/>
                  <a:pt x="5978" y="12219"/>
                  <a:pt x="5978" y="12179"/>
                </a:cubicBezTo>
                <a:cubicBezTo>
                  <a:pt x="5964" y="12215"/>
                  <a:pt x="5955" y="12236"/>
                  <a:pt x="5953" y="12278"/>
                </a:cubicBezTo>
                <a:cubicBezTo>
                  <a:pt x="5950" y="12340"/>
                  <a:pt x="5931" y="12369"/>
                  <a:pt x="5928" y="12427"/>
                </a:cubicBezTo>
                <a:cubicBezTo>
                  <a:pt x="5922" y="12524"/>
                  <a:pt x="5938" y="12610"/>
                  <a:pt x="5953" y="12700"/>
                </a:cubicBezTo>
                <a:cubicBezTo>
                  <a:pt x="5963" y="12763"/>
                  <a:pt x="5970" y="12839"/>
                  <a:pt x="5978" y="12898"/>
                </a:cubicBezTo>
                <a:cubicBezTo>
                  <a:pt x="5988" y="12978"/>
                  <a:pt x="6015" y="13045"/>
                  <a:pt x="6028" y="13122"/>
                </a:cubicBezTo>
                <a:cubicBezTo>
                  <a:pt x="6038" y="13180"/>
                  <a:pt x="6048" y="13307"/>
                  <a:pt x="6003" y="13345"/>
                </a:cubicBezTo>
                <a:cubicBezTo>
                  <a:pt x="5951" y="13389"/>
                  <a:pt x="5880" y="13363"/>
                  <a:pt x="5829" y="13345"/>
                </a:cubicBezTo>
                <a:cubicBezTo>
                  <a:pt x="5773" y="13325"/>
                  <a:pt x="5729" y="13276"/>
                  <a:pt x="5680" y="13246"/>
                </a:cubicBezTo>
                <a:cubicBezTo>
                  <a:pt x="5640" y="13222"/>
                  <a:pt x="5590" y="13218"/>
                  <a:pt x="5556" y="13196"/>
                </a:cubicBezTo>
                <a:cubicBezTo>
                  <a:pt x="5548" y="13191"/>
                  <a:pt x="5539" y="13154"/>
                  <a:pt x="5531" y="13146"/>
                </a:cubicBezTo>
              </a:path>
              <a:path w="12403" h="2853">
                <a:moveTo>
                  <a:pt x="6598" y="12005"/>
                </a:moveTo>
                <a:cubicBezTo>
                  <a:pt x="6598" y="12063"/>
                  <a:pt x="6620" y="12100"/>
                  <a:pt x="6623" y="12154"/>
                </a:cubicBezTo>
                <a:cubicBezTo>
                  <a:pt x="6631" y="12311"/>
                  <a:pt x="6623" y="12469"/>
                  <a:pt x="6623" y="12626"/>
                </a:cubicBezTo>
              </a:path>
              <a:path w="12403" h="2853">
                <a:moveTo>
                  <a:pt x="6424" y="12303"/>
                </a:moveTo>
                <a:cubicBezTo>
                  <a:pt x="6548" y="12303"/>
                  <a:pt x="6672" y="12303"/>
                  <a:pt x="6796" y="12303"/>
                </a:cubicBezTo>
              </a:path>
              <a:path w="12403" h="2853">
                <a:moveTo>
                  <a:pt x="7417" y="11931"/>
                </a:moveTo>
                <a:cubicBezTo>
                  <a:pt x="7391" y="11905"/>
                  <a:pt x="7351" y="11864"/>
                  <a:pt x="7317" y="11857"/>
                </a:cubicBezTo>
                <a:cubicBezTo>
                  <a:pt x="7254" y="11844"/>
                  <a:pt x="7204" y="11869"/>
                  <a:pt x="7144" y="11881"/>
                </a:cubicBezTo>
                <a:cubicBezTo>
                  <a:pt x="7102" y="11889"/>
                  <a:pt x="7074" y="11911"/>
                  <a:pt x="7069" y="11956"/>
                </a:cubicBezTo>
                <a:cubicBezTo>
                  <a:pt x="7064" y="12005"/>
                  <a:pt x="7086" y="12018"/>
                  <a:pt x="7094" y="12055"/>
                </a:cubicBezTo>
                <a:cubicBezTo>
                  <a:pt x="7108" y="12121"/>
                  <a:pt x="7134" y="12144"/>
                  <a:pt x="7169" y="12204"/>
                </a:cubicBezTo>
                <a:cubicBezTo>
                  <a:pt x="7215" y="12282"/>
                  <a:pt x="7255" y="12325"/>
                  <a:pt x="7293" y="12402"/>
                </a:cubicBezTo>
                <a:cubicBezTo>
                  <a:pt x="7335" y="12488"/>
                  <a:pt x="7377" y="12525"/>
                  <a:pt x="7392" y="12626"/>
                </a:cubicBezTo>
                <a:cubicBezTo>
                  <a:pt x="7401" y="12688"/>
                  <a:pt x="7398" y="12751"/>
                  <a:pt x="7367" y="12799"/>
                </a:cubicBezTo>
                <a:cubicBezTo>
                  <a:pt x="7311" y="12885"/>
                  <a:pt x="7286" y="12888"/>
                  <a:pt x="7218" y="12874"/>
                </a:cubicBezTo>
                <a:cubicBezTo>
                  <a:pt x="7170" y="12864"/>
                  <a:pt x="7136" y="12825"/>
                  <a:pt x="7119" y="12774"/>
                </a:cubicBezTo>
                <a:cubicBezTo>
                  <a:pt x="7107" y="12738"/>
                  <a:pt x="7076" y="12668"/>
                  <a:pt x="7094" y="12626"/>
                </a:cubicBezTo>
                <a:cubicBezTo>
                  <a:pt x="7112" y="12582"/>
                  <a:pt x="7131" y="12529"/>
                  <a:pt x="7144" y="12477"/>
                </a:cubicBezTo>
                <a:cubicBezTo>
                  <a:pt x="7162" y="12405"/>
                  <a:pt x="7189" y="12382"/>
                  <a:pt x="7243" y="12328"/>
                </a:cubicBezTo>
                <a:cubicBezTo>
                  <a:pt x="7280" y="12291"/>
                  <a:pt x="7301" y="12233"/>
                  <a:pt x="7342" y="12204"/>
                </a:cubicBezTo>
                <a:cubicBezTo>
                  <a:pt x="7389" y="12170"/>
                  <a:pt x="7405" y="12151"/>
                  <a:pt x="7441" y="12105"/>
                </a:cubicBezTo>
              </a:path>
              <a:path w="12403" h="2853">
                <a:moveTo>
                  <a:pt x="7640" y="11956"/>
                </a:moveTo>
                <a:cubicBezTo>
                  <a:pt x="7669" y="11966"/>
                  <a:pt x="7686" y="12014"/>
                  <a:pt x="7665" y="12055"/>
                </a:cubicBezTo>
                <a:cubicBezTo>
                  <a:pt x="7641" y="12103"/>
                  <a:pt x="7600" y="12155"/>
                  <a:pt x="7590" y="12204"/>
                </a:cubicBezTo>
                <a:cubicBezTo>
                  <a:pt x="7575" y="12279"/>
                  <a:pt x="7565" y="12347"/>
                  <a:pt x="7565" y="12427"/>
                </a:cubicBezTo>
                <a:cubicBezTo>
                  <a:pt x="7565" y="12508"/>
                  <a:pt x="7578" y="12576"/>
                  <a:pt x="7590" y="12650"/>
                </a:cubicBezTo>
                <a:cubicBezTo>
                  <a:pt x="7603" y="12730"/>
                  <a:pt x="7627" y="12747"/>
                  <a:pt x="7689" y="12799"/>
                </a:cubicBezTo>
                <a:cubicBezTo>
                  <a:pt x="7723" y="12827"/>
                  <a:pt x="7767" y="12844"/>
                  <a:pt x="7813" y="12849"/>
                </a:cubicBezTo>
                <a:cubicBezTo>
                  <a:pt x="7860" y="12854"/>
                  <a:pt x="7913" y="12812"/>
                  <a:pt x="7938" y="12774"/>
                </a:cubicBezTo>
                <a:cubicBezTo>
                  <a:pt x="7975" y="12716"/>
                  <a:pt x="7984" y="12643"/>
                  <a:pt x="7987" y="12576"/>
                </a:cubicBezTo>
                <a:cubicBezTo>
                  <a:pt x="7993" y="12444"/>
                  <a:pt x="7990" y="12326"/>
                  <a:pt x="7938" y="12204"/>
                </a:cubicBezTo>
                <a:cubicBezTo>
                  <a:pt x="7912" y="12142"/>
                  <a:pt x="7862" y="12048"/>
                  <a:pt x="7813" y="12005"/>
                </a:cubicBezTo>
                <a:cubicBezTo>
                  <a:pt x="7775" y="11972"/>
                  <a:pt x="7706" y="11943"/>
                  <a:pt x="7665" y="11931"/>
                </a:cubicBezTo>
                <a:cubicBezTo>
                  <a:pt x="7617" y="11917"/>
                  <a:pt x="7595" y="11951"/>
                  <a:pt x="7565" y="11981"/>
                </a:cubicBezTo>
              </a:path>
              <a:path w="12403" h="2853">
                <a:moveTo>
                  <a:pt x="8136" y="12254"/>
                </a:moveTo>
                <a:cubicBezTo>
                  <a:pt x="8181" y="12309"/>
                  <a:pt x="8189" y="12343"/>
                  <a:pt x="8210" y="12402"/>
                </a:cubicBezTo>
                <a:cubicBezTo>
                  <a:pt x="8238" y="12481"/>
                  <a:pt x="8290" y="12535"/>
                  <a:pt x="8334" y="12601"/>
                </a:cubicBezTo>
                <a:cubicBezTo>
                  <a:pt x="8381" y="12671"/>
                  <a:pt x="8425" y="12738"/>
                  <a:pt x="8483" y="12799"/>
                </a:cubicBezTo>
                <a:cubicBezTo>
                  <a:pt x="8531" y="12849"/>
                  <a:pt x="8583" y="12890"/>
                  <a:pt x="8632" y="12923"/>
                </a:cubicBezTo>
                <a:cubicBezTo>
                  <a:pt x="8703" y="12970"/>
                  <a:pt x="8697" y="12920"/>
                  <a:pt x="8706" y="12849"/>
                </a:cubicBezTo>
              </a:path>
              <a:path w="12403" h="2853">
                <a:moveTo>
                  <a:pt x="8434" y="12179"/>
                </a:moveTo>
                <a:cubicBezTo>
                  <a:pt x="8387" y="12274"/>
                  <a:pt x="8370" y="12357"/>
                  <a:pt x="8334" y="12452"/>
                </a:cubicBezTo>
                <a:cubicBezTo>
                  <a:pt x="8305" y="12529"/>
                  <a:pt x="8289" y="12617"/>
                  <a:pt x="8285" y="12700"/>
                </a:cubicBezTo>
                <a:cubicBezTo>
                  <a:pt x="8281" y="12770"/>
                  <a:pt x="8260" y="12824"/>
                  <a:pt x="8260" y="12898"/>
                </a:cubicBezTo>
                <a:cubicBezTo>
                  <a:pt x="8260" y="12916"/>
                  <a:pt x="8235" y="13005"/>
                  <a:pt x="8235" y="12948"/>
                </a:cubicBezTo>
              </a:path>
              <a:path w="12403" h="2853">
                <a:moveTo>
                  <a:pt x="8558" y="11609"/>
                </a:moveTo>
                <a:cubicBezTo>
                  <a:pt x="8602" y="11627"/>
                  <a:pt x="8668" y="11650"/>
                  <a:pt x="8706" y="11658"/>
                </a:cubicBezTo>
                <a:cubicBezTo>
                  <a:pt x="8754" y="11668"/>
                  <a:pt x="8825" y="11680"/>
                  <a:pt x="8855" y="11733"/>
                </a:cubicBezTo>
                <a:cubicBezTo>
                  <a:pt x="8878" y="11774"/>
                  <a:pt x="8890" y="11793"/>
                  <a:pt x="8855" y="11832"/>
                </a:cubicBezTo>
                <a:cubicBezTo>
                  <a:pt x="8829" y="11861"/>
                  <a:pt x="8790" y="11895"/>
                  <a:pt x="8756" y="11906"/>
                </a:cubicBezTo>
                <a:cubicBezTo>
                  <a:pt x="8730" y="11915"/>
                  <a:pt x="8685" y="11906"/>
                  <a:pt x="8657" y="11906"/>
                </a:cubicBezTo>
                <a:cubicBezTo>
                  <a:pt x="8693" y="11906"/>
                  <a:pt x="8729" y="11913"/>
                  <a:pt x="8756" y="11931"/>
                </a:cubicBezTo>
                <a:cubicBezTo>
                  <a:pt x="8789" y="11953"/>
                  <a:pt x="8827" y="11993"/>
                  <a:pt x="8830" y="12030"/>
                </a:cubicBezTo>
                <a:cubicBezTo>
                  <a:pt x="8833" y="12078"/>
                  <a:pt x="8833" y="12131"/>
                  <a:pt x="8781" y="12154"/>
                </a:cubicBezTo>
                <a:cubicBezTo>
                  <a:pt x="8747" y="12169"/>
                  <a:pt x="8670" y="12154"/>
                  <a:pt x="8632" y="12154"/>
                </a:cubicBezTo>
              </a:path>
              <a:path w="12403" h="2853">
                <a:moveTo>
                  <a:pt x="8880" y="12303"/>
                </a:moveTo>
                <a:cubicBezTo>
                  <a:pt x="8880" y="12464"/>
                  <a:pt x="8859" y="12656"/>
                  <a:pt x="8905" y="12799"/>
                </a:cubicBezTo>
                <a:cubicBezTo>
                  <a:pt x="8930" y="12877"/>
                  <a:pt x="8925" y="12929"/>
                  <a:pt x="9004" y="12948"/>
                </a:cubicBezTo>
                <a:cubicBezTo>
                  <a:pt x="9049" y="12959"/>
                  <a:pt x="9094" y="12923"/>
                  <a:pt x="9128" y="12898"/>
                </a:cubicBezTo>
                <a:cubicBezTo>
                  <a:pt x="9172" y="12865"/>
                  <a:pt x="9215" y="12803"/>
                  <a:pt x="9227" y="12750"/>
                </a:cubicBezTo>
                <a:cubicBezTo>
                  <a:pt x="9244" y="12670"/>
                  <a:pt x="9255" y="12580"/>
                  <a:pt x="9277" y="12502"/>
                </a:cubicBezTo>
                <a:cubicBezTo>
                  <a:pt x="9295" y="12437"/>
                  <a:pt x="9323" y="12393"/>
                  <a:pt x="9327" y="12328"/>
                </a:cubicBezTo>
                <a:cubicBezTo>
                  <a:pt x="9329" y="12295"/>
                  <a:pt x="9327" y="12311"/>
                  <a:pt x="9327" y="12278"/>
                </a:cubicBezTo>
                <a:cubicBezTo>
                  <a:pt x="9307" y="12311"/>
                  <a:pt x="9284" y="12360"/>
                  <a:pt x="9277" y="12402"/>
                </a:cubicBezTo>
                <a:cubicBezTo>
                  <a:pt x="9247" y="12578"/>
                  <a:pt x="9286" y="12777"/>
                  <a:pt x="9302" y="12948"/>
                </a:cubicBezTo>
                <a:cubicBezTo>
                  <a:pt x="9313" y="13066"/>
                  <a:pt x="9340" y="13177"/>
                  <a:pt x="9351" y="13295"/>
                </a:cubicBezTo>
                <a:cubicBezTo>
                  <a:pt x="9361" y="13397"/>
                  <a:pt x="9376" y="13489"/>
                  <a:pt x="9376" y="13593"/>
                </a:cubicBezTo>
                <a:cubicBezTo>
                  <a:pt x="9376" y="13658"/>
                  <a:pt x="9366" y="13742"/>
                  <a:pt x="9327" y="13791"/>
                </a:cubicBezTo>
                <a:cubicBezTo>
                  <a:pt x="9303" y="13821"/>
                  <a:pt x="9266" y="13867"/>
                  <a:pt x="9227" y="13866"/>
                </a:cubicBezTo>
                <a:cubicBezTo>
                  <a:pt x="9153" y="13863"/>
                  <a:pt x="9058" y="13817"/>
                  <a:pt x="9004" y="13767"/>
                </a:cubicBezTo>
                <a:cubicBezTo>
                  <a:pt x="8935" y="13703"/>
                  <a:pt x="8873" y="13614"/>
                  <a:pt x="8855" y="13519"/>
                </a:cubicBezTo>
                <a:cubicBezTo>
                  <a:pt x="8855" y="13502"/>
                  <a:pt x="8855" y="13486"/>
                  <a:pt x="8855" y="13469"/>
                </a:cubicBezTo>
              </a:path>
              <a:path w="12403" h="2853">
                <a:moveTo>
                  <a:pt x="9475" y="11609"/>
                </a:moveTo>
                <a:cubicBezTo>
                  <a:pt x="9514" y="11599"/>
                  <a:pt x="9530" y="11584"/>
                  <a:pt x="9575" y="11584"/>
                </a:cubicBezTo>
                <a:cubicBezTo>
                  <a:pt x="9602" y="11584"/>
                  <a:pt x="9675" y="11617"/>
                  <a:pt x="9699" y="11633"/>
                </a:cubicBezTo>
                <a:cubicBezTo>
                  <a:pt x="9748" y="11666"/>
                  <a:pt x="9761" y="11730"/>
                  <a:pt x="9773" y="11782"/>
                </a:cubicBezTo>
                <a:cubicBezTo>
                  <a:pt x="9783" y="11826"/>
                  <a:pt x="9740" y="11921"/>
                  <a:pt x="9723" y="11956"/>
                </a:cubicBezTo>
                <a:cubicBezTo>
                  <a:pt x="9701" y="12000"/>
                  <a:pt x="9665" y="12076"/>
                  <a:pt x="9624" y="12105"/>
                </a:cubicBezTo>
                <a:cubicBezTo>
                  <a:pt x="9574" y="12140"/>
                  <a:pt x="9581" y="12154"/>
                  <a:pt x="9525" y="12154"/>
                </a:cubicBezTo>
                <a:cubicBezTo>
                  <a:pt x="9500" y="12154"/>
                  <a:pt x="9441" y="12107"/>
                  <a:pt x="9475" y="12080"/>
                </a:cubicBezTo>
                <a:cubicBezTo>
                  <a:pt x="9496" y="12063"/>
                  <a:pt x="9491" y="12022"/>
                  <a:pt x="9525" y="12005"/>
                </a:cubicBezTo>
                <a:cubicBezTo>
                  <a:pt x="9570" y="11982"/>
                  <a:pt x="9617" y="12023"/>
                  <a:pt x="9649" y="12030"/>
                </a:cubicBezTo>
                <a:cubicBezTo>
                  <a:pt x="9711" y="12043"/>
                  <a:pt x="9758" y="12065"/>
                  <a:pt x="9823" y="12080"/>
                </a:cubicBezTo>
                <a:cubicBezTo>
                  <a:pt x="9873" y="12092"/>
                  <a:pt x="9936" y="12087"/>
                  <a:pt x="9971" y="12055"/>
                </a:cubicBezTo>
                <a:cubicBezTo>
                  <a:pt x="10002" y="12027"/>
                  <a:pt x="9996" y="12019"/>
                  <a:pt x="9996" y="11981"/>
                </a:cubicBezTo>
              </a:path>
              <a:path w="12403" h="2853">
                <a:moveTo>
                  <a:pt x="9823" y="12452"/>
                </a:moveTo>
                <a:cubicBezTo>
                  <a:pt x="9886" y="12452"/>
                  <a:pt x="9913" y="12474"/>
                  <a:pt x="9971" y="12477"/>
                </a:cubicBezTo>
                <a:cubicBezTo>
                  <a:pt x="10060" y="12482"/>
                  <a:pt x="10134" y="12490"/>
                  <a:pt x="10220" y="12502"/>
                </a:cubicBezTo>
                <a:cubicBezTo>
                  <a:pt x="10296" y="12513"/>
                  <a:pt x="10418" y="12502"/>
                  <a:pt x="10418" y="12502"/>
                </a:cubicBezTo>
                <a:cubicBezTo>
                  <a:pt x="10418" y="12494"/>
                  <a:pt x="10418" y="12485"/>
                  <a:pt x="10418" y="12477"/>
                </a:cubicBezTo>
              </a:path>
              <a:path w="12403" h="2853">
                <a:moveTo>
                  <a:pt x="10740" y="12030"/>
                </a:moveTo>
                <a:cubicBezTo>
                  <a:pt x="10740" y="12005"/>
                  <a:pt x="10740" y="11997"/>
                  <a:pt x="10765" y="12005"/>
                </a:cubicBezTo>
                <a:cubicBezTo>
                  <a:pt x="10765" y="12053"/>
                  <a:pt x="10760" y="12114"/>
                  <a:pt x="10740" y="12154"/>
                </a:cubicBezTo>
                <a:cubicBezTo>
                  <a:pt x="10726" y="12182"/>
                  <a:pt x="10707" y="12231"/>
                  <a:pt x="10691" y="12254"/>
                </a:cubicBezTo>
                <a:cubicBezTo>
                  <a:pt x="10665" y="12291"/>
                  <a:pt x="10652" y="12335"/>
                  <a:pt x="10641" y="12378"/>
                </a:cubicBezTo>
                <a:cubicBezTo>
                  <a:pt x="10686" y="12378"/>
                  <a:pt x="10700" y="12399"/>
                  <a:pt x="10740" y="12402"/>
                </a:cubicBezTo>
                <a:cubicBezTo>
                  <a:pt x="10800" y="12406"/>
                  <a:pt x="10838" y="12442"/>
                  <a:pt x="10889" y="12452"/>
                </a:cubicBezTo>
                <a:cubicBezTo>
                  <a:pt x="10947" y="12464"/>
                  <a:pt x="11019" y="12460"/>
                  <a:pt x="11063" y="12427"/>
                </a:cubicBezTo>
              </a:path>
              <a:path w="12403" h="2853">
                <a:moveTo>
                  <a:pt x="10988" y="11881"/>
                </a:moveTo>
                <a:cubicBezTo>
                  <a:pt x="10988" y="12209"/>
                  <a:pt x="10962" y="12557"/>
                  <a:pt x="11013" y="12874"/>
                </a:cubicBezTo>
                <a:cubicBezTo>
                  <a:pt x="11022" y="12932"/>
                  <a:pt x="11025" y="12972"/>
                  <a:pt x="11038" y="13022"/>
                </a:cubicBezTo>
              </a:path>
              <a:path w="12403" h="2853">
                <a:moveTo>
                  <a:pt x="11212" y="12030"/>
                </a:moveTo>
                <a:cubicBezTo>
                  <a:pt x="11212" y="12124"/>
                  <a:pt x="11198" y="12193"/>
                  <a:pt x="11187" y="12278"/>
                </a:cubicBezTo>
                <a:cubicBezTo>
                  <a:pt x="11175" y="12366"/>
                  <a:pt x="11166" y="12464"/>
                  <a:pt x="11162" y="12551"/>
                </a:cubicBezTo>
                <a:cubicBezTo>
                  <a:pt x="11158" y="12643"/>
                  <a:pt x="11165" y="12737"/>
                  <a:pt x="11187" y="12824"/>
                </a:cubicBezTo>
                <a:cubicBezTo>
                  <a:pt x="11205" y="12894"/>
                  <a:pt x="11243" y="12965"/>
                  <a:pt x="11286" y="13022"/>
                </a:cubicBezTo>
                <a:cubicBezTo>
                  <a:pt x="11304" y="13046"/>
                  <a:pt x="11380" y="13106"/>
                  <a:pt x="11410" y="13097"/>
                </a:cubicBezTo>
                <a:cubicBezTo>
                  <a:pt x="11456" y="13084"/>
                  <a:pt x="11507" y="13064"/>
                  <a:pt x="11534" y="13022"/>
                </a:cubicBezTo>
                <a:cubicBezTo>
                  <a:pt x="11589" y="12938"/>
                  <a:pt x="11629" y="12848"/>
                  <a:pt x="11633" y="12750"/>
                </a:cubicBezTo>
                <a:cubicBezTo>
                  <a:pt x="11639" y="12618"/>
                  <a:pt x="11640" y="12482"/>
                  <a:pt x="11609" y="12353"/>
                </a:cubicBezTo>
                <a:cubicBezTo>
                  <a:pt x="11596" y="12298"/>
                  <a:pt x="11552" y="12169"/>
                  <a:pt x="11509" y="12129"/>
                </a:cubicBezTo>
                <a:cubicBezTo>
                  <a:pt x="11495" y="12116"/>
                  <a:pt x="11371" y="12029"/>
                  <a:pt x="11361" y="12030"/>
                </a:cubicBezTo>
                <a:cubicBezTo>
                  <a:pt x="11327" y="12032"/>
                  <a:pt x="11252" y="12070"/>
                  <a:pt x="11237" y="12105"/>
                </a:cubicBezTo>
                <a:cubicBezTo>
                  <a:pt x="11237" y="12113"/>
                  <a:pt x="11237" y="12121"/>
                  <a:pt x="11237" y="12129"/>
                </a:cubicBezTo>
              </a:path>
              <a:path w="12403" h="2853">
                <a:moveTo>
                  <a:pt x="11708" y="12402"/>
                </a:moveTo>
                <a:cubicBezTo>
                  <a:pt x="11743" y="12448"/>
                  <a:pt x="11734" y="12502"/>
                  <a:pt x="11757" y="12551"/>
                </a:cubicBezTo>
                <a:cubicBezTo>
                  <a:pt x="11790" y="12623"/>
                  <a:pt x="11837" y="12684"/>
                  <a:pt x="11881" y="12750"/>
                </a:cubicBezTo>
                <a:cubicBezTo>
                  <a:pt x="11927" y="12819"/>
                  <a:pt x="11972" y="12887"/>
                  <a:pt x="12030" y="12948"/>
                </a:cubicBezTo>
                <a:cubicBezTo>
                  <a:pt x="12098" y="13020"/>
                  <a:pt x="12139" y="13061"/>
                  <a:pt x="12229" y="13097"/>
                </a:cubicBezTo>
              </a:path>
              <a:path w="12403" h="2853">
                <a:moveTo>
                  <a:pt x="11981" y="12402"/>
                </a:moveTo>
                <a:cubicBezTo>
                  <a:pt x="11941" y="12496"/>
                  <a:pt x="11914" y="12578"/>
                  <a:pt x="11881" y="12675"/>
                </a:cubicBezTo>
                <a:cubicBezTo>
                  <a:pt x="11852" y="12761"/>
                  <a:pt x="11815" y="12839"/>
                  <a:pt x="11782" y="12923"/>
                </a:cubicBezTo>
                <a:cubicBezTo>
                  <a:pt x="11759" y="12982"/>
                  <a:pt x="11719" y="13068"/>
                  <a:pt x="11708" y="13122"/>
                </a:cubicBezTo>
                <a:cubicBezTo>
                  <a:pt x="11696" y="13183"/>
                  <a:pt x="11695" y="13196"/>
                  <a:pt x="11733" y="13171"/>
                </a:cubicBezTo>
              </a:path>
              <a:path w="12403" h="2853">
                <a:moveTo>
                  <a:pt x="12005" y="11857"/>
                </a:moveTo>
                <a:cubicBezTo>
                  <a:pt x="12040" y="11796"/>
                  <a:pt x="12058" y="11775"/>
                  <a:pt x="12129" y="11757"/>
                </a:cubicBezTo>
                <a:cubicBezTo>
                  <a:pt x="12165" y="11748"/>
                  <a:pt x="12223" y="11797"/>
                  <a:pt x="12254" y="11807"/>
                </a:cubicBezTo>
                <a:cubicBezTo>
                  <a:pt x="12302" y="11822"/>
                  <a:pt x="12303" y="11830"/>
                  <a:pt x="12303" y="11881"/>
                </a:cubicBezTo>
                <a:cubicBezTo>
                  <a:pt x="12303" y="11936"/>
                  <a:pt x="12313" y="11965"/>
                  <a:pt x="12278" y="12005"/>
                </a:cubicBezTo>
                <a:cubicBezTo>
                  <a:pt x="12259" y="12027"/>
                  <a:pt x="12208" y="12073"/>
                  <a:pt x="12204" y="12080"/>
                </a:cubicBezTo>
                <a:cubicBezTo>
                  <a:pt x="12188" y="12113"/>
                  <a:pt x="12191" y="12095"/>
                  <a:pt x="12179" y="12129"/>
                </a:cubicBezTo>
                <a:cubicBezTo>
                  <a:pt x="12188" y="12157"/>
                  <a:pt x="12213" y="12176"/>
                  <a:pt x="12254" y="12179"/>
                </a:cubicBezTo>
                <a:cubicBezTo>
                  <a:pt x="12319" y="12184"/>
                  <a:pt x="12386" y="12179"/>
                  <a:pt x="12452" y="12179"/>
                </a:cubicBezTo>
              </a:path>
              <a:path w="12403" h="2853">
                <a:moveTo>
                  <a:pt x="12452" y="12601"/>
                </a:moveTo>
                <a:cubicBezTo>
                  <a:pt x="12430" y="12745"/>
                  <a:pt x="12436" y="12795"/>
                  <a:pt x="12452" y="12923"/>
                </a:cubicBezTo>
                <a:cubicBezTo>
                  <a:pt x="12462" y="13006"/>
                  <a:pt x="12476" y="13073"/>
                  <a:pt x="12526" y="13146"/>
                </a:cubicBezTo>
                <a:cubicBezTo>
                  <a:pt x="12554" y="13187"/>
                  <a:pt x="12591" y="13193"/>
                  <a:pt x="12626" y="13221"/>
                </a:cubicBezTo>
                <a:cubicBezTo>
                  <a:pt x="12657" y="13181"/>
                  <a:pt x="12698" y="13139"/>
                  <a:pt x="12725" y="13097"/>
                </a:cubicBezTo>
                <a:cubicBezTo>
                  <a:pt x="12773" y="13023"/>
                  <a:pt x="12832" y="12910"/>
                  <a:pt x="12849" y="12824"/>
                </a:cubicBezTo>
                <a:cubicBezTo>
                  <a:pt x="12861" y="12763"/>
                  <a:pt x="12888" y="12714"/>
                  <a:pt x="12898" y="12650"/>
                </a:cubicBezTo>
                <a:cubicBezTo>
                  <a:pt x="12903" y="12619"/>
                  <a:pt x="12898" y="12583"/>
                  <a:pt x="12898" y="12551"/>
                </a:cubicBezTo>
                <a:cubicBezTo>
                  <a:pt x="12885" y="12587"/>
                  <a:pt x="12876" y="12609"/>
                  <a:pt x="12874" y="12650"/>
                </a:cubicBezTo>
                <a:cubicBezTo>
                  <a:pt x="12862" y="12865"/>
                  <a:pt x="12879" y="13085"/>
                  <a:pt x="12898" y="13295"/>
                </a:cubicBezTo>
                <a:cubicBezTo>
                  <a:pt x="12908" y="13410"/>
                  <a:pt x="12920" y="13529"/>
                  <a:pt x="12923" y="13643"/>
                </a:cubicBezTo>
                <a:cubicBezTo>
                  <a:pt x="12927" y="13765"/>
                  <a:pt x="12913" y="13873"/>
                  <a:pt x="12898" y="13990"/>
                </a:cubicBezTo>
                <a:cubicBezTo>
                  <a:pt x="12888" y="14068"/>
                  <a:pt x="12878" y="14128"/>
                  <a:pt x="12824" y="14188"/>
                </a:cubicBezTo>
                <a:cubicBezTo>
                  <a:pt x="12786" y="14230"/>
                  <a:pt x="12728" y="14213"/>
                  <a:pt x="12675" y="14213"/>
                </a:cubicBezTo>
                <a:cubicBezTo>
                  <a:pt x="12611" y="14213"/>
                  <a:pt x="12514" y="14166"/>
                  <a:pt x="12477" y="14114"/>
                </a:cubicBezTo>
                <a:cubicBezTo>
                  <a:pt x="12404" y="14013"/>
                  <a:pt x="12409" y="13934"/>
                  <a:pt x="12402" y="13816"/>
                </a:cubicBezTo>
              </a:path>
              <a:path w="12403" h="2853">
                <a:moveTo>
                  <a:pt x="12973" y="11782"/>
                </a:moveTo>
                <a:cubicBezTo>
                  <a:pt x="13052" y="11782"/>
                  <a:pt x="13210" y="11760"/>
                  <a:pt x="13246" y="11807"/>
                </a:cubicBezTo>
                <a:cubicBezTo>
                  <a:pt x="13270" y="11839"/>
                  <a:pt x="13292" y="11852"/>
                  <a:pt x="13295" y="11881"/>
                </a:cubicBezTo>
                <a:cubicBezTo>
                  <a:pt x="13300" y="11923"/>
                  <a:pt x="13272" y="11976"/>
                  <a:pt x="13246" y="12005"/>
                </a:cubicBezTo>
                <a:cubicBezTo>
                  <a:pt x="13219" y="12035"/>
                  <a:pt x="13181" y="12068"/>
                  <a:pt x="13146" y="12080"/>
                </a:cubicBezTo>
                <a:cubicBezTo>
                  <a:pt x="13104" y="12094"/>
                  <a:pt x="13083" y="12080"/>
                  <a:pt x="13146" y="12080"/>
                </a:cubicBezTo>
                <a:cubicBezTo>
                  <a:pt x="13189" y="12080"/>
                  <a:pt x="13209" y="12117"/>
                  <a:pt x="13246" y="12129"/>
                </a:cubicBezTo>
                <a:cubicBezTo>
                  <a:pt x="13278" y="12139"/>
                  <a:pt x="13312" y="12166"/>
                  <a:pt x="13320" y="12204"/>
                </a:cubicBezTo>
                <a:cubicBezTo>
                  <a:pt x="13334" y="12268"/>
                  <a:pt x="13311" y="12327"/>
                  <a:pt x="13295" y="12378"/>
                </a:cubicBezTo>
                <a:cubicBezTo>
                  <a:pt x="13283" y="12418"/>
                  <a:pt x="13268" y="12447"/>
                  <a:pt x="13221" y="12452"/>
                </a:cubicBezTo>
                <a:cubicBezTo>
                  <a:pt x="13187" y="12456"/>
                  <a:pt x="13123" y="12440"/>
                  <a:pt x="13097" y="12427"/>
                </a:cubicBezTo>
                <a:cubicBezTo>
                  <a:pt x="13062" y="12409"/>
                  <a:pt x="13034" y="12370"/>
                  <a:pt x="13022" y="12353"/>
                </a:cubicBezTo>
                <a:cubicBezTo>
                  <a:pt x="12987" y="12305"/>
                  <a:pt x="12973" y="12345"/>
                  <a:pt x="12973" y="12278"/>
                </a:cubicBezTo>
              </a:path>
              <a:path w="12403" h="2853">
                <a:moveTo>
                  <a:pt x="13692" y="12278"/>
                </a:moveTo>
                <a:cubicBezTo>
                  <a:pt x="13692" y="12510"/>
                  <a:pt x="13819" y="13123"/>
                  <a:pt x="13667" y="12948"/>
                </a:cubicBezTo>
                <a:cubicBezTo>
                  <a:pt x="13659" y="12931"/>
                  <a:pt x="13651" y="12915"/>
                  <a:pt x="13643" y="12898"/>
                </a:cubicBezTo>
              </a:path>
              <a:path w="12403" h="2853">
                <a:moveTo>
                  <a:pt x="13395" y="12650"/>
                </a:moveTo>
                <a:cubicBezTo>
                  <a:pt x="13458" y="12603"/>
                  <a:pt x="13491" y="12641"/>
                  <a:pt x="13568" y="12650"/>
                </a:cubicBezTo>
                <a:cubicBezTo>
                  <a:pt x="13703" y="12665"/>
                  <a:pt x="13787" y="12661"/>
                  <a:pt x="13915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7960" y="4276800"/>
            <a:ext cx="1758960" cy="1171440"/>
          </a:xfrm>
          <a:custGeom>
            <a:avLst/>
            <a:gdLst/>
            <a:ahLst/>
            <a:rect l="l" t="t" r="r" b="b"/>
            <a:pathLst>
              <a:path w="4887" h="3251">
                <a:moveTo>
                  <a:pt x="14412" y="12254"/>
                </a:moveTo>
                <a:cubicBezTo>
                  <a:pt x="14451" y="12267"/>
                  <a:pt x="14436" y="12304"/>
                  <a:pt x="14436" y="12353"/>
                </a:cubicBezTo>
                <a:cubicBezTo>
                  <a:pt x="14436" y="12569"/>
                  <a:pt x="14428" y="12790"/>
                  <a:pt x="14461" y="12998"/>
                </a:cubicBezTo>
                <a:cubicBezTo>
                  <a:pt x="14475" y="13084"/>
                  <a:pt x="14461" y="13184"/>
                  <a:pt x="14461" y="13271"/>
                </a:cubicBezTo>
                <a:cubicBezTo>
                  <a:pt x="14489" y="13243"/>
                  <a:pt x="14498" y="13229"/>
                  <a:pt x="14486" y="13196"/>
                </a:cubicBezTo>
              </a:path>
              <a:path w="4887" h="3251">
                <a:moveTo>
                  <a:pt x="14759" y="12452"/>
                </a:moveTo>
                <a:cubicBezTo>
                  <a:pt x="14771" y="12488"/>
                  <a:pt x="14784" y="12492"/>
                  <a:pt x="14784" y="12551"/>
                </a:cubicBezTo>
                <a:cubicBezTo>
                  <a:pt x="14784" y="12758"/>
                  <a:pt x="14738" y="13026"/>
                  <a:pt x="14808" y="13221"/>
                </a:cubicBezTo>
                <a:cubicBezTo>
                  <a:pt x="14845" y="13324"/>
                  <a:pt x="14904" y="13429"/>
                  <a:pt x="14982" y="13494"/>
                </a:cubicBezTo>
                <a:cubicBezTo>
                  <a:pt x="15004" y="13512"/>
                  <a:pt x="15048" y="13537"/>
                  <a:pt x="15081" y="13519"/>
                </a:cubicBezTo>
                <a:cubicBezTo>
                  <a:pt x="15125" y="13496"/>
                  <a:pt x="15219" y="13425"/>
                  <a:pt x="15230" y="13370"/>
                </a:cubicBezTo>
                <a:cubicBezTo>
                  <a:pt x="15246" y="13292"/>
                  <a:pt x="15271" y="13202"/>
                  <a:pt x="15280" y="13122"/>
                </a:cubicBezTo>
                <a:cubicBezTo>
                  <a:pt x="15289" y="13045"/>
                  <a:pt x="15278" y="12945"/>
                  <a:pt x="15255" y="12874"/>
                </a:cubicBezTo>
                <a:cubicBezTo>
                  <a:pt x="15231" y="12799"/>
                  <a:pt x="15183" y="12731"/>
                  <a:pt x="15131" y="12675"/>
                </a:cubicBezTo>
                <a:cubicBezTo>
                  <a:pt x="15102" y="12643"/>
                  <a:pt x="15025" y="12586"/>
                  <a:pt x="14982" y="12576"/>
                </a:cubicBezTo>
                <a:cubicBezTo>
                  <a:pt x="14954" y="12569"/>
                  <a:pt x="14844" y="12598"/>
                  <a:pt x="14833" y="12626"/>
                </a:cubicBezTo>
                <a:cubicBezTo>
                  <a:pt x="14818" y="12665"/>
                  <a:pt x="14814" y="12708"/>
                  <a:pt x="14808" y="12750"/>
                </a:cubicBezTo>
              </a:path>
              <a:path w="4887" h="3251">
                <a:moveTo>
                  <a:pt x="15429" y="12923"/>
                </a:moveTo>
                <a:cubicBezTo>
                  <a:pt x="15440" y="12969"/>
                  <a:pt x="15450" y="13027"/>
                  <a:pt x="15478" y="13072"/>
                </a:cubicBezTo>
                <a:cubicBezTo>
                  <a:pt x="15525" y="13149"/>
                  <a:pt x="15570" y="13248"/>
                  <a:pt x="15627" y="13320"/>
                </a:cubicBezTo>
                <a:cubicBezTo>
                  <a:pt x="15682" y="13389"/>
                  <a:pt x="15752" y="13457"/>
                  <a:pt x="15801" y="13519"/>
                </a:cubicBezTo>
                <a:cubicBezTo>
                  <a:pt x="15844" y="13573"/>
                  <a:pt x="15828" y="13593"/>
                  <a:pt x="15900" y="13593"/>
                </a:cubicBezTo>
                <a:cubicBezTo>
                  <a:pt x="15925" y="13593"/>
                  <a:pt x="15933" y="13593"/>
                  <a:pt x="15925" y="13568"/>
                </a:cubicBezTo>
              </a:path>
              <a:path w="4887" h="3251">
                <a:moveTo>
                  <a:pt x="15726" y="12750"/>
                </a:moveTo>
                <a:cubicBezTo>
                  <a:pt x="15667" y="12789"/>
                  <a:pt x="15662" y="12828"/>
                  <a:pt x="15627" y="12898"/>
                </a:cubicBezTo>
                <a:cubicBezTo>
                  <a:pt x="15590" y="12972"/>
                  <a:pt x="15559" y="13046"/>
                  <a:pt x="15528" y="13122"/>
                </a:cubicBezTo>
                <a:cubicBezTo>
                  <a:pt x="15489" y="13216"/>
                  <a:pt x="15468" y="13307"/>
                  <a:pt x="15429" y="13395"/>
                </a:cubicBezTo>
                <a:cubicBezTo>
                  <a:pt x="15406" y="13447"/>
                  <a:pt x="15404" y="13465"/>
                  <a:pt x="15404" y="13519"/>
                </a:cubicBezTo>
                <a:cubicBezTo>
                  <a:pt x="15404" y="13527"/>
                  <a:pt x="15404" y="13535"/>
                  <a:pt x="15404" y="13543"/>
                </a:cubicBezTo>
              </a:path>
              <a:path w="4887" h="3251">
                <a:moveTo>
                  <a:pt x="15900" y="12923"/>
                </a:moveTo>
                <a:cubicBezTo>
                  <a:pt x="15900" y="13036"/>
                  <a:pt x="15907" y="13139"/>
                  <a:pt x="15925" y="13246"/>
                </a:cubicBezTo>
                <a:cubicBezTo>
                  <a:pt x="15936" y="13312"/>
                  <a:pt x="15950" y="13321"/>
                  <a:pt x="15999" y="13370"/>
                </a:cubicBezTo>
                <a:cubicBezTo>
                  <a:pt x="16024" y="13395"/>
                  <a:pt x="16061" y="13406"/>
                  <a:pt x="16098" y="13395"/>
                </a:cubicBezTo>
                <a:cubicBezTo>
                  <a:pt x="16146" y="13380"/>
                  <a:pt x="16205" y="13275"/>
                  <a:pt x="16222" y="13246"/>
                </a:cubicBezTo>
                <a:cubicBezTo>
                  <a:pt x="16257" y="13188"/>
                  <a:pt x="16282" y="13127"/>
                  <a:pt x="16321" y="13072"/>
                </a:cubicBezTo>
                <a:cubicBezTo>
                  <a:pt x="16352" y="13028"/>
                  <a:pt x="16408" y="12948"/>
                  <a:pt x="16421" y="12898"/>
                </a:cubicBezTo>
                <a:cubicBezTo>
                  <a:pt x="16433" y="12850"/>
                  <a:pt x="16425" y="12876"/>
                  <a:pt x="16446" y="12849"/>
                </a:cubicBezTo>
                <a:cubicBezTo>
                  <a:pt x="16424" y="12893"/>
                  <a:pt x="16439" y="12881"/>
                  <a:pt x="16421" y="12948"/>
                </a:cubicBezTo>
                <a:cubicBezTo>
                  <a:pt x="16403" y="13014"/>
                  <a:pt x="16412" y="13080"/>
                  <a:pt x="16396" y="13146"/>
                </a:cubicBezTo>
                <a:cubicBezTo>
                  <a:pt x="16374" y="13239"/>
                  <a:pt x="16381" y="13322"/>
                  <a:pt x="16371" y="13419"/>
                </a:cubicBezTo>
                <a:cubicBezTo>
                  <a:pt x="16355" y="13572"/>
                  <a:pt x="16346" y="13712"/>
                  <a:pt x="16346" y="13866"/>
                </a:cubicBezTo>
                <a:cubicBezTo>
                  <a:pt x="16346" y="13987"/>
                  <a:pt x="16333" y="14095"/>
                  <a:pt x="16321" y="14213"/>
                </a:cubicBezTo>
                <a:cubicBezTo>
                  <a:pt x="16313" y="14292"/>
                  <a:pt x="16330" y="14389"/>
                  <a:pt x="16297" y="14461"/>
                </a:cubicBezTo>
                <a:cubicBezTo>
                  <a:pt x="16280" y="14498"/>
                  <a:pt x="16236" y="14520"/>
                  <a:pt x="16197" y="14511"/>
                </a:cubicBezTo>
                <a:cubicBezTo>
                  <a:pt x="16153" y="14501"/>
                  <a:pt x="16109" y="14469"/>
                  <a:pt x="16073" y="14436"/>
                </a:cubicBezTo>
                <a:cubicBezTo>
                  <a:pt x="16014" y="14381"/>
                  <a:pt x="15940" y="14293"/>
                  <a:pt x="15925" y="14213"/>
                </a:cubicBezTo>
                <a:cubicBezTo>
                  <a:pt x="15925" y="14113"/>
                  <a:pt x="15929" y="14063"/>
                  <a:pt x="15949" y="13990"/>
                </a:cubicBezTo>
              </a:path>
              <a:path w="4887" h="3251">
                <a:moveTo>
                  <a:pt x="16570" y="12278"/>
                </a:moveTo>
                <a:cubicBezTo>
                  <a:pt x="16563" y="12315"/>
                  <a:pt x="16558" y="12367"/>
                  <a:pt x="16545" y="12402"/>
                </a:cubicBezTo>
                <a:cubicBezTo>
                  <a:pt x="16535" y="12429"/>
                  <a:pt x="16500" y="12491"/>
                  <a:pt x="16520" y="12526"/>
                </a:cubicBezTo>
                <a:cubicBezTo>
                  <a:pt x="16533" y="12549"/>
                  <a:pt x="16595" y="12615"/>
                  <a:pt x="16619" y="12626"/>
                </a:cubicBezTo>
                <a:cubicBezTo>
                  <a:pt x="16652" y="12641"/>
                  <a:pt x="16678" y="12650"/>
                  <a:pt x="16718" y="12650"/>
                </a:cubicBezTo>
                <a:cubicBezTo>
                  <a:pt x="16761" y="12650"/>
                  <a:pt x="16758" y="12651"/>
                  <a:pt x="16793" y="12626"/>
                </a:cubicBezTo>
              </a:path>
              <a:path w="4887" h="3251">
                <a:moveTo>
                  <a:pt x="16743" y="11881"/>
                </a:moveTo>
                <a:cubicBezTo>
                  <a:pt x="16743" y="11944"/>
                  <a:pt x="16721" y="11989"/>
                  <a:pt x="16718" y="12055"/>
                </a:cubicBezTo>
                <a:cubicBezTo>
                  <a:pt x="16713" y="12182"/>
                  <a:pt x="16756" y="12303"/>
                  <a:pt x="16768" y="12427"/>
                </a:cubicBezTo>
                <a:cubicBezTo>
                  <a:pt x="16780" y="12543"/>
                  <a:pt x="16806" y="12658"/>
                  <a:pt x="16818" y="12774"/>
                </a:cubicBezTo>
                <a:cubicBezTo>
                  <a:pt x="16826" y="12852"/>
                  <a:pt x="16836" y="12923"/>
                  <a:pt x="16842" y="12998"/>
                </a:cubicBezTo>
                <a:cubicBezTo>
                  <a:pt x="16842" y="13022"/>
                  <a:pt x="16842" y="13031"/>
                  <a:pt x="16842" y="13047"/>
                </a:cubicBezTo>
              </a:path>
              <a:path w="4887" h="3251">
                <a:moveTo>
                  <a:pt x="17090" y="13122"/>
                </a:moveTo>
                <a:cubicBezTo>
                  <a:pt x="17134" y="13096"/>
                  <a:pt x="17210" y="13081"/>
                  <a:pt x="17264" y="13072"/>
                </a:cubicBezTo>
                <a:cubicBezTo>
                  <a:pt x="17359" y="13056"/>
                  <a:pt x="17450" y="13086"/>
                  <a:pt x="17537" y="13097"/>
                </a:cubicBezTo>
                <a:cubicBezTo>
                  <a:pt x="17614" y="13107"/>
                  <a:pt x="17687" y="13110"/>
                  <a:pt x="17760" y="13122"/>
                </a:cubicBezTo>
                <a:cubicBezTo>
                  <a:pt x="17808" y="13130"/>
                  <a:pt x="17882" y="13138"/>
                  <a:pt x="17884" y="13122"/>
                </a:cubicBezTo>
                <a:cubicBezTo>
                  <a:pt x="17884" y="13097"/>
                  <a:pt x="17884" y="13089"/>
                  <a:pt x="17884" y="13072"/>
                </a:cubicBezTo>
              </a:path>
              <a:path w="4887" h="3251">
                <a:moveTo>
                  <a:pt x="18182" y="12948"/>
                </a:moveTo>
                <a:cubicBezTo>
                  <a:pt x="18159" y="13010"/>
                  <a:pt x="18156" y="13074"/>
                  <a:pt x="18132" y="13146"/>
                </a:cubicBezTo>
                <a:cubicBezTo>
                  <a:pt x="18101" y="13238"/>
                  <a:pt x="18120" y="13279"/>
                  <a:pt x="18132" y="13370"/>
                </a:cubicBezTo>
                <a:cubicBezTo>
                  <a:pt x="18147" y="13488"/>
                  <a:pt x="18174" y="13545"/>
                  <a:pt x="18256" y="13643"/>
                </a:cubicBezTo>
                <a:cubicBezTo>
                  <a:pt x="18289" y="13683"/>
                  <a:pt x="18325" y="13709"/>
                  <a:pt x="18380" y="13692"/>
                </a:cubicBezTo>
                <a:cubicBezTo>
                  <a:pt x="18438" y="13674"/>
                  <a:pt x="18474" y="13616"/>
                  <a:pt x="18504" y="13568"/>
                </a:cubicBezTo>
                <a:cubicBezTo>
                  <a:pt x="18548" y="13496"/>
                  <a:pt x="18614" y="13405"/>
                  <a:pt x="18628" y="13320"/>
                </a:cubicBezTo>
                <a:cubicBezTo>
                  <a:pt x="18642" y="13237"/>
                  <a:pt x="18674" y="13157"/>
                  <a:pt x="18678" y="13072"/>
                </a:cubicBezTo>
                <a:cubicBezTo>
                  <a:pt x="18680" y="13035"/>
                  <a:pt x="18695" y="12907"/>
                  <a:pt x="18678" y="12948"/>
                </a:cubicBezTo>
                <a:cubicBezTo>
                  <a:pt x="18654" y="13006"/>
                  <a:pt x="18666" y="13062"/>
                  <a:pt x="18653" y="13122"/>
                </a:cubicBezTo>
                <a:cubicBezTo>
                  <a:pt x="18629" y="13233"/>
                  <a:pt x="18628" y="13329"/>
                  <a:pt x="18628" y="13444"/>
                </a:cubicBezTo>
                <a:cubicBezTo>
                  <a:pt x="18628" y="13654"/>
                  <a:pt x="18639" y="13857"/>
                  <a:pt x="18653" y="14064"/>
                </a:cubicBezTo>
                <a:cubicBezTo>
                  <a:pt x="18666" y="14257"/>
                  <a:pt x="18668" y="14472"/>
                  <a:pt x="18628" y="14660"/>
                </a:cubicBezTo>
                <a:cubicBezTo>
                  <a:pt x="18608" y="14755"/>
                  <a:pt x="18585" y="14902"/>
                  <a:pt x="18529" y="14982"/>
                </a:cubicBezTo>
                <a:cubicBezTo>
                  <a:pt x="18486" y="15043"/>
                  <a:pt x="18387" y="15140"/>
                  <a:pt x="18306" y="15131"/>
                </a:cubicBezTo>
                <a:cubicBezTo>
                  <a:pt x="18263" y="15126"/>
                  <a:pt x="18140" y="15057"/>
                  <a:pt x="18107" y="15032"/>
                </a:cubicBezTo>
                <a:cubicBezTo>
                  <a:pt x="18043" y="14985"/>
                  <a:pt x="17989" y="14879"/>
                  <a:pt x="17959" y="14808"/>
                </a:cubicBezTo>
                <a:cubicBezTo>
                  <a:pt x="17934" y="14734"/>
                  <a:pt x="17926" y="14709"/>
                  <a:pt x="17909" y="14660"/>
                </a:cubicBezTo>
              </a:path>
              <a:path w="4887" h="3251">
                <a:moveTo>
                  <a:pt x="18951" y="12129"/>
                </a:moveTo>
                <a:cubicBezTo>
                  <a:pt x="19036" y="12110"/>
                  <a:pt x="19089" y="12105"/>
                  <a:pt x="19174" y="12105"/>
                </a:cubicBezTo>
                <a:cubicBezTo>
                  <a:pt x="19215" y="12105"/>
                  <a:pt x="19257" y="12105"/>
                  <a:pt x="19298" y="12105"/>
                </a:cubicBezTo>
              </a:path>
              <a:path w="4887" h="3251">
                <a:moveTo>
                  <a:pt x="18951" y="12154"/>
                </a:moveTo>
                <a:cubicBezTo>
                  <a:pt x="18936" y="12175"/>
                  <a:pt x="18852" y="12260"/>
                  <a:pt x="18876" y="12303"/>
                </a:cubicBezTo>
                <a:cubicBezTo>
                  <a:pt x="18900" y="12347"/>
                  <a:pt x="18932" y="12353"/>
                  <a:pt x="18976" y="12353"/>
                </a:cubicBezTo>
                <a:cubicBezTo>
                  <a:pt x="19026" y="12353"/>
                  <a:pt x="19034" y="12364"/>
                  <a:pt x="19075" y="12378"/>
                </a:cubicBezTo>
                <a:cubicBezTo>
                  <a:pt x="19124" y="12394"/>
                  <a:pt x="19131" y="12384"/>
                  <a:pt x="19174" y="12427"/>
                </a:cubicBezTo>
                <a:cubicBezTo>
                  <a:pt x="19228" y="12480"/>
                  <a:pt x="19265" y="12554"/>
                  <a:pt x="19273" y="12626"/>
                </a:cubicBezTo>
                <a:cubicBezTo>
                  <a:pt x="19278" y="12672"/>
                  <a:pt x="19292" y="12796"/>
                  <a:pt x="19248" y="12824"/>
                </a:cubicBezTo>
                <a:cubicBezTo>
                  <a:pt x="19220" y="12842"/>
                  <a:pt x="19186" y="12849"/>
                  <a:pt x="19149" y="12849"/>
                </a:cubicBezTo>
                <a:cubicBezTo>
                  <a:pt x="19104" y="12849"/>
                  <a:pt x="19091" y="12829"/>
                  <a:pt x="19050" y="12824"/>
                </a:cubicBezTo>
                <a:cubicBezTo>
                  <a:pt x="19000" y="12818"/>
                  <a:pt x="19010" y="12786"/>
                  <a:pt x="18976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840" y="3803760"/>
            <a:ext cx="6929280" cy="1546200"/>
          </a:xfrm>
          <a:custGeom>
            <a:avLst/>
            <a:gdLst/>
            <a:ahLst/>
            <a:rect l="l" t="t" r="r" b="b"/>
            <a:pathLst>
              <a:path w="19250" h="4292">
                <a:moveTo>
                  <a:pt x="1116" y="10914"/>
                </a:moveTo>
                <a:cubicBezTo>
                  <a:pt x="1106" y="11588"/>
                  <a:pt x="1117" y="12253"/>
                  <a:pt x="1042" y="12923"/>
                </a:cubicBezTo>
                <a:cubicBezTo>
                  <a:pt x="1029" y="13035"/>
                  <a:pt x="1005" y="13171"/>
                  <a:pt x="992" y="13271"/>
                </a:cubicBezTo>
                <a:cubicBezTo>
                  <a:pt x="989" y="13157"/>
                  <a:pt x="965" y="13065"/>
                  <a:pt x="967" y="12948"/>
                </a:cubicBezTo>
                <a:cubicBezTo>
                  <a:pt x="970" y="12756"/>
                  <a:pt x="990" y="12569"/>
                  <a:pt x="992" y="12378"/>
                </a:cubicBezTo>
                <a:cubicBezTo>
                  <a:pt x="997" y="11983"/>
                  <a:pt x="1020" y="11603"/>
                  <a:pt x="1067" y="11212"/>
                </a:cubicBezTo>
                <a:cubicBezTo>
                  <a:pt x="1079" y="11112"/>
                  <a:pt x="1080" y="11010"/>
                  <a:pt x="1116" y="10914"/>
                </a:cubicBezTo>
                <a:cubicBezTo>
                  <a:pt x="1161" y="10793"/>
                  <a:pt x="1170" y="10776"/>
                  <a:pt x="1265" y="10691"/>
                </a:cubicBezTo>
                <a:cubicBezTo>
                  <a:pt x="1329" y="10634"/>
                  <a:pt x="1383" y="10618"/>
                  <a:pt x="1463" y="10592"/>
                </a:cubicBezTo>
                <a:cubicBezTo>
                  <a:pt x="1953" y="10431"/>
                  <a:pt x="2749" y="10550"/>
                  <a:pt x="3249" y="10592"/>
                </a:cubicBezTo>
                <a:cubicBezTo>
                  <a:pt x="3446" y="10609"/>
                  <a:pt x="3648" y="10615"/>
                  <a:pt x="3845" y="10641"/>
                </a:cubicBezTo>
                <a:cubicBezTo>
                  <a:pt x="4049" y="10668"/>
                  <a:pt x="4255" y="10722"/>
                  <a:pt x="4465" y="10740"/>
                </a:cubicBezTo>
                <a:cubicBezTo>
                  <a:pt x="4736" y="10763"/>
                  <a:pt x="5011" y="10795"/>
                  <a:pt x="5283" y="10815"/>
                </a:cubicBezTo>
                <a:cubicBezTo>
                  <a:pt x="5506" y="10831"/>
                  <a:pt x="5730" y="10849"/>
                  <a:pt x="5953" y="10864"/>
                </a:cubicBezTo>
                <a:cubicBezTo>
                  <a:pt x="6184" y="10880"/>
                  <a:pt x="6417" y="10878"/>
                  <a:pt x="6648" y="10889"/>
                </a:cubicBezTo>
                <a:cubicBezTo>
                  <a:pt x="6872" y="10900"/>
                  <a:pt x="7094" y="10903"/>
                  <a:pt x="7317" y="10914"/>
                </a:cubicBezTo>
                <a:cubicBezTo>
                  <a:pt x="7549" y="10925"/>
                  <a:pt x="7781" y="10954"/>
                  <a:pt x="8012" y="10964"/>
                </a:cubicBezTo>
                <a:cubicBezTo>
                  <a:pt x="8260" y="10975"/>
                  <a:pt x="8508" y="10984"/>
                  <a:pt x="8756" y="10988"/>
                </a:cubicBezTo>
                <a:cubicBezTo>
                  <a:pt x="9388" y="10999"/>
                  <a:pt x="10010" y="11071"/>
                  <a:pt x="10641" y="11088"/>
                </a:cubicBezTo>
                <a:cubicBezTo>
                  <a:pt x="10915" y="11096"/>
                  <a:pt x="11187" y="11106"/>
                  <a:pt x="11460" y="11112"/>
                </a:cubicBezTo>
                <a:cubicBezTo>
                  <a:pt x="12064" y="11125"/>
                  <a:pt x="12666" y="11137"/>
                  <a:pt x="13271" y="11137"/>
                </a:cubicBezTo>
                <a:cubicBezTo>
                  <a:pt x="14209" y="11137"/>
                  <a:pt x="15139" y="11181"/>
                  <a:pt x="16073" y="11261"/>
                </a:cubicBezTo>
                <a:cubicBezTo>
                  <a:pt x="16619" y="11308"/>
                  <a:pt x="17165" y="11395"/>
                  <a:pt x="17711" y="11435"/>
                </a:cubicBezTo>
                <a:cubicBezTo>
                  <a:pt x="17925" y="11451"/>
                  <a:pt x="18142" y="11474"/>
                  <a:pt x="18355" y="11485"/>
                </a:cubicBezTo>
                <a:cubicBezTo>
                  <a:pt x="18704" y="11503"/>
                  <a:pt x="19270" y="11366"/>
                  <a:pt x="19571" y="11584"/>
                </a:cubicBezTo>
                <a:cubicBezTo>
                  <a:pt x="19638" y="11632"/>
                  <a:pt x="19668" y="11690"/>
                  <a:pt x="19720" y="11757"/>
                </a:cubicBezTo>
                <a:cubicBezTo>
                  <a:pt x="19787" y="11844"/>
                  <a:pt x="19829" y="12002"/>
                  <a:pt x="19869" y="12105"/>
                </a:cubicBezTo>
                <a:cubicBezTo>
                  <a:pt x="19927" y="12254"/>
                  <a:pt x="19956" y="12445"/>
                  <a:pt x="19993" y="12601"/>
                </a:cubicBezTo>
                <a:cubicBezTo>
                  <a:pt x="20064" y="12906"/>
                  <a:pt x="20099" y="13233"/>
                  <a:pt x="20117" y="13543"/>
                </a:cubicBezTo>
                <a:cubicBezTo>
                  <a:pt x="20134" y="13830"/>
                  <a:pt x="20222" y="14494"/>
                  <a:pt x="20042" y="14734"/>
                </a:cubicBezTo>
                <a:cubicBezTo>
                  <a:pt x="20009" y="14778"/>
                  <a:pt x="19991" y="14798"/>
                  <a:pt x="19943" y="14833"/>
                </a:cubicBezTo>
                <a:cubicBezTo>
                  <a:pt x="19855" y="14898"/>
                  <a:pt x="19583" y="14827"/>
                  <a:pt x="19472" y="14833"/>
                </a:cubicBezTo>
                <a:cubicBezTo>
                  <a:pt x="19026" y="14856"/>
                  <a:pt x="18579" y="14792"/>
                  <a:pt x="18132" y="14784"/>
                </a:cubicBezTo>
                <a:cubicBezTo>
                  <a:pt x="17595" y="14774"/>
                  <a:pt x="17056" y="14744"/>
                  <a:pt x="16520" y="14734"/>
                </a:cubicBezTo>
                <a:cubicBezTo>
                  <a:pt x="16077" y="14726"/>
                  <a:pt x="15646" y="14699"/>
                  <a:pt x="15205" y="14660"/>
                </a:cubicBezTo>
                <a:cubicBezTo>
                  <a:pt x="14768" y="14621"/>
                  <a:pt x="14328" y="14581"/>
                  <a:pt x="13891" y="14536"/>
                </a:cubicBezTo>
                <a:cubicBezTo>
                  <a:pt x="13614" y="14508"/>
                  <a:pt x="13347" y="14450"/>
                  <a:pt x="13072" y="14412"/>
                </a:cubicBezTo>
                <a:cubicBezTo>
                  <a:pt x="11760" y="14228"/>
                  <a:pt x="10422" y="14169"/>
                  <a:pt x="9103" y="14064"/>
                </a:cubicBezTo>
                <a:cubicBezTo>
                  <a:pt x="8632" y="14027"/>
                  <a:pt x="8160" y="13973"/>
                  <a:pt x="7689" y="13940"/>
                </a:cubicBezTo>
                <a:cubicBezTo>
                  <a:pt x="7436" y="13922"/>
                  <a:pt x="7175" y="13898"/>
                  <a:pt x="6921" y="13891"/>
                </a:cubicBezTo>
                <a:cubicBezTo>
                  <a:pt x="6614" y="13882"/>
                  <a:pt x="6309" y="13871"/>
                  <a:pt x="6003" y="13841"/>
                </a:cubicBezTo>
                <a:cubicBezTo>
                  <a:pt x="5762" y="13817"/>
                  <a:pt x="5524" y="13789"/>
                  <a:pt x="5283" y="13767"/>
                </a:cubicBezTo>
                <a:cubicBezTo>
                  <a:pt x="5003" y="13741"/>
                  <a:pt x="4720" y="13713"/>
                  <a:pt x="4440" y="13692"/>
                </a:cubicBezTo>
                <a:cubicBezTo>
                  <a:pt x="4234" y="13677"/>
                  <a:pt x="4026" y="13678"/>
                  <a:pt x="3820" y="13667"/>
                </a:cubicBezTo>
                <a:cubicBezTo>
                  <a:pt x="3586" y="13654"/>
                  <a:pt x="3357" y="13631"/>
                  <a:pt x="3125" y="13618"/>
                </a:cubicBezTo>
                <a:cubicBezTo>
                  <a:pt x="2966" y="13609"/>
                  <a:pt x="2812" y="13607"/>
                  <a:pt x="2654" y="13593"/>
                </a:cubicBezTo>
                <a:cubicBezTo>
                  <a:pt x="2520" y="13581"/>
                  <a:pt x="2390" y="13559"/>
                  <a:pt x="2257" y="13543"/>
                </a:cubicBezTo>
                <a:cubicBezTo>
                  <a:pt x="2131" y="13528"/>
                  <a:pt x="2010" y="13521"/>
                  <a:pt x="1885" y="13494"/>
                </a:cubicBezTo>
                <a:cubicBezTo>
                  <a:pt x="1703" y="13455"/>
                  <a:pt x="1523" y="13372"/>
                  <a:pt x="1339" y="13345"/>
                </a:cubicBezTo>
                <a:cubicBezTo>
                  <a:pt x="1191" y="13323"/>
                  <a:pt x="1009" y="13312"/>
                  <a:pt x="868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66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23-31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500" spc="-1" strike="noStrike">
                <a:solidFill>
                  <a:srgbClr val="ccffff"/>
                </a:solidFill>
                <a:latin typeface="Arial"/>
              </a:rPr>
              <a:t>Pages 661-662 #1-21 &amp; 79</a:t>
            </a:r>
            <a:endParaRPr b="0" lang="en-US" sz="4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9.5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nomial Theor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orem which is helpful when expanding a binomial raised to any pow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4680" y="1928880"/>
            <a:ext cx="1268280" cy="946080"/>
          </a:xfrm>
          <a:custGeom>
            <a:avLst/>
            <a:gdLst/>
            <a:ahLst/>
            <a:rect l="l" t="t" r="r" b="b"/>
            <a:pathLst>
              <a:path w="3523" h="2630">
                <a:moveTo>
                  <a:pt x="1786" y="6077"/>
                </a:moveTo>
                <a:cubicBezTo>
                  <a:pt x="1747" y="6090"/>
                  <a:pt x="1770" y="6114"/>
                  <a:pt x="1736" y="6152"/>
                </a:cubicBezTo>
                <a:cubicBezTo>
                  <a:pt x="1700" y="6192"/>
                  <a:pt x="1690" y="6270"/>
                  <a:pt x="1662" y="6325"/>
                </a:cubicBezTo>
                <a:cubicBezTo>
                  <a:pt x="1606" y="6436"/>
                  <a:pt x="1589" y="6534"/>
                  <a:pt x="1563" y="6648"/>
                </a:cubicBezTo>
                <a:cubicBezTo>
                  <a:pt x="1543" y="6737"/>
                  <a:pt x="1501" y="6853"/>
                  <a:pt x="1513" y="6945"/>
                </a:cubicBezTo>
                <a:cubicBezTo>
                  <a:pt x="1525" y="7032"/>
                  <a:pt x="1542" y="7135"/>
                  <a:pt x="1563" y="7218"/>
                </a:cubicBezTo>
                <a:cubicBezTo>
                  <a:pt x="1582" y="7294"/>
                  <a:pt x="1609" y="7339"/>
                  <a:pt x="1662" y="7392"/>
                </a:cubicBezTo>
                <a:cubicBezTo>
                  <a:pt x="1715" y="7445"/>
                  <a:pt x="1703" y="7439"/>
                  <a:pt x="1761" y="7417"/>
                </a:cubicBezTo>
              </a:path>
              <a:path w="3523" h="2630">
                <a:moveTo>
                  <a:pt x="1935" y="6474"/>
                </a:moveTo>
                <a:cubicBezTo>
                  <a:pt x="1960" y="6540"/>
                  <a:pt x="1962" y="6608"/>
                  <a:pt x="1984" y="6672"/>
                </a:cubicBezTo>
                <a:cubicBezTo>
                  <a:pt x="2022" y="6785"/>
                  <a:pt x="2063" y="6909"/>
                  <a:pt x="2108" y="7020"/>
                </a:cubicBezTo>
                <a:cubicBezTo>
                  <a:pt x="2137" y="7092"/>
                  <a:pt x="2186" y="7158"/>
                  <a:pt x="2232" y="7218"/>
                </a:cubicBezTo>
                <a:cubicBezTo>
                  <a:pt x="2253" y="7245"/>
                  <a:pt x="2283" y="7269"/>
                  <a:pt x="2307" y="7293"/>
                </a:cubicBezTo>
                <a:cubicBezTo>
                  <a:pt x="2340" y="7249"/>
                  <a:pt x="2336" y="7200"/>
                  <a:pt x="2356" y="7144"/>
                </a:cubicBezTo>
              </a:path>
              <a:path w="3523" h="2630">
                <a:moveTo>
                  <a:pt x="2356" y="6499"/>
                </a:moveTo>
                <a:cubicBezTo>
                  <a:pt x="2273" y="6589"/>
                  <a:pt x="2202" y="6671"/>
                  <a:pt x="2133" y="6772"/>
                </a:cubicBezTo>
                <a:cubicBezTo>
                  <a:pt x="2073" y="6858"/>
                  <a:pt x="2040" y="6956"/>
                  <a:pt x="1984" y="7045"/>
                </a:cubicBezTo>
                <a:cubicBezTo>
                  <a:pt x="1943" y="7111"/>
                  <a:pt x="1905" y="7182"/>
                  <a:pt x="1860" y="7243"/>
                </a:cubicBezTo>
                <a:cubicBezTo>
                  <a:pt x="1841" y="7269"/>
                  <a:pt x="1804" y="7307"/>
                  <a:pt x="1860" y="7268"/>
                </a:cubicBezTo>
              </a:path>
              <a:path w="3523" h="2630">
                <a:moveTo>
                  <a:pt x="2679" y="6548"/>
                </a:moveTo>
                <a:cubicBezTo>
                  <a:pt x="2662" y="6681"/>
                  <a:pt x="2645" y="6813"/>
                  <a:pt x="2629" y="6945"/>
                </a:cubicBezTo>
                <a:cubicBezTo>
                  <a:pt x="2623" y="6997"/>
                  <a:pt x="2612" y="7130"/>
                  <a:pt x="2654" y="7144"/>
                </a:cubicBezTo>
                <a:cubicBezTo>
                  <a:pt x="2647" y="7114"/>
                  <a:pt x="2636" y="7099"/>
                  <a:pt x="2629" y="7069"/>
                </a:cubicBezTo>
              </a:path>
              <a:path w="3523" h="2630">
                <a:moveTo>
                  <a:pt x="2381" y="6821"/>
                </a:moveTo>
                <a:cubicBezTo>
                  <a:pt x="2410" y="6843"/>
                  <a:pt x="2467" y="6864"/>
                  <a:pt x="2505" y="6871"/>
                </a:cubicBezTo>
                <a:cubicBezTo>
                  <a:pt x="2578" y="6884"/>
                  <a:pt x="2659" y="6858"/>
                  <a:pt x="2729" y="6846"/>
                </a:cubicBezTo>
                <a:cubicBezTo>
                  <a:pt x="2837" y="6827"/>
                  <a:pt x="2906" y="6795"/>
                  <a:pt x="3001" y="6747"/>
                </a:cubicBezTo>
              </a:path>
              <a:path w="3523" h="2630">
                <a:moveTo>
                  <a:pt x="3076" y="6623"/>
                </a:moveTo>
                <a:cubicBezTo>
                  <a:pt x="3051" y="6688"/>
                  <a:pt x="3030" y="6751"/>
                  <a:pt x="3026" y="6821"/>
                </a:cubicBezTo>
                <a:cubicBezTo>
                  <a:pt x="3022" y="6901"/>
                  <a:pt x="3019" y="6973"/>
                  <a:pt x="3051" y="7045"/>
                </a:cubicBezTo>
                <a:cubicBezTo>
                  <a:pt x="3077" y="7103"/>
                  <a:pt x="3115" y="7145"/>
                  <a:pt x="3175" y="7169"/>
                </a:cubicBezTo>
                <a:cubicBezTo>
                  <a:pt x="3227" y="7190"/>
                  <a:pt x="3272" y="7188"/>
                  <a:pt x="3324" y="7169"/>
                </a:cubicBezTo>
                <a:cubicBezTo>
                  <a:pt x="3381" y="7149"/>
                  <a:pt x="3444" y="7071"/>
                  <a:pt x="3473" y="7020"/>
                </a:cubicBezTo>
                <a:cubicBezTo>
                  <a:pt x="3526" y="6928"/>
                  <a:pt x="3515" y="6847"/>
                  <a:pt x="3547" y="6747"/>
                </a:cubicBezTo>
                <a:cubicBezTo>
                  <a:pt x="3562" y="6700"/>
                  <a:pt x="3590" y="6652"/>
                  <a:pt x="3572" y="6598"/>
                </a:cubicBezTo>
                <a:cubicBezTo>
                  <a:pt x="3564" y="6598"/>
                  <a:pt x="3555" y="6598"/>
                  <a:pt x="3547" y="6598"/>
                </a:cubicBezTo>
                <a:cubicBezTo>
                  <a:pt x="3532" y="6642"/>
                  <a:pt x="3535" y="6674"/>
                  <a:pt x="3522" y="6722"/>
                </a:cubicBezTo>
                <a:cubicBezTo>
                  <a:pt x="3497" y="6818"/>
                  <a:pt x="3482" y="6919"/>
                  <a:pt x="3497" y="7020"/>
                </a:cubicBezTo>
                <a:cubicBezTo>
                  <a:pt x="3516" y="7148"/>
                  <a:pt x="3522" y="7261"/>
                  <a:pt x="3522" y="7392"/>
                </a:cubicBezTo>
                <a:cubicBezTo>
                  <a:pt x="3522" y="7529"/>
                  <a:pt x="3530" y="7644"/>
                  <a:pt x="3448" y="7764"/>
                </a:cubicBezTo>
                <a:cubicBezTo>
                  <a:pt x="3391" y="7847"/>
                  <a:pt x="3321" y="7922"/>
                  <a:pt x="3225" y="7962"/>
                </a:cubicBezTo>
                <a:cubicBezTo>
                  <a:pt x="3097" y="8015"/>
                  <a:pt x="2896" y="8001"/>
                  <a:pt x="2803" y="7888"/>
                </a:cubicBezTo>
                <a:cubicBezTo>
                  <a:pt x="2764" y="7810"/>
                  <a:pt x="2750" y="7762"/>
                  <a:pt x="2753" y="7689"/>
                </a:cubicBezTo>
              </a:path>
              <a:path w="3523" h="2630">
                <a:moveTo>
                  <a:pt x="3646" y="5705"/>
                </a:moveTo>
                <a:cubicBezTo>
                  <a:pt x="3743" y="5802"/>
                  <a:pt x="3807" y="5880"/>
                  <a:pt x="3870" y="6003"/>
                </a:cubicBezTo>
                <a:cubicBezTo>
                  <a:pt x="3964" y="6185"/>
                  <a:pt x="4031" y="6361"/>
                  <a:pt x="4018" y="6573"/>
                </a:cubicBezTo>
                <a:cubicBezTo>
                  <a:pt x="4010" y="6698"/>
                  <a:pt x="3957" y="6840"/>
                  <a:pt x="3894" y="6945"/>
                </a:cubicBezTo>
                <a:cubicBezTo>
                  <a:pt x="3839" y="7036"/>
                  <a:pt x="3790" y="7118"/>
                  <a:pt x="3696" y="7169"/>
                </a:cubicBezTo>
                <a:cubicBezTo>
                  <a:pt x="3648" y="7192"/>
                  <a:pt x="3633" y="7200"/>
                  <a:pt x="3597" y="7193"/>
                </a:cubicBezTo>
                <a:cubicBezTo>
                  <a:pt x="3568" y="7107"/>
                  <a:pt x="3621" y="7030"/>
                  <a:pt x="3671" y="6945"/>
                </a:cubicBezTo>
              </a:path>
              <a:path w="3523" h="2630">
                <a:moveTo>
                  <a:pt x="4192" y="5358"/>
                </a:moveTo>
                <a:cubicBezTo>
                  <a:pt x="4192" y="5502"/>
                  <a:pt x="4236" y="5745"/>
                  <a:pt x="4217" y="5879"/>
                </a:cubicBezTo>
                <a:cubicBezTo>
                  <a:pt x="4212" y="5914"/>
                  <a:pt x="4192" y="5956"/>
                  <a:pt x="4192" y="6003"/>
                </a:cubicBezTo>
                <a:cubicBezTo>
                  <a:pt x="4224" y="5961"/>
                  <a:pt x="4215" y="5924"/>
                  <a:pt x="4242" y="5879"/>
                </a:cubicBezTo>
              </a:path>
              <a:path w="3523" h="2630">
                <a:moveTo>
                  <a:pt x="4490" y="5383"/>
                </a:moveTo>
                <a:cubicBezTo>
                  <a:pt x="4618" y="5389"/>
                  <a:pt x="4705" y="5348"/>
                  <a:pt x="4713" y="5482"/>
                </a:cubicBezTo>
                <a:cubicBezTo>
                  <a:pt x="4717" y="5541"/>
                  <a:pt x="4712" y="5629"/>
                  <a:pt x="4688" y="5680"/>
                </a:cubicBezTo>
                <a:cubicBezTo>
                  <a:pt x="4660" y="5741"/>
                  <a:pt x="4562" y="5806"/>
                  <a:pt x="4514" y="5854"/>
                </a:cubicBezTo>
                <a:cubicBezTo>
                  <a:pt x="4575" y="5899"/>
                  <a:pt x="4594" y="5866"/>
                  <a:pt x="4663" y="5854"/>
                </a:cubicBezTo>
                <a:cubicBezTo>
                  <a:pt x="4753" y="5839"/>
                  <a:pt x="4849" y="5844"/>
                  <a:pt x="4936" y="5829"/>
                </a:cubicBezTo>
                <a:cubicBezTo>
                  <a:pt x="4990" y="5820"/>
                  <a:pt x="5039" y="5811"/>
                  <a:pt x="5011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09480" y="1523880"/>
          <a:ext cx="762012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62012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697280" y="857160"/>
            <a:ext cx="1330560" cy="571680"/>
          </a:xfrm>
          <a:custGeom>
            <a:avLst/>
            <a:gdLst/>
            <a:ahLst/>
            <a:rect l="l" t="t" r="r" b="b"/>
            <a:pathLst>
              <a:path w="3697" h="1589">
                <a:moveTo>
                  <a:pt x="13915" y="2877"/>
                </a:moveTo>
                <a:cubicBezTo>
                  <a:pt x="13915" y="2809"/>
                  <a:pt x="13918" y="2920"/>
                  <a:pt x="13915" y="2927"/>
                </a:cubicBezTo>
                <a:cubicBezTo>
                  <a:pt x="13887" y="2980"/>
                  <a:pt x="13901" y="3015"/>
                  <a:pt x="13891" y="3076"/>
                </a:cubicBezTo>
                <a:cubicBezTo>
                  <a:pt x="13876" y="3168"/>
                  <a:pt x="13856" y="3262"/>
                  <a:pt x="13841" y="3349"/>
                </a:cubicBezTo>
                <a:cubicBezTo>
                  <a:pt x="13834" y="3388"/>
                  <a:pt x="13841" y="3565"/>
                  <a:pt x="13841" y="3522"/>
                </a:cubicBezTo>
                <a:cubicBezTo>
                  <a:pt x="13841" y="3514"/>
                  <a:pt x="13841" y="3505"/>
                  <a:pt x="13841" y="3497"/>
                </a:cubicBezTo>
              </a:path>
              <a:path w="3697" h="1589">
                <a:moveTo>
                  <a:pt x="14213" y="2654"/>
                </a:moveTo>
                <a:cubicBezTo>
                  <a:pt x="14172" y="2596"/>
                  <a:pt x="14115" y="2480"/>
                  <a:pt x="14039" y="2456"/>
                </a:cubicBezTo>
                <a:cubicBezTo>
                  <a:pt x="13945" y="2426"/>
                  <a:pt x="13884" y="2445"/>
                  <a:pt x="13791" y="2456"/>
                </a:cubicBezTo>
                <a:cubicBezTo>
                  <a:pt x="13655" y="2472"/>
                  <a:pt x="13558" y="2553"/>
                  <a:pt x="13444" y="2629"/>
                </a:cubicBezTo>
                <a:cubicBezTo>
                  <a:pt x="13343" y="2697"/>
                  <a:pt x="13266" y="2802"/>
                  <a:pt x="13196" y="2902"/>
                </a:cubicBezTo>
                <a:cubicBezTo>
                  <a:pt x="13119" y="3012"/>
                  <a:pt x="13097" y="3126"/>
                  <a:pt x="13072" y="3249"/>
                </a:cubicBezTo>
                <a:cubicBezTo>
                  <a:pt x="13049" y="3362"/>
                  <a:pt x="13020" y="3485"/>
                  <a:pt x="13072" y="3597"/>
                </a:cubicBezTo>
                <a:cubicBezTo>
                  <a:pt x="13127" y="3715"/>
                  <a:pt x="13174" y="3763"/>
                  <a:pt x="13271" y="3845"/>
                </a:cubicBezTo>
                <a:cubicBezTo>
                  <a:pt x="13340" y="3904"/>
                  <a:pt x="13472" y="3972"/>
                  <a:pt x="13568" y="3969"/>
                </a:cubicBezTo>
                <a:cubicBezTo>
                  <a:pt x="13690" y="3965"/>
                  <a:pt x="13832" y="3924"/>
                  <a:pt x="13940" y="3870"/>
                </a:cubicBezTo>
                <a:cubicBezTo>
                  <a:pt x="14049" y="3816"/>
                  <a:pt x="14165" y="3717"/>
                  <a:pt x="14238" y="3621"/>
                </a:cubicBezTo>
                <a:cubicBezTo>
                  <a:pt x="14331" y="3500"/>
                  <a:pt x="14416" y="3355"/>
                  <a:pt x="14436" y="3200"/>
                </a:cubicBezTo>
                <a:cubicBezTo>
                  <a:pt x="14450" y="3090"/>
                  <a:pt x="14443" y="2980"/>
                  <a:pt x="14436" y="2877"/>
                </a:cubicBezTo>
                <a:cubicBezTo>
                  <a:pt x="14428" y="2767"/>
                  <a:pt x="14430" y="2686"/>
                  <a:pt x="14387" y="2580"/>
                </a:cubicBezTo>
                <a:cubicBezTo>
                  <a:pt x="14355" y="2501"/>
                  <a:pt x="14308" y="2453"/>
                  <a:pt x="14238" y="2406"/>
                </a:cubicBezTo>
                <a:cubicBezTo>
                  <a:pt x="14174" y="2363"/>
                  <a:pt x="14089" y="2381"/>
                  <a:pt x="14015" y="2381"/>
                </a:cubicBezTo>
                <a:cubicBezTo>
                  <a:pt x="13902" y="2381"/>
                  <a:pt x="13835" y="2420"/>
                  <a:pt x="13742" y="2480"/>
                </a:cubicBezTo>
                <a:cubicBezTo>
                  <a:pt x="13717" y="2497"/>
                  <a:pt x="13692" y="2513"/>
                  <a:pt x="13667" y="2530"/>
                </a:cubicBezTo>
              </a:path>
              <a:path w="3697" h="1589">
                <a:moveTo>
                  <a:pt x="14784" y="3076"/>
                </a:moveTo>
                <a:cubicBezTo>
                  <a:pt x="14756" y="3185"/>
                  <a:pt x="14779" y="3289"/>
                  <a:pt x="14759" y="3398"/>
                </a:cubicBezTo>
                <a:cubicBezTo>
                  <a:pt x="14743" y="3486"/>
                  <a:pt x="14734" y="3554"/>
                  <a:pt x="14734" y="3646"/>
                </a:cubicBezTo>
                <a:cubicBezTo>
                  <a:pt x="14734" y="3706"/>
                  <a:pt x="14741" y="3703"/>
                  <a:pt x="14709" y="3746"/>
                </a:cubicBezTo>
                <a:cubicBezTo>
                  <a:pt x="14709" y="3673"/>
                  <a:pt x="14688" y="3620"/>
                  <a:pt x="14684" y="3547"/>
                </a:cubicBezTo>
                <a:cubicBezTo>
                  <a:pt x="14678" y="3428"/>
                  <a:pt x="14690" y="3315"/>
                  <a:pt x="14709" y="3200"/>
                </a:cubicBezTo>
                <a:cubicBezTo>
                  <a:pt x="14728" y="3081"/>
                  <a:pt x="14734" y="2938"/>
                  <a:pt x="14833" y="2853"/>
                </a:cubicBezTo>
                <a:cubicBezTo>
                  <a:pt x="14880" y="2812"/>
                  <a:pt x="14971" y="2786"/>
                  <a:pt x="15032" y="2803"/>
                </a:cubicBezTo>
                <a:cubicBezTo>
                  <a:pt x="15132" y="2831"/>
                  <a:pt x="15173" y="2941"/>
                  <a:pt x="15205" y="3026"/>
                </a:cubicBezTo>
                <a:cubicBezTo>
                  <a:pt x="15241" y="3124"/>
                  <a:pt x="15251" y="3245"/>
                  <a:pt x="15255" y="3349"/>
                </a:cubicBezTo>
                <a:cubicBezTo>
                  <a:pt x="15258" y="3423"/>
                  <a:pt x="15261" y="3525"/>
                  <a:pt x="15280" y="3597"/>
                </a:cubicBezTo>
                <a:cubicBezTo>
                  <a:pt x="15293" y="3645"/>
                  <a:pt x="15304" y="3807"/>
                  <a:pt x="15304" y="3646"/>
                </a:cubicBezTo>
              </a:path>
              <a:path w="3697" h="1589">
                <a:moveTo>
                  <a:pt x="15825" y="2729"/>
                </a:moveTo>
                <a:cubicBezTo>
                  <a:pt x="15825" y="2858"/>
                  <a:pt x="15804" y="2974"/>
                  <a:pt x="15801" y="3101"/>
                </a:cubicBezTo>
                <a:cubicBezTo>
                  <a:pt x="15798" y="3219"/>
                  <a:pt x="15776" y="3329"/>
                  <a:pt x="15776" y="3448"/>
                </a:cubicBezTo>
                <a:cubicBezTo>
                  <a:pt x="15776" y="3525"/>
                  <a:pt x="15801" y="3594"/>
                  <a:pt x="15801" y="3671"/>
                </a:cubicBezTo>
                <a:cubicBezTo>
                  <a:pt x="15801" y="3714"/>
                  <a:pt x="15793" y="3730"/>
                  <a:pt x="15776" y="3696"/>
                </a:cubicBezTo>
                <a:cubicBezTo>
                  <a:pt x="15776" y="3661"/>
                  <a:pt x="15771" y="3643"/>
                  <a:pt x="15751" y="3621"/>
                </a:cubicBezTo>
              </a:path>
              <a:path w="3697" h="1589">
                <a:moveTo>
                  <a:pt x="15553" y="3274"/>
                </a:moveTo>
                <a:cubicBezTo>
                  <a:pt x="15655" y="3274"/>
                  <a:pt x="15728" y="3254"/>
                  <a:pt x="15825" y="3249"/>
                </a:cubicBezTo>
                <a:cubicBezTo>
                  <a:pt x="15916" y="3245"/>
                  <a:pt x="16007" y="3249"/>
                  <a:pt x="16098" y="3249"/>
                </a:cubicBezTo>
              </a:path>
              <a:path w="3697" h="1589">
                <a:moveTo>
                  <a:pt x="16743" y="2505"/>
                </a:moveTo>
                <a:cubicBezTo>
                  <a:pt x="16712" y="2620"/>
                  <a:pt x="16712" y="2715"/>
                  <a:pt x="16694" y="2828"/>
                </a:cubicBezTo>
                <a:cubicBezTo>
                  <a:pt x="16675" y="2951"/>
                  <a:pt x="16689" y="3079"/>
                  <a:pt x="16669" y="3200"/>
                </a:cubicBezTo>
                <a:cubicBezTo>
                  <a:pt x="16652" y="3302"/>
                  <a:pt x="16644" y="3391"/>
                  <a:pt x="16644" y="3497"/>
                </a:cubicBezTo>
                <a:cubicBezTo>
                  <a:pt x="16644" y="3536"/>
                  <a:pt x="16636" y="3637"/>
                  <a:pt x="16619" y="3671"/>
                </a:cubicBezTo>
                <a:cubicBezTo>
                  <a:pt x="16579" y="3750"/>
                  <a:pt x="16652" y="3575"/>
                  <a:pt x="16694" y="34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4760" y="911160"/>
            <a:ext cx="1027080" cy="473040"/>
          </a:xfrm>
          <a:custGeom>
            <a:avLst/>
            <a:gdLst/>
            <a:ahLst/>
            <a:rect l="l" t="t" r="r" b="b"/>
            <a:pathLst>
              <a:path w="2853" h="1316">
                <a:moveTo>
                  <a:pt x="17785" y="2530"/>
                </a:moveTo>
                <a:cubicBezTo>
                  <a:pt x="17778" y="2698"/>
                  <a:pt x="17749" y="2861"/>
                  <a:pt x="17735" y="3026"/>
                </a:cubicBezTo>
                <a:cubicBezTo>
                  <a:pt x="17718" y="3234"/>
                  <a:pt x="17756" y="3446"/>
                  <a:pt x="17711" y="3646"/>
                </a:cubicBezTo>
                <a:cubicBezTo>
                  <a:pt x="17699" y="3699"/>
                  <a:pt x="17676" y="3666"/>
                  <a:pt x="17661" y="3646"/>
                </a:cubicBezTo>
                <a:cubicBezTo>
                  <a:pt x="17653" y="3638"/>
                  <a:pt x="17644" y="3629"/>
                  <a:pt x="17636" y="3621"/>
                </a:cubicBezTo>
              </a:path>
              <a:path w="2853" h="1316">
                <a:moveTo>
                  <a:pt x="17289" y="3225"/>
                </a:moveTo>
                <a:cubicBezTo>
                  <a:pt x="17403" y="3225"/>
                  <a:pt x="17501" y="3205"/>
                  <a:pt x="17611" y="3200"/>
                </a:cubicBezTo>
                <a:cubicBezTo>
                  <a:pt x="17685" y="3197"/>
                  <a:pt x="17761" y="3200"/>
                  <a:pt x="17835" y="3200"/>
                </a:cubicBezTo>
              </a:path>
              <a:path w="2853" h="1316">
                <a:moveTo>
                  <a:pt x="18231" y="3349"/>
                </a:moveTo>
                <a:cubicBezTo>
                  <a:pt x="18301" y="3349"/>
                  <a:pt x="18348" y="3345"/>
                  <a:pt x="18405" y="3299"/>
                </a:cubicBezTo>
                <a:cubicBezTo>
                  <a:pt x="18457" y="3256"/>
                  <a:pt x="18486" y="3236"/>
                  <a:pt x="18504" y="3175"/>
                </a:cubicBezTo>
                <a:cubicBezTo>
                  <a:pt x="18518" y="3130"/>
                  <a:pt x="18495" y="3046"/>
                  <a:pt x="18430" y="3051"/>
                </a:cubicBezTo>
                <a:cubicBezTo>
                  <a:pt x="18367" y="3056"/>
                  <a:pt x="18322" y="3104"/>
                  <a:pt x="18281" y="3150"/>
                </a:cubicBezTo>
                <a:cubicBezTo>
                  <a:pt x="18220" y="3219"/>
                  <a:pt x="18148" y="3275"/>
                  <a:pt x="18132" y="3373"/>
                </a:cubicBezTo>
                <a:cubicBezTo>
                  <a:pt x="18116" y="3468"/>
                  <a:pt x="18106" y="3531"/>
                  <a:pt x="18157" y="3621"/>
                </a:cubicBezTo>
                <a:cubicBezTo>
                  <a:pt x="18187" y="3673"/>
                  <a:pt x="18279" y="3686"/>
                  <a:pt x="18331" y="3671"/>
                </a:cubicBezTo>
                <a:cubicBezTo>
                  <a:pt x="18391" y="3654"/>
                  <a:pt x="18457" y="3610"/>
                  <a:pt x="18504" y="3572"/>
                </a:cubicBezTo>
              </a:path>
              <a:path w="2853" h="1316">
                <a:moveTo>
                  <a:pt x="18628" y="3398"/>
                </a:moveTo>
                <a:cubicBezTo>
                  <a:pt x="18628" y="3489"/>
                  <a:pt x="18628" y="3580"/>
                  <a:pt x="18628" y="3671"/>
                </a:cubicBezTo>
                <a:cubicBezTo>
                  <a:pt x="18646" y="3653"/>
                  <a:pt x="18628" y="3604"/>
                  <a:pt x="18628" y="3547"/>
                </a:cubicBezTo>
                <a:cubicBezTo>
                  <a:pt x="18628" y="3451"/>
                  <a:pt x="18640" y="3388"/>
                  <a:pt x="18678" y="3299"/>
                </a:cubicBezTo>
                <a:cubicBezTo>
                  <a:pt x="18709" y="3228"/>
                  <a:pt x="18735" y="3140"/>
                  <a:pt x="18777" y="3076"/>
                </a:cubicBezTo>
                <a:cubicBezTo>
                  <a:pt x="18806" y="3031"/>
                  <a:pt x="18854" y="3026"/>
                  <a:pt x="18901" y="3026"/>
                </a:cubicBezTo>
              </a:path>
              <a:path w="2853" h="1316">
                <a:moveTo>
                  <a:pt x="19000" y="3299"/>
                </a:moveTo>
                <a:cubicBezTo>
                  <a:pt x="19000" y="3399"/>
                  <a:pt x="19001" y="3486"/>
                  <a:pt x="18976" y="3572"/>
                </a:cubicBezTo>
                <a:cubicBezTo>
                  <a:pt x="18976" y="3580"/>
                  <a:pt x="18976" y="3589"/>
                  <a:pt x="18976" y="3597"/>
                </a:cubicBezTo>
                <a:cubicBezTo>
                  <a:pt x="18988" y="3535"/>
                  <a:pt x="19000" y="3489"/>
                  <a:pt x="19000" y="3423"/>
                </a:cubicBezTo>
                <a:cubicBezTo>
                  <a:pt x="19000" y="3305"/>
                  <a:pt x="19004" y="3240"/>
                  <a:pt x="19100" y="3150"/>
                </a:cubicBezTo>
                <a:cubicBezTo>
                  <a:pt x="19144" y="3109"/>
                  <a:pt x="19196" y="3182"/>
                  <a:pt x="19224" y="3200"/>
                </a:cubicBezTo>
                <a:cubicBezTo>
                  <a:pt x="19301" y="3250"/>
                  <a:pt x="19309" y="3314"/>
                  <a:pt x="19348" y="3398"/>
                </a:cubicBezTo>
                <a:cubicBezTo>
                  <a:pt x="19376" y="3459"/>
                  <a:pt x="19372" y="3506"/>
                  <a:pt x="19372" y="3572"/>
                </a:cubicBezTo>
                <a:cubicBezTo>
                  <a:pt x="19372" y="3631"/>
                  <a:pt x="19362" y="3631"/>
                  <a:pt x="19323" y="3671"/>
                </a:cubicBezTo>
                <a:cubicBezTo>
                  <a:pt x="19299" y="3640"/>
                  <a:pt x="19289" y="3615"/>
                  <a:pt x="19298" y="3572"/>
                </a:cubicBezTo>
                <a:cubicBezTo>
                  <a:pt x="19318" y="3477"/>
                  <a:pt x="19329" y="3410"/>
                  <a:pt x="19372" y="3324"/>
                </a:cubicBezTo>
                <a:cubicBezTo>
                  <a:pt x="19400" y="3268"/>
                  <a:pt x="19454" y="3191"/>
                  <a:pt x="19521" y="3175"/>
                </a:cubicBezTo>
                <a:cubicBezTo>
                  <a:pt x="19581" y="3161"/>
                  <a:pt x="19628" y="3186"/>
                  <a:pt x="19670" y="3225"/>
                </a:cubicBezTo>
                <a:cubicBezTo>
                  <a:pt x="19734" y="3284"/>
                  <a:pt x="19764" y="3363"/>
                  <a:pt x="19769" y="3448"/>
                </a:cubicBezTo>
                <a:cubicBezTo>
                  <a:pt x="19772" y="3507"/>
                  <a:pt x="19794" y="3534"/>
                  <a:pt x="19794" y="3597"/>
                </a:cubicBezTo>
                <a:cubicBezTo>
                  <a:pt x="19794" y="3621"/>
                  <a:pt x="19794" y="3629"/>
                  <a:pt x="19794" y="3597"/>
                </a:cubicBezTo>
              </a:path>
              <a:path w="2853" h="1316">
                <a:moveTo>
                  <a:pt x="20141" y="3076"/>
                </a:moveTo>
                <a:cubicBezTo>
                  <a:pt x="20074" y="3101"/>
                  <a:pt x="20005" y="3107"/>
                  <a:pt x="19943" y="3150"/>
                </a:cubicBezTo>
                <a:cubicBezTo>
                  <a:pt x="19869" y="3201"/>
                  <a:pt x="19957" y="3296"/>
                  <a:pt x="19968" y="3349"/>
                </a:cubicBezTo>
                <a:cubicBezTo>
                  <a:pt x="19988" y="3445"/>
                  <a:pt x="19983" y="3505"/>
                  <a:pt x="19968" y="3597"/>
                </a:cubicBezTo>
                <a:cubicBezTo>
                  <a:pt x="19952" y="3695"/>
                  <a:pt x="19898" y="3698"/>
                  <a:pt x="19819" y="3746"/>
                </a:cubicBezTo>
                <a:cubicBezTo>
                  <a:pt x="19718" y="3807"/>
                  <a:pt x="19637" y="3820"/>
                  <a:pt x="19521" y="38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41920" y="1374840"/>
            <a:ext cx="3830760" cy="689040"/>
          </a:xfrm>
          <a:custGeom>
            <a:avLst/>
            <a:gdLst/>
            <a:ahLst/>
            <a:rect l="l" t="t" r="r" b="b"/>
            <a:pathLst>
              <a:path w="10642" h="1911">
                <a:moveTo>
                  <a:pt x="13593" y="4564"/>
                </a:moveTo>
                <a:cubicBezTo>
                  <a:pt x="13570" y="4587"/>
                  <a:pt x="13562" y="4591"/>
                  <a:pt x="13568" y="4614"/>
                </a:cubicBezTo>
                <a:cubicBezTo>
                  <a:pt x="13568" y="4578"/>
                  <a:pt x="13575" y="4540"/>
                  <a:pt x="13593" y="4514"/>
                </a:cubicBezTo>
                <a:cubicBezTo>
                  <a:pt x="13625" y="4468"/>
                  <a:pt x="13687" y="4408"/>
                  <a:pt x="13742" y="4390"/>
                </a:cubicBezTo>
                <a:cubicBezTo>
                  <a:pt x="13794" y="4373"/>
                  <a:pt x="13897" y="4388"/>
                  <a:pt x="13940" y="4415"/>
                </a:cubicBezTo>
                <a:cubicBezTo>
                  <a:pt x="13988" y="4445"/>
                  <a:pt x="14054" y="4607"/>
                  <a:pt x="14064" y="4663"/>
                </a:cubicBezTo>
                <a:cubicBezTo>
                  <a:pt x="14085" y="4775"/>
                  <a:pt x="14097" y="4876"/>
                  <a:pt x="14064" y="4986"/>
                </a:cubicBezTo>
                <a:cubicBezTo>
                  <a:pt x="14038" y="5073"/>
                  <a:pt x="14015" y="5182"/>
                  <a:pt x="13965" y="5259"/>
                </a:cubicBezTo>
                <a:cubicBezTo>
                  <a:pt x="13924" y="5321"/>
                  <a:pt x="13860" y="5377"/>
                  <a:pt x="13791" y="5383"/>
                </a:cubicBezTo>
                <a:cubicBezTo>
                  <a:pt x="13752" y="5386"/>
                  <a:pt x="13686" y="5310"/>
                  <a:pt x="13667" y="5283"/>
                </a:cubicBezTo>
                <a:cubicBezTo>
                  <a:pt x="13620" y="5217"/>
                  <a:pt x="13647" y="5145"/>
                  <a:pt x="13692" y="5085"/>
                </a:cubicBezTo>
                <a:cubicBezTo>
                  <a:pt x="13727" y="5038"/>
                  <a:pt x="13788" y="5014"/>
                  <a:pt x="13841" y="5011"/>
                </a:cubicBezTo>
                <a:cubicBezTo>
                  <a:pt x="13895" y="5008"/>
                  <a:pt x="14001" y="5043"/>
                  <a:pt x="14039" y="5085"/>
                </a:cubicBezTo>
                <a:cubicBezTo>
                  <a:pt x="14065" y="5114"/>
                  <a:pt x="14110" y="5198"/>
                  <a:pt x="14114" y="5234"/>
                </a:cubicBezTo>
                <a:cubicBezTo>
                  <a:pt x="14120" y="5289"/>
                  <a:pt x="14090" y="5391"/>
                  <a:pt x="14139" y="5407"/>
                </a:cubicBezTo>
              </a:path>
              <a:path w="10642" h="1911">
                <a:moveTo>
                  <a:pt x="14015" y="4093"/>
                </a:moveTo>
                <a:cubicBezTo>
                  <a:pt x="13860" y="4093"/>
                  <a:pt x="13776" y="4093"/>
                  <a:pt x="13643" y="4167"/>
                </a:cubicBezTo>
                <a:cubicBezTo>
                  <a:pt x="13552" y="4218"/>
                  <a:pt x="13429" y="4308"/>
                  <a:pt x="13370" y="4390"/>
                </a:cubicBezTo>
                <a:cubicBezTo>
                  <a:pt x="13295" y="4493"/>
                  <a:pt x="13254" y="4617"/>
                  <a:pt x="13221" y="4738"/>
                </a:cubicBezTo>
                <a:cubicBezTo>
                  <a:pt x="13189" y="4853"/>
                  <a:pt x="13158" y="5016"/>
                  <a:pt x="13171" y="5135"/>
                </a:cubicBezTo>
                <a:cubicBezTo>
                  <a:pt x="13182" y="5236"/>
                  <a:pt x="13226" y="5391"/>
                  <a:pt x="13271" y="5482"/>
                </a:cubicBezTo>
                <a:cubicBezTo>
                  <a:pt x="13331" y="5603"/>
                  <a:pt x="13492" y="5702"/>
                  <a:pt x="13618" y="5730"/>
                </a:cubicBezTo>
                <a:cubicBezTo>
                  <a:pt x="13743" y="5757"/>
                  <a:pt x="13835" y="5716"/>
                  <a:pt x="13940" y="5680"/>
                </a:cubicBezTo>
                <a:cubicBezTo>
                  <a:pt x="14163" y="5603"/>
                  <a:pt x="14282" y="5482"/>
                  <a:pt x="14436" y="5283"/>
                </a:cubicBezTo>
                <a:cubicBezTo>
                  <a:pt x="14517" y="5179"/>
                  <a:pt x="14579" y="5013"/>
                  <a:pt x="14610" y="4887"/>
                </a:cubicBezTo>
                <a:cubicBezTo>
                  <a:pt x="14645" y="4744"/>
                  <a:pt x="14674" y="4632"/>
                  <a:pt x="14610" y="4490"/>
                </a:cubicBezTo>
                <a:cubicBezTo>
                  <a:pt x="14569" y="4399"/>
                  <a:pt x="14452" y="4281"/>
                  <a:pt x="14362" y="4242"/>
                </a:cubicBezTo>
                <a:cubicBezTo>
                  <a:pt x="14285" y="4208"/>
                  <a:pt x="14100" y="4158"/>
                  <a:pt x="14015" y="4192"/>
                </a:cubicBezTo>
                <a:cubicBezTo>
                  <a:pt x="13974" y="4217"/>
                  <a:pt x="13932" y="4241"/>
                  <a:pt x="13891" y="4266"/>
                </a:cubicBezTo>
              </a:path>
              <a:path w="10642" h="1911">
                <a:moveTo>
                  <a:pt x="15032" y="5035"/>
                </a:moveTo>
                <a:cubicBezTo>
                  <a:pt x="15032" y="5192"/>
                  <a:pt x="15032" y="5614"/>
                  <a:pt x="15032" y="5457"/>
                </a:cubicBezTo>
                <a:cubicBezTo>
                  <a:pt x="15032" y="5263"/>
                  <a:pt x="14991" y="5019"/>
                  <a:pt x="15056" y="4837"/>
                </a:cubicBezTo>
                <a:cubicBezTo>
                  <a:pt x="15083" y="4763"/>
                  <a:pt x="15128" y="4691"/>
                  <a:pt x="15205" y="4663"/>
                </a:cubicBezTo>
                <a:cubicBezTo>
                  <a:pt x="15321" y="4621"/>
                  <a:pt x="15376" y="4629"/>
                  <a:pt x="15453" y="4688"/>
                </a:cubicBezTo>
                <a:cubicBezTo>
                  <a:pt x="15556" y="4767"/>
                  <a:pt x="15577" y="4795"/>
                  <a:pt x="15627" y="4911"/>
                </a:cubicBezTo>
                <a:cubicBezTo>
                  <a:pt x="15657" y="4980"/>
                  <a:pt x="15671" y="5060"/>
                  <a:pt x="15677" y="5135"/>
                </a:cubicBezTo>
                <a:cubicBezTo>
                  <a:pt x="15681" y="5180"/>
                  <a:pt x="15701" y="5212"/>
                  <a:pt x="15701" y="5259"/>
                </a:cubicBezTo>
                <a:cubicBezTo>
                  <a:pt x="15701" y="5283"/>
                  <a:pt x="15701" y="5291"/>
                  <a:pt x="15726" y="5283"/>
                </a:cubicBezTo>
              </a:path>
              <a:path w="10642" h="1911">
                <a:moveTo>
                  <a:pt x="16148" y="4887"/>
                </a:moveTo>
                <a:cubicBezTo>
                  <a:pt x="16148" y="5032"/>
                  <a:pt x="16155" y="5171"/>
                  <a:pt x="16123" y="5308"/>
                </a:cubicBezTo>
                <a:cubicBezTo>
                  <a:pt x="16112" y="5357"/>
                  <a:pt x="16123" y="5368"/>
                  <a:pt x="16123" y="5308"/>
                </a:cubicBezTo>
              </a:path>
              <a:path w="10642" h="1911">
                <a:moveTo>
                  <a:pt x="16073" y="4465"/>
                </a:moveTo>
                <a:lnTo>
                  <a:pt x="16073" y="4465"/>
                </a:lnTo>
              </a:path>
              <a:path w="10642" h="1911">
                <a:moveTo>
                  <a:pt x="16470" y="4638"/>
                </a:moveTo>
                <a:cubicBezTo>
                  <a:pt x="16426" y="4727"/>
                  <a:pt x="16377" y="4740"/>
                  <a:pt x="16321" y="4812"/>
                </a:cubicBezTo>
                <a:cubicBezTo>
                  <a:pt x="16297" y="4842"/>
                  <a:pt x="16222" y="4916"/>
                  <a:pt x="16247" y="4961"/>
                </a:cubicBezTo>
                <a:cubicBezTo>
                  <a:pt x="16283" y="5027"/>
                  <a:pt x="16392" y="5024"/>
                  <a:pt x="16446" y="5060"/>
                </a:cubicBezTo>
                <a:cubicBezTo>
                  <a:pt x="16501" y="5097"/>
                  <a:pt x="16602" y="5162"/>
                  <a:pt x="16619" y="5234"/>
                </a:cubicBezTo>
                <a:cubicBezTo>
                  <a:pt x="16633" y="5293"/>
                  <a:pt x="16545" y="5382"/>
                  <a:pt x="16495" y="5407"/>
                </a:cubicBezTo>
                <a:cubicBezTo>
                  <a:pt x="16472" y="5418"/>
                  <a:pt x="16447" y="5425"/>
                  <a:pt x="16421" y="5432"/>
                </a:cubicBezTo>
                <a:cubicBezTo>
                  <a:pt x="16421" y="5384"/>
                  <a:pt x="16424" y="5383"/>
                  <a:pt x="16446" y="5333"/>
                </a:cubicBezTo>
              </a:path>
              <a:path w="10642" h="1911">
                <a:moveTo>
                  <a:pt x="17190" y="4589"/>
                </a:moveTo>
                <a:cubicBezTo>
                  <a:pt x="17190" y="4744"/>
                  <a:pt x="17222" y="4858"/>
                  <a:pt x="17239" y="5011"/>
                </a:cubicBezTo>
                <a:cubicBezTo>
                  <a:pt x="17248" y="5088"/>
                  <a:pt x="17269" y="5118"/>
                  <a:pt x="17289" y="5184"/>
                </a:cubicBezTo>
                <a:cubicBezTo>
                  <a:pt x="17289" y="5209"/>
                  <a:pt x="17289" y="5217"/>
                  <a:pt x="17289" y="5234"/>
                </a:cubicBezTo>
              </a:path>
              <a:path w="10642" h="1911">
                <a:moveTo>
                  <a:pt x="16867" y="5060"/>
                </a:moveTo>
                <a:cubicBezTo>
                  <a:pt x="16997" y="5034"/>
                  <a:pt x="17069" y="5003"/>
                  <a:pt x="17190" y="4961"/>
                </a:cubicBezTo>
                <a:cubicBezTo>
                  <a:pt x="17294" y="4925"/>
                  <a:pt x="17377" y="4903"/>
                  <a:pt x="17462" y="4837"/>
                </a:cubicBezTo>
              </a:path>
              <a:path w="10642" h="1911">
                <a:moveTo>
                  <a:pt x="17512" y="4539"/>
                </a:moveTo>
                <a:cubicBezTo>
                  <a:pt x="17533" y="4685"/>
                  <a:pt x="17582" y="4840"/>
                  <a:pt x="17587" y="4986"/>
                </a:cubicBezTo>
                <a:cubicBezTo>
                  <a:pt x="17590" y="5077"/>
                  <a:pt x="17587" y="5168"/>
                  <a:pt x="17587" y="5259"/>
                </a:cubicBezTo>
                <a:cubicBezTo>
                  <a:pt x="17554" y="5248"/>
                  <a:pt x="17547" y="5205"/>
                  <a:pt x="17562" y="5159"/>
                </a:cubicBezTo>
                <a:cubicBezTo>
                  <a:pt x="17594" y="5065"/>
                  <a:pt x="17590" y="5013"/>
                  <a:pt x="17661" y="4936"/>
                </a:cubicBezTo>
                <a:cubicBezTo>
                  <a:pt x="17702" y="4891"/>
                  <a:pt x="17739" y="4871"/>
                  <a:pt x="17785" y="4911"/>
                </a:cubicBezTo>
                <a:cubicBezTo>
                  <a:pt x="17855" y="4972"/>
                  <a:pt x="17822" y="5030"/>
                  <a:pt x="17835" y="5110"/>
                </a:cubicBezTo>
                <a:cubicBezTo>
                  <a:pt x="17850" y="5204"/>
                  <a:pt x="17862" y="5277"/>
                  <a:pt x="17959" y="5283"/>
                </a:cubicBezTo>
                <a:cubicBezTo>
                  <a:pt x="18033" y="5287"/>
                  <a:pt x="18081" y="5223"/>
                  <a:pt x="18107" y="5159"/>
                </a:cubicBezTo>
                <a:cubicBezTo>
                  <a:pt x="18128" y="5107"/>
                  <a:pt x="18154" y="4993"/>
                  <a:pt x="18132" y="4936"/>
                </a:cubicBezTo>
                <a:cubicBezTo>
                  <a:pt x="18107" y="4911"/>
                  <a:pt x="18099" y="4903"/>
                  <a:pt x="18083" y="4887"/>
                </a:cubicBezTo>
                <a:cubicBezTo>
                  <a:pt x="18047" y="4922"/>
                  <a:pt x="17995" y="4959"/>
                  <a:pt x="17983" y="5011"/>
                </a:cubicBezTo>
                <a:cubicBezTo>
                  <a:pt x="17966" y="5082"/>
                  <a:pt x="17979" y="5170"/>
                  <a:pt x="18008" y="5234"/>
                </a:cubicBezTo>
                <a:cubicBezTo>
                  <a:pt x="18057" y="5343"/>
                  <a:pt x="18209" y="5308"/>
                  <a:pt x="18306" y="5308"/>
                </a:cubicBezTo>
              </a:path>
              <a:path w="10642" h="1911">
                <a:moveTo>
                  <a:pt x="19050" y="4390"/>
                </a:moveTo>
                <a:cubicBezTo>
                  <a:pt x="19009" y="4594"/>
                  <a:pt x="18976" y="4779"/>
                  <a:pt x="18976" y="4986"/>
                </a:cubicBezTo>
                <a:cubicBezTo>
                  <a:pt x="18976" y="5038"/>
                  <a:pt x="19004" y="5252"/>
                  <a:pt x="18951" y="5259"/>
                </a:cubicBezTo>
                <a:cubicBezTo>
                  <a:pt x="18916" y="5259"/>
                  <a:pt x="18903" y="5250"/>
                  <a:pt x="18901" y="5209"/>
                </a:cubicBezTo>
              </a:path>
              <a:path w="10642" h="1911">
                <a:moveTo>
                  <a:pt x="18628" y="4911"/>
                </a:moveTo>
                <a:cubicBezTo>
                  <a:pt x="18728" y="4906"/>
                  <a:pt x="18874" y="4865"/>
                  <a:pt x="18976" y="4887"/>
                </a:cubicBezTo>
                <a:cubicBezTo>
                  <a:pt x="19072" y="4908"/>
                  <a:pt x="19143" y="5014"/>
                  <a:pt x="19149" y="5110"/>
                </a:cubicBezTo>
                <a:cubicBezTo>
                  <a:pt x="19153" y="5171"/>
                  <a:pt x="19124" y="5265"/>
                  <a:pt x="19124" y="5333"/>
                </a:cubicBezTo>
                <a:cubicBezTo>
                  <a:pt x="19124" y="5392"/>
                  <a:pt x="19162" y="5401"/>
                  <a:pt x="19199" y="5383"/>
                </a:cubicBezTo>
                <a:cubicBezTo>
                  <a:pt x="19283" y="5341"/>
                  <a:pt x="19321" y="5312"/>
                  <a:pt x="19372" y="5234"/>
                </a:cubicBezTo>
                <a:cubicBezTo>
                  <a:pt x="19425" y="5153"/>
                  <a:pt x="19450" y="5078"/>
                  <a:pt x="19397" y="4986"/>
                </a:cubicBezTo>
                <a:cubicBezTo>
                  <a:pt x="19374" y="4946"/>
                  <a:pt x="19267" y="4939"/>
                  <a:pt x="19224" y="4936"/>
                </a:cubicBezTo>
                <a:cubicBezTo>
                  <a:pt x="19179" y="4933"/>
                  <a:pt x="19168" y="4957"/>
                  <a:pt x="19199" y="4911"/>
                </a:cubicBezTo>
              </a:path>
              <a:path w="10642" h="1911">
                <a:moveTo>
                  <a:pt x="19769" y="4490"/>
                </a:moveTo>
                <a:cubicBezTo>
                  <a:pt x="19769" y="4642"/>
                  <a:pt x="19788" y="4785"/>
                  <a:pt x="19794" y="4936"/>
                </a:cubicBezTo>
                <a:cubicBezTo>
                  <a:pt x="19797" y="5003"/>
                  <a:pt x="19838" y="5046"/>
                  <a:pt x="19844" y="5110"/>
                </a:cubicBezTo>
                <a:cubicBezTo>
                  <a:pt x="19849" y="5162"/>
                  <a:pt x="19842" y="5159"/>
                  <a:pt x="19794" y="5159"/>
                </a:cubicBezTo>
              </a:path>
              <a:path w="10642" h="1911">
                <a:moveTo>
                  <a:pt x="19472" y="4936"/>
                </a:moveTo>
                <a:cubicBezTo>
                  <a:pt x="19582" y="4896"/>
                  <a:pt x="19682" y="4860"/>
                  <a:pt x="19794" y="4837"/>
                </a:cubicBezTo>
                <a:cubicBezTo>
                  <a:pt x="19884" y="4818"/>
                  <a:pt x="19951" y="4812"/>
                  <a:pt x="20042" y="4812"/>
                </a:cubicBezTo>
                <a:cubicBezTo>
                  <a:pt x="20050" y="4812"/>
                  <a:pt x="20059" y="4812"/>
                  <a:pt x="20067" y="4812"/>
                </a:cubicBezTo>
                <a:cubicBezTo>
                  <a:pt x="20085" y="4847"/>
                  <a:pt x="20078" y="4911"/>
                  <a:pt x="20042" y="4961"/>
                </a:cubicBezTo>
                <a:cubicBezTo>
                  <a:pt x="19989" y="5035"/>
                  <a:pt x="19972" y="5043"/>
                  <a:pt x="19968" y="5135"/>
                </a:cubicBezTo>
                <a:cubicBezTo>
                  <a:pt x="19968" y="5159"/>
                  <a:pt x="19968" y="5168"/>
                  <a:pt x="19968" y="5184"/>
                </a:cubicBezTo>
                <a:cubicBezTo>
                  <a:pt x="20020" y="5176"/>
                  <a:pt x="20026" y="5175"/>
                  <a:pt x="20067" y="5135"/>
                </a:cubicBezTo>
                <a:cubicBezTo>
                  <a:pt x="20102" y="5100"/>
                  <a:pt x="20121" y="5072"/>
                  <a:pt x="20141" y="5035"/>
                </a:cubicBezTo>
                <a:cubicBezTo>
                  <a:pt x="20141" y="5011"/>
                  <a:pt x="20141" y="5003"/>
                  <a:pt x="20141" y="5035"/>
                </a:cubicBezTo>
                <a:cubicBezTo>
                  <a:pt x="20174" y="5076"/>
                  <a:pt x="20174" y="5085"/>
                  <a:pt x="20216" y="5110"/>
                </a:cubicBezTo>
                <a:cubicBezTo>
                  <a:pt x="20288" y="5153"/>
                  <a:pt x="20364" y="5139"/>
                  <a:pt x="20439" y="5110"/>
                </a:cubicBezTo>
                <a:cubicBezTo>
                  <a:pt x="20557" y="5065"/>
                  <a:pt x="20667" y="4976"/>
                  <a:pt x="20712" y="4862"/>
                </a:cubicBezTo>
                <a:cubicBezTo>
                  <a:pt x="20748" y="4770"/>
                  <a:pt x="20756" y="4685"/>
                  <a:pt x="20762" y="4589"/>
                </a:cubicBezTo>
              </a:path>
              <a:path w="10642" h="1911">
                <a:moveTo>
                  <a:pt x="20563" y="4291"/>
                </a:moveTo>
                <a:cubicBezTo>
                  <a:pt x="20468" y="4386"/>
                  <a:pt x="20489" y="4423"/>
                  <a:pt x="20489" y="4564"/>
                </a:cubicBezTo>
                <a:cubicBezTo>
                  <a:pt x="20489" y="4689"/>
                  <a:pt x="20519" y="4766"/>
                  <a:pt x="20588" y="4862"/>
                </a:cubicBezTo>
                <a:cubicBezTo>
                  <a:pt x="20643" y="4939"/>
                  <a:pt x="20711" y="5008"/>
                  <a:pt x="20762" y="5085"/>
                </a:cubicBezTo>
                <a:cubicBezTo>
                  <a:pt x="20798" y="5139"/>
                  <a:pt x="20796" y="5147"/>
                  <a:pt x="20861" y="5159"/>
                </a:cubicBezTo>
              </a:path>
              <a:path w="10642" h="1911">
                <a:moveTo>
                  <a:pt x="21258" y="4936"/>
                </a:moveTo>
                <a:cubicBezTo>
                  <a:pt x="21349" y="4927"/>
                  <a:pt x="21355" y="4907"/>
                  <a:pt x="21431" y="4862"/>
                </a:cubicBezTo>
                <a:cubicBezTo>
                  <a:pt x="21477" y="4834"/>
                  <a:pt x="21540" y="4794"/>
                  <a:pt x="21555" y="4738"/>
                </a:cubicBezTo>
                <a:cubicBezTo>
                  <a:pt x="21555" y="4693"/>
                  <a:pt x="21558" y="4680"/>
                  <a:pt x="21530" y="4663"/>
                </a:cubicBezTo>
              </a:path>
              <a:path w="10642" h="1911">
                <a:moveTo>
                  <a:pt x="21282" y="4738"/>
                </a:moveTo>
                <a:cubicBezTo>
                  <a:pt x="21241" y="4820"/>
                  <a:pt x="21145" y="4954"/>
                  <a:pt x="21183" y="5060"/>
                </a:cubicBezTo>
                <a:cubicBezTo>
                  <a:pt x="21196" y="5096"/>
                  <a:pt x="21327" y="5138"/>
                  <a:pt x="21357" y="5135"/>
                </a:cubicBezTo>
                <a:cubicBezTo>
                  <a:pt x="21432" y="5127"/>
                  <a:pt x="21545" y="5045"/>
                  <a:pt x="21580" y="4986"/>
                </a:cubicBezTo>
                <a:cubicBezTo>
                  <a:pt x="21604" y="4938"/>
                  <a:pt x="21612" y="4924"/>
                  <a:pt x="21605" y="4887"/>
                </a:cubicBezTo>
              </a:path>
              <a:path w="10642" h="1911">
                <a:moveTo>
                  <a:pt x="21605" y="4787"/>
                </a:moveTo>
                <a:cubicBezTo>
                  <a:pt x="21676" y="4852"/>
                  <a:pt x="21744" y="4914"/>
                  <a:pt x="21828" y="4961"/>
                </a:cubicBezTo>
                <a:cubicBezTo>
                  <a:pt x="21874" y="4986"/>
                  <a:pt x="21975" y="5006"/>
                  <a:pt x="22027" y="4986"/>
                </a:cubicBezTo>
                <a:cubicBezTo>
                  <a:pt x="22049" y="4977"/>
                  <a:pt x="22084" y="4928"/>
                  <a:pt x="22101" y="4911"/>
                </a:cubicBezTo>
              </a:path>
              <a:path w="10642" h="1911">
                <a:moveTo>
                  <a:pt x="21779" y="4787"/>
                </a:moveTo>
                <a:cubicBezTo>
                  <a:pt x="21728" y="4884"/>
                  <a:pt x="21623" y="5025"/>
                  <a:pt x="21605" y="5135"/>
                </a:cubicBezTo>
                <a:cubicBezTo>
                  <a:pt x="21597" y="5182"/>
                  <a:pt x="21668" y="5141"/>
                  <a:pt x="21704" y="5110"/>
                </a:cubicBezTo>
              </a:path>
              <a:path w="10642" h="1911">
                <a:moveTo>
                  <a:pt x="22101" y="4812"/>
                </a:moveTo>
                <a:cubicBezTo>
                  <a:pt x="22082" y="4941"/>
                  <a:pt x="22076" y="5054"/>
                  <a:pt x="22076" y="5184"/>
                </a:cubicBezTo>
                <a:cubicBezTo>
                  <a:pt x="22076" y="5214"/>
                  <a:pt x="22076" y="5437"/>
                  <a:pt x="22076" y="5308"/>
                </a:cubicBezTo>
                <a:cubicBezTo>
                  <a:pt x="22076" y="5259"/>
                  <a:pt x="22076" y="5242"/>
                  <a:pt x="22076" y="5209"/>
                </a:cubicBezTo>
              </a:path>
              <a:path w="10642" h="1911">
                <a:moveTo>
                  <a:pt x="22151" y="4564"/>
                </a:moveTo>
                <a:cubicBezTo>
                  <a:pt x="22314" y="4690"/>
                  <a:pt x="22349" y="4665"/>
                  <a:pt x="22349" y="4837"/>
                </a:cubicBezTo>
                <a:cubicBezTo>
                  <a:pt x="22349" y="4921"/>
                  <a:pt x="22268" y="4970"/>
                  <a:pt x="22200" y="5011"/>
                </a:cubicBezTo>
                <a:cubicBezTo>
                  <a:pt x="22154" y="5039"/>
                  <a:pt x="22126" y="5035"/>
                  <a:pt x="22076" y="5035"/>
                </a:cubicBezTo>
              </a:path>
              <a:path w="10642" h="1911">
                <a:moveTo>
                  <a:pt x="23093" y="3820"/>
                </a:moveTo>
                <a:cubicBezTo>
                  <a:pt x="22961" y="3905"/>
                  <a:pt x="22920" y="3925"/>
                  <a:pt x="22870" y="4068"/>
                </a:cubicBezTo>
                <a:cubicBezTo>
                  <a:pt x="22830" y="4182"/>
                  <a:pt x="22849" y="4299"/>
                  <a:pt x="22870" y="4415"/>
                </a:cubicBezTo>
                <a:cubicBezTo>
                  <a:pt x="22893" y="4537"/>
                  <a:pt x="22920" y="4636"/>
                  <a:pt x="22920" y="4762"/>
                </a:cubicBezTo>
                <a:cubicBezTo>
                  <a:pt x="22920" y="4841"/>
                  <a:pt x="22902" y="4850"/>
                  <a:pt x="22895" y="4911"/>
                </a:cubicBezTo>
                <a:cubicBezTo>
                  <a:pt x="22890" y="4960"/>
                  <a:pt x="22873" y="4932"/>
                  <a:pt x="22845" y="4911"/>
                </a:cubicBezTo>
              </a:path>
              <a:path w="10642" h="1911">
                <a:moveTo>
                  <a:pt x="22473" y="4539"/>
                </a:moveTo>
                <a:cubicBezTo>
                  <a:pt x="22563" y="4539"/>
                  <a:pt x="22634" y="4517"/>
                  <a:pt x="22721" y="4514"/>
                </a:cubicBezTo>
                <a:cubicBezTo>
                  <a:pt x="22785" y="4512"/>
                  <a:pt x="22979" y="4485"/>
                  <a:pt x="23019" y="4539"/>
                </a:cubicBezTo>
                <a:cubicBezTo>
                  <a:pt x="23050" y="4581"/>
                  <a:pt x="23000" y="4682"/>
                  <a:pt x="22994" y="4713"/>
                </a:cubicBezTo>
                <a:cubicBezTo>
                  <a:pt x="22987" y="4747"/>
                  <a:pt x="22962" y="4815"/>
                  <a:pt x="22994" y="4837"/>
                </a:cubicBezTo>
                <a:cubicBezTo>
                  <a:pt x="23027" y="4859"/>
                  <a:pt x="23115" y="4830"/>
                  <a:pt x="23143" y="4812"/>
                </a:cubicBezTo>
                <a:cubicBezTo>
                  <a:pt x="23235" y="4751"/>
                  <a:pt x="23227" y="4631"/>
                  <a:pt x="23192" y="4539"/>
                </a:cubicBezTo>
                <a:cubicBezTo>
                  <a:pt x="23180" y="4506"/>
                  <a:pt x="23145" y="4496"/>
                  <a:pt x="23118" y="4490"/>
                </a:cubicBezTo>
              </a:path>
              <a:path w="10642" h="1911">
                <a:moveTo>
                  <a:pt x="23366" y="4787"/>
                </a:moveTo>
                <a:cubicBezTo>
                  <a:pt x="23393" y="4867"/>
                  <a:pt x="23399" y="4930"/>
                  <a:pt x="23416" y="4862"/>
                </a:cubicBezTo>
                <a:cubicBezTo>
                  <a:pt x="23441" y="4764"/>
                  <a:pt x="23444" y="4728"/>
                  <a:pt x="23515" y="4638"/>
                </a:cubicBezTo>
                <a:cubicBezTo>
                  <a:pt x="23571" y="4568"/>
                  <a:pt x="23649" y="4508"/>
                  <a:pt x="23738" y="4490"/>
                </a:cubicBezTo>
                <a:cubicBezTo>
                  <a:pt x="23783" y="4490"/>
                  <a:pt x="23796" y="4486"/>
                  <a:pt x="23812" y="45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03920" y="2098800"/>
            <a:ext cx="787320" cy="455400"/>
          </a:xfrm>
          <a:custGeom>
            <a:avLst/>
            <a:gdLst/>
            <a:ahLst/>
            <a:rect l="l" t="t" r="r" b="b"/>
            <a:pathLst>
              <a:path w="2184" h="1266">
                <a:moveTo>
                  <a:pt x="16123" y="6300"/>
                </a:moveTo>
                <a:cubicBezTo>
                  <a:pt x="16156" y="6355"/>
                  <a:pt x="16142" y="6392"/>
                  <a:pt x="16222" y="6400"/>
                </a:cubicBezTo>
                <a:cubicBezTo>
                  <a:pt x="16269" y="6405"/>
                  <a:pt x="16321" y="6363"/>
                  <a:pt x="16346" y="6325"/>
                </a:cubicBezTo>
                <a:cubicBezTo>
                  <a:pt x="16382" y="6269"/>
                  <a:pt x="16410" y="6190"/>
                  <a:pt x="16421" y="6127"/>
                </a:cubicBezTo>
                <a:cubicBezTo>
                  <a:pt x="16429" y="6077"/>
                  <a:pt x="16401" y="5987"/>
                  <a:pt x="16371" y="5953"/>
                </a:cubicBezTo>
                <a:cubicBezTo>
                  <a:pt x="16288" y="5859"/>
                  <a:pt x="16260" y="5925"/>
                  <a:pt x="16197" y="6003"/>
                </a:cubicBezTo>
              </a:path>
              <a:path w="2184" h="1266">
                <a:moveTo>
                  <a:pt x="16197" y="6003"/>
                </a:moveTo>
                <a:cubicBezTo>
                  <a:pt x="16168" y="6150"/>
                  <a:pt x="16152" y="6212"/>
                  <a:pt x="16173" y="6350"/>
                </a:cubicBezTo>
                <a:cubicBezTo>
                  <a:pt x="16183" y="6414"/>
                  <a:pt x="16223" y="6481"/>
                  <a:pt x="16297" y="6499"/>
                </a:cubicBezTo>
                <a:cubicBezTo>
                  <a:pt x="16358" y="6514"/>
                  <a:pt x="16445" y="6454"/>
                  <a:pt x="16495" y="6424"/>
                </a:cubicBezTo>
                <a:cubicBezTo>
                  <a:pt x="16574" y="6376"/>
                  <a:pt x="16580" y="6353"/>
                  <a:pt x="16619" y="6276"/>
                </a:cubicBezTo>
              </a:path>
              <a:path w="2184" h="1266">
                <a:moveTo>
                  <a:pt x="16768" y="6152"/>
                </a:moveTo>
                <a:cubicBezTo>
                  <a:pt x="16819" y="6203"/>
                  <a:pt x="16899" y="6317"/>
                  <a:pt x="16966" y="6350"/>
                </a:cubicBezTo>
                <a:cubicBezTo>
                  <a:pt x="16990" y="6362"/>
                  <a:pt x="17038" y="6350"/>
                  <a:pt x="17066" y="6350"/>
                </a:cubicBezTo>
                <a:cubicBezTo>
                  <a:pt x="17066" y="6270"/>
                  <a:pt x="17054" y="6202"/>
                  <a:pt x="17041" y="6127"/>
                </a:cubicBezTo>
                <a:cubicBezTo>
                  <a:pt x="17030" y="6060"/>
                  <a:pt x="17016" y="5997"/>
                  <a:pt x="17016" y="5928"/>
                </a:cubicBezTo>
                <a:cubicBezTo>
                  <a:pt x="17016" y="5900"/>
                  <a:pt x="17019" y="5890"/>
                  <a:pt x="17041" y="5879"/>
                </a:cubicBezTo>
              </a:path>
              <a:path w="2184" h="1266">
                <a:moveTo>
                  <a:pt x="17264" y="6176"/>
                </a:moveTo>
                <a:cubicBezTo>
                  <a:pt x="17289" y="6176"/>
                  <a:pt x="17297" y="6176"/>
                  <a:pt x="17314" y="6176"/>
                </a:cubicBezTo>
                <a:cubicBezTo>
                  <a:pt x="17324" y="6147"/>
                  <a:pt x="17377" y="6119"/>
                  <a:pt x="17388" y="6077"/>
                </a:cubicBezTo>
                <a:cubicBezTo>
                  <a:pt x="17402" y="6025"/>
                  <a:pt x="17413" y="5986"/>
                  <a:pt x="17413" y="5928"/>
                </a:cubicBezTo>
                <a:cubicBezTo>
                  <a:pt x="17413" y="5920"/>
                  <a:pt x="17413" y="5912"/>
                  <a:pt x="17413" y="5904"/>
                </a:cubicBezTo>
              </a:path>
              <a:path w="2184" h="1266">
                <a:moveTo>
                  <a:pt x="17289" y="6003"/>
                </a:moveTo>
                <a:cubicBezTo>
                  <a:pt x="17275" y="6089"/>
                  <a:pt x="17240" y="6195"/>
                  <a:pt x="17289" y="6276"/>
                </a:cubicBezTo>
                <a:cubicBezTo>
                  <a:pt x="17332" y="6346"/>
                  <a:pt x="17361" y="6311"/>
                  <a:pt x="17413" y="6300"/>
                </a:cubicBezTo>
                <a:cubicBezTo>
                  <a:pt x="17464" y="6300"/>
                  <a:pt x="17482" y="6299"/>
                  <a:pt x="17512" y="6276"/>
                </a:cubicBezTo>
              </a:path>
              <a:path w="2184" h="1266">
                <a:moveTo>
                  <a:pt x="17686" y="6201"/>
                </a:moveTo>
                <a:cubicBezTo>
                  <a:pt x="17694" y="6209"/>
                  <a:pt x="17703" y="6218"/>
                  <a:pt x="17711" y="6226"/>
                </a:cubicBezTo>
                <a:cubicBezTo>
                  <a:pt x="17699" y="6178"/>
                  <a:pt x="17670" y="6130"/>
                  <a:pt x="17661" y="6077"/>
                </a:cubicBezTo>
                <a:cubicBezTo>
                  <a:pt x="17647" y="5992"/>
                  <a:pt x="17624" y="5947"/>
                  <a:pt x="17686" y="5879"/>
                </a:cubicBezTo>
                <a:cubicBezTo>
                  <a:pt x="17711" y="5854"/>
                  <a:pt x="17719" y="5846"/>
                  <a:pt x="17735" y="5829"/>
                </a:cubicBezTo>
              </a:path>
              <a:path w="2184" h="1266">
                <a:moveTo>
                  <a:pt x="17959" y="6028"/>
                </a:moveTo>
                <a:cubicBezTo>
                  <a:pt x="17999" y="6105"/>
                  <a:pt x="18024" y="6250"/>
                  <a:pt x="18107" y="6226"/>
                </a:cubicBezTo>
                <a:cubicBezTo>
                  <a:pt x="18145" y="6215"/>
                  <a:pt x="18230" y="6182"/>
                  <a:pt x="18256" y="6152"/>
                </a:cubicBezTo>
                <a:cubicBezTo>
                  <a:pt x="18278" y="6127"/>
                  <a:pt x="18293" y="6058"/>
                  <a:pt x="18306" y="6028"/>
                </a:cubicBezTo>
              </a:path>
              <a:path w="2184" h="1266">
                <a:moveTo>
                  <a:pt x="18256" y="5879"/>
                </a:moveTo>
                <a:cubicBezTo>
                  <a:pt x="18262" y="6014"/>
                  <a:pt x="18259" y="6166"/>
                  <a:pt x="18281" y="6300"/>
                </a:cubicBezTo>
                <a:cubicBezTo>
                  <a:pt x="18303" y="6433"/>
                  <a:pt x="18316" y="6537"/>
                  <a:pt x="18281" y="6672"/>
                </a:cubicBezTo>
                <a:cubicBezTo>
                  <a:pt x="18254" y="6776"/>
                  <a:pt x="18217" y="6875"/>
                  <a:pt x="18132" y="6945"/>
                </a:cubicBezTo>
                <a:cubicBezTo>
                  <a:pt x="18060" y="7004"/>
                  <a:pt x="17954" y="7079"/>
                  <a:pt x="17859" y="7094"/>
                </a:cubicBezTo>
                <a:cubicBezTo>
                  <a:pt x="17716" y="7116"/>
                  <a:pt x="17701" y="7030"/>
                  <a:pt x="17686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69080" y="2054160"/>
            <a:ext cx="857160" cy="258840"/>
          </a:xfrm>
          <a:custGeom>
            <a:avLst/>
            <a:gdLst/>
            <a:ahLst/>
            <a:rect l="l" t="t" r="r" b="b"/>
            <a:pathLst>
              <a:path w="2382" h="720">
                <a:moveTo>
                  <a:pt x="18926" y="5705"/>
                </a:moveTo>
                <a:cubicBezTo>
                  <a:pt x="18966" y="5832"/>
                  <a:pt x="19007" y="5968"/>
                  <a:pt x="19025" y="6102"/>
                </a:cubicBezTo>
                <a:cubicBezTo>
                  <a:pt x="19038" y="6199"/>
                  <a:pt x="19072" y="6259"/>
                  <a:pt x="19100" y="6350"/>
                </a:cubicBezTo>
                <a:cubicBezTo>
                  <a:pt x="19100" y="6385"/>
                  <a:pt x="19104" y="6402"/>
                  <a:pt x="19124" y="6424"/>
                </a:cubicBezTo>
              </a:path>
              <a:path w="2382" h="720">
                <a:moveTo>
                  <a:pt x="18802" y="6176"/>
                </a:moveTo>
                <a:cubicBezTo>
                  <a:pt x="18897" y="6160"/>
                  <a:pt x="19011" y="6153"/>
                  <a:pt x="19100" y="6127"/>
                </a:cubicBezTo>
                <a:cubicBezTo>
                  <a:pt x="19148" y="6103"/>
                  <a:pt x="19162" y="6094"/>
                  <a:pt x="19199" y="6102"/>
                </a:cubicBezTo>
              </a:path>
              <a:path w="2382" h="720">
                <a:moveTo>
                  <a:pt x="19224" y="6251"/>
                </a:moveTo>
                <a:cubicBezTo>
                  <a:pt x="19278" y="6293"/>
                  <a:pt x="19287" y="6258"/>
                  <a:pt x="19348" y="6226"/>
                </a:cubicBezTo>
                <a:cubicBezTo>
                  <a:pt x="19416" y="6190"/>
                  <a:pt x="19450" y="6158"/>
                  <a:pt x="19496" y="6102"/>
                </a:cubicBezTo>
                <a:cubicBezTo>
                  <a:pt x="19524" y="6074"/>
                  <a:pt x="19533" y="6061"/>
                  <a:pt x="19521" y="6028"/>
                </a:cubicBezTo>
              </a:path>
              <a:path w="2382" h="720">
                <a:moveTo>
                  <a:pt x="19348" y="6003"/>
                </a:moveTo>
                <a:cubicBezTo>
                  <a:pt x="19301" y="6095"/>
                  <a:pt x="19254" y="6172"/>
                  <a:pt x="19248" y="6276"/>
                </a:cubicBezTo>
                <a:cubicBezTo>
                  <a:pt x="19246" y="6321"/>
                  <a:pt x="19269" y="6409"/>
                  <a:pt x="19323" y="6424"/>
                </a:cubicBezTo>
                <a:cubicBezTo>
                  <a:pt x="19386" y="6442"/>
                  <a:pt x="19448" y="6409"/>
                  <a:pt x="19496" y="6400"/>
                </a:cubicBezTo>
                <a:cubicBezTo>
                  <a:pt x="19513" y="6400"/>
                  <a:pt x="19529" y="6400"/>
                  <a:pt x="19546" y="6400"/>
                </a:cubicBezTo>
              </a:path>
              <a:path w="2382" h="720">
                <a:moveTo>
                  <a:pt x="19670" y="6226"/>
                </a:moveTo>
                <a:cubicBezTo>
                  <a:pt x="19699" y="6304"/>
                  <a:pt x="19705" y="6347"/>
                  <a:pt x="19745" y="6400"/>
                </a:cubicBezTo>
                <a:cubicBezTo>
                  <a:pt x="19745" y="6334"/>
                  <a:pt x="19739" y="6287"/>
                  <a:pt x="19745" y="6226"/>
                </a:cubicBezTo>
                <a:cubicBezTo>
                  <a:pt x="19754" y="6144"/>
                  <a:pt x="19733" y="6093"/>
                  <a:pt x="19794" y="6028"/>
                </a:cubicBezTo>
                <a:cubicBezTo>
                  <a:pt x="19851" y="5967"/>
                  <a:pt x="19919" y="5940"/>
                  <a:pt x="19993" y="5904"/>
                </a:cubicBezTo>
              </a:path>
              <a:path w="2382" h="720">
                <a:moveTo>
                  <a:pt x="20216" y="6226"/>
                </a:moveTo>
                <a:cubicBezTo>
                  <a:pt x="20216" y="6259"/>
                  <a:pt x="20216" y="6292"/>
                  <a:pt x="20216" y="6325"/>
                </a:cubicBezTo>
                <a:cubicBezTo>
                  <a:pt x="20216" y="6265"/>
                  <a:pt x="20231" y="6232"/>
                  <a:pt x="20241" y="6176"/>
                </a:cubicBezTo>
                <a:cubicBezTo>
                  <a:pt x="20250" y="6125"/>
                  <a:pt x="20259" y="5985"/>
                  <a:pt x="20315" y="5953"/>
                </a:cubicBezTo>
                <a:cubicBezTo>
                  <a:pt x="20388" y="5911"/>
                  <a:pt x="20452" y="5975"/>
                  <a:pt x="20489" y="6003"/>
                </a:cubicBezTo>
                <a:cubicBezTo>
                  <a:pt x="20552" y="6050"/>
                  <a:pt x="20596" y="6056"/>
                  <a:pt x="20638" y="6127"/>
                </a:cubicBezTo>
                <a:cubicBezTo>
                  <a:pt x="20660" y="6163"/>
                  <a:pt x="20678" y="6190"/>
                  <a:pt x="20687" y="6226"/>
                </a:cubicBezTo>
                <a:cubicBezTo>
                  <a:pt x="20687" y="6175"/>
                  <a:pt x="20688" y="6168"/>
                  <a:pt x="20712" y="6127"/>
                </a:cubicBezTo>
                <a:cubicBezTo>
                  <a:pt x="20761" y="6042"/>
                  <a:pt x="20823" y="5967"/>
                  <a:pt x="20910" y="6003"/>
                </a:cubicBezTo>
                <a:cubicBezTo>
                  <a:pt x="20990" y="6036"/>
                  <a:pt x="21036" y="6081"/>
                  <a:pt x="21084" y="6152"/>
                </a:cubicBezTo>
                <a:cubicBezTo>
                  <a:pt x="21114" y="6196"/>
                  <a:pt x="21132" y="6262"/>
                  <a:pt x="21158" y="6300"/>
                </a:cubicBezTo>
                <a:cubicBezTo>
                  <a:pt x="21177" y="6329"/>
                  <a:pt x="21210" y="6373"/>
                  <a:pt x="21158" y="6400"/>
                </a:cubicBezTo>
                <a:cubicBezTo>
                  <a:pt x="21150" y="6400"/>
                  <a:pt x="21142" y="6400"/>
                  <a:pt x="21134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10120" y="2562120"/>
            <a:ext cx="3517920" cy="501840"/>
          </a:xfrm>
          <a:custGeom>
            <a:avLst/>
            <a:gdLst/>
            <a:ahLst/>
            <a:rect l="l" t="t" r="r" b="b"/>
            <a:pathLst>
              <a:path w="9774" h="1390">
                <a:moveTo>
                  <a:pt x="14412" y="7615"/>
                </a:moveTo>
                <a:cubicBezTo>
                  <a:pt x="14473" y="7537"/>
                  <a:pt x="14518" y="7532"/>
                  <a:pt x="14610" y="7491"/>
                </a:cubicBezTo>
                <a:cubicBezTo>
                  <a:pt x="14674" y="7462"/>
                  <a:pt x="14737" y="7445"/>
                  <a:pt x="14808" y="7441"/>
                </a:cubicBezTo>
                <a:cubicBezTo>
                  <a:pt x="14857" y="7438"/>
                  <a:pt x="14909" y="7437"/>
                  <a:pt x="14932" y="7491"/>
                </a:cubicBezTo>
                <a:cubicBezTo>
                  <a:pt x="14960" y="7556"/>
                  <a:pt x="14885" y="7559"/>
                  <a:pt x="14858" y="7590"/>
                </a:cubicBezTo>
                <a:cubicBezTo>
                  <a:pt x="14802" y="7655"/>
                  <a:pt x="14747" y="7706"/>
                  <a:pt x="14684" y="7764"/>
                </a:cubicBezTo>
                <a:cubicBezTo>
                  <a:pt x="14655" y="7791"/>
                  <a:pt x="14644" y="7803"/>
                  <a:pt x="14635" y="7838"/>
                </a:cubicBezTo>
                <a:cubicBezTo>
                  <a:pt x="14667" y="7830"/>
                  <a:pt x="14701" y="7824"/>
                  <a:pt x="14734" y="7813"/>
                </a:cubicBezTo>
                <a:cubicBezTo>
                  <a:pt x="14798" y="7791"/>
                  <a:pt x="14840" y="7789"/>
                  <a:pt x="14908" y="7789"/>
                </a:cubicBezTo>
                <a:cubicBezTo>
                  <a:pt x="14956" y="7789"/>
                  <a:pt x="15008" y="7784"/>
                  <a:pt x="15032" y="7838"/>
                </a:cubicBezTo>
                <a:cubicBezTo>
                  <a:pt x="15054" y="7888"/>
                  <a:pt x="15059" y="7891"/>
                  <a:pt x="15032" y="7938"/>
                </a:cubicBezTo>
                <a:cubicBezTo>
                  <a:pt x="14991" y="8010"/>
                  <a:pt x="14945" y="8035"/>
                  <a:pt x="14883" y="8086"/>
                </a:cubicBezTo>
                <a:cubicBezTo>
                  <a:pt x="14813" y="8144"/>
                  <a:pt x="14744" y="8183"/>
                  <a:pt x="14660" y="8210"/>
                </a:cubicBezTo>
                <a:cubicBezTo>
                  <a:pt x="14635" y="8210"/>
                  <a:pt x="14627" y="8210"/>
                  <a:pt x="14635" y="8186"/>
                </a:cubicBezTo>
              </a:path>
              <a:path w="9774" h="1390">
                <a:moveTo>
                  <a:pt x="15106" y="7293"/>
                </a:moveTo>
                <a:cubicBezTo>
                  <a:pt x="15074" y="7209"/>
                  <a:pt x="15082" y="7105"/>
                  <a:pt x="14957" y="7119"/>
                </a:cubicBezTo>
                <a:cubicBezTo>
                  <a:pt x="14856" y="7130"/>
                  <a:pt x="14759" y="7185"/>
                  <a:pt x="14660" y="7218"/>
                </a:cubicBezTo>
                <a:cubicBezTo>
                  <a:pt x="14528" y="7262"/>
                  <a:pt x="14424" y="7336"/>
                  <a:pt x="14312" y="7417"/>
                </a:cubicBezTo>
                <a:cubicBezTo>
                  <a:pt x="14198" y="7500"/>
                  <a:pt x="14064" y="7618"/>
                  <a:pt x="13990" y="7739"/>
                </a:cubicBezTo>
                <a:cubicBezTo>
                  <a:pt x="13934" y="7831"/>
                  <a:pt x="13915" y="7906"/>
                  <a:pt x="13915" y="8012"/>
                </a:cubicBezTo>
                <a:cubicBezTo>
                  <a:pt x="13915" y="8099"/>
                  <a:pt x="13912" y="8209"/>
                  <a:pt x="13965" y="8285"/>
                </a:cubicBezTo>
                <a:cubicBezTo>
                  <a:pt x="14027" y="8373"/>
                  <a:pt x="14119" y="8470"/>
                  <a:pt x="14213" y="8483"/>
                </a:cubicBezTo>
                <a:cubicBezTo>
                  <a:pt x="14360" y="8504"/>
                  <a:pt x="14507" y="8486"/>
                  <a:pt x="14635" y="8434"/>
                </a:cubicBezTo>
                <a:cubicBezTo>
                  <a:pt x="14717" y="8401"/>
                  <a:pt x="14844" y="8352"/>
                  <a:pt x="14908" y="8285"/>
                </a:cubicBezTo>
                <a:cubicBezTo>
                  <a:pt x="14976" y="8213"/>
                  <a:pt x="15047" y="8078"/>
                  <a:pt x="15081" y="7987"/>
                </a:cubicBezTo>
                <a:cubicBezTo>
                  <a:pt x="15123" y="7875"/>
                  <a:pt x="15152" y="7758"/>
                  <a:pt x="15156" y="7640"/>
                </a:cubicBezTo>
                <a:cubicBezTo>
                  <a:pt x="15160" y="7535"/>
                  <a:pt x="15098" y="7477"/>
                  <a:pt x="15007" y="7441"/>
                </a:cubicBezTo>
                <a:cubicBezTo>
                  <a:pt x="14890" y="7395"/>
                  <a:pt x="14799" y="7431"/>
                  <a:pt x="14684" y="7466"/>
                </a:cubicBezTo>
              </a:path>
              <a:path w="9774" h="1390">
                <a:moveTo>
                  <a:pt x="15577" y="7342"/>
                </a:moveTo>
                <a:cubicBezTo>
                  <a:pt x="15577" y="7396"/>
                  <a:pt x="15599" y="7412"/>
                  <a:pt x="15602" y="7466"/>
                </a:cubicBezTo>
                <a:cubicBezTo>
                  <a:pt x="15608" y="7560"/>
                  <a:pt x="15617" y="7648"/>
                  <a:pt x="15627" y="7739"/>
                </a:cubicBezTo>
                <a:cubicBezTo>
                  <a:pt x="15644" y="7886"/>
                  <a:pt x="15649" y="8093"/>
                  <a:pt x="15602" y="8235"/>
                </a:cubicBezTo>
                <a:cubicBezTo>
                  <a:pt x="15586" y="8284"/>
                  <a:pt x="15585" y="8299"/>
                  <a:pt x="15553" y="8310"/>
                </a:cubicBezTo>
                <a:cubicBezTo>
                  <a:pt x="15584" y="8267"/>
                  <a:pt x="15583" y="8247"/>
                  <a:pt x="15602" y="8186"/>
                </a:cubicBezTo>
              </a:path>
              <a:path w="9774" h="1390">
                <a:moveTo>
                  <a:pt x="16024" y="7119"/>
                </a:moveTo>
                <a:cubicBezTo>
                  <a:pt x="15965" y="7172"/>
                  <a:pt x="15905" y="7213"/>
                  <a:pt x="15850" y="7268"/>
                </a:cubicBezTo>
                <a:cubicBezTo>
                  <a:pt x="15820" y="7298"/>
                  <a:pt x="15808" y="7338"/>
                  <a:pt x="15850" y="7367"/>
                </a:cubicBezTo>
                <a:cubicBezTo>
                  <a:pt x="15910" y="7409"/>
                  <a:pt x="15979" y="7435"/>
                  <a:pt x="16024" y="7491"/>
                </a:cubicBezTo>
                <a:cubicBezTo>
                  <a:pt x="16075" y="7555"/>
                  <a:pt x="16067" y="7558"/>
                  <a:pt x="16049" y="7615"/>
                </a:cubicBezTo>
                <a:cubicBezTo>
                  <a:pt x="16032" y="7669"/>
                  <a:pt x="15966" y="7661"/>
                  <a:pt x="15925" y="7689"/>
                </a:cubicBezTo>
                <a:cubicBezTo>
                  <a:pt x="15899" y="7707"/>
                  <a:pt x="15841" y="7725"/>
                  <a:pt x="15875" y="7665"/>
                </a:cubicBezTo>
                <a:cubicBezTo>
                  <a:pt x="15883" y="7657"/>
                  <a:pt x="15892" y="7648"/>
                  <a:pt x="15900" y="7640"/>
                </a:cubicBezTo>
              </a:path>
              <a:path w="9774" h="1390">
                <a:moveTo>
                  <a:pt x="16272" y="7144"/>
                </a:moveTo>
                <a:cubicBezTo>
                  <a:pt x="16287" y="7233"/>
                  <a:pt x="16274" y="7355"/>
                  <a:pt x="16297" y="7441"/>
                </a:cubicBezTo>
                <a:cubicBezTo>
                  <a:pt x="16314" y="7506"/>
                  <a:pt x="16321" y="7547"/>
                  <a:pt x="16321" y="7615"/>
                </a:cubicBezTo>
                <a:cubicBezTo>
                  <a:pt x="16321" y="7658"/>
                  <a:pt x="16322" y="7655"/>
                  <a:pt x="16297" y="7689"/>
                </a:cubicBezTo>
              </a:path>
              <a:path w="9774" h="1390">
                <a:moveTo>
                  <a:pt x="16148" y="7516"/>
                </a:moveTo>
                <a:cubicBezTo>
                  <a:pt x="16206" y="7516"/>
                  <a:pt x="16251" y="7500"/>
                  <a:pt x="16297" y="7491"/>
                </a:cubicBezTo>
                <a:cubicBezTo>
                  <a:pt x="16371" y="7476"/>
                  <a:pt x="16445" y="7461"/>
                  <a:pt x="16520" y="7441"/>
                </a:cubicBezTo>
              </a:path>
              <a:path w="9774" h="1390">
                <a:moveTo>
                  <a:pt x="17016" y="7417"/>
                </a:moveTo>
                <a:cubicBezTo>
                  <a:pt x="17016" y="7635"/>
                  <a:pt x="17017" y="7850"/>
                  <a:pt x="17041" y="8062"/>
                </a:cubicBezTo>
                <a:cubicBezTo>
                  <a:pt x="17048" y="8121"/>
                  <a:pt x="17065" y="8318"/>
                  <a:pt x="17016" y="8334"/>
                </a:cubicBezTo>
              </a:path>
              <a:path w="9774" h="1390">
                <a:moveTo>
                  <a:pt x="16669" y="8012"/>
                </a:moveTo>
                <a:cubicBezTo>
                  <a:pt x="16740" y="8012"/>
                  <a:pt x="16778" y="7991"/>
                  <a:pt x="16842" y="7987"/>
                </a:cubicBezTo>
                <a:cubicBezTo>
                  <a:pt x="16919" y="7982"/>
                  <a:pt x="16984" y="7962"/>
                  <a:pt x="17066" y="7962"/>
                </a:cubicBezTo>
                <a:cubicBezTo>
                  <a:pt x="17132" y="7962"/>
                  <a:pt x="17149" y="7962"/>
                  <a:pt x="17190" y="7962"/>
                </a:cubicBezTo>
              </a:path>
              <a:path w="9774" h="1390">
                <a:moveTo>
                  <a:pt x="17537" y="8012"/>
                </a:moveTo>
                <a:cubicBezTo>
                  <a:pt x="17581" y="7935"/>
                  <a:pt x="17584" y="7954"/>
                  <a:pt x="17562" y="7888"/>
                </a:cubicBezTo>
                <a:cubicBezTo>
                  <a:pt x="17542" y="7827"/>
                  <a:pt x="17491" y="7827"/>
                  <a:pt x="17438" y="7863"/>
                </a:cubicBezTo>
                <a:cubicBezTo>
                  <a:pt x="17396" y="7891"/>
                  <a:pt x="17312" y="7948"/>
                  <a:pt x="17289" y="7987"/>
                </a:cubicBezTo>
                <a:cubicBezTo>
                  <a:pt x="17251" y="8052"/>
                  <a:pt x="17224" y="8162"/>
                  <a:pt x="17214" y="8235"/>
                </a:cubicBezTo>
                <a:cubicBezTo>
                  <a:pt x="17202" y="8322"/>
                  <a:pt x="17235" y="8314"/>
                  <a:pt x="17289" y="8334"/>
                </a:cubicBezTo>
                <a:cubicBezTo>
                  <a:pt x="17356" y="8358"/>
                  <a:pt x="17371" y="8357"/>
                  <a:pt x="17438" y="8334"/>
                </a:cubicBezTo>
                <a:cubicBezTo>
                  <a:pt x="17513" y="8308"/>
                  <a:pt x="17543" y="8246"/>
                  <a:pt x="17587" y="8186"/>
                </a:cubicBezTo>
              </a:path>
              <a:path w="9774" h="1390">
                <a:moveTo>
                  <a:pt x="17661" y="8161"/>
                </a:moveTo>
                <a:cubicBezTo>
                  <a:pt x="17683" y="8256"/>
                  <a:pt x="17693" y="8334"/>
                  <a:pt x="17661" y="8210"/>
                </a:cubicBezTo>
                <a:cubicBezTo>
                  <a:pt x="17642" y="8133"/>
                  <a:pt x="17651" y="7999"/>
                  <a:pt x="17686" y="7938"/>
                </a:cubicBezTo>
                <a:cubicBezTo>
                  <a:pt x="17720" y="7879"/>
                  <a:pt x="17751" y="7848"/>
                  <a:pt x="17810" y="7813"/>
                </a:cubicBezTo>
                <a:cubicBezTo>
                  <a:pt x="17826" y="7805"/>
                  <a:pt x="17843" y="7797"/>
                  <a:pt x="17859" y="7789"/>
                </a:cubicBezTo>
              </a:path>
              <a:path w="9774" h="1390">
                <a:moveTo>
                  <a:pt x="18058" y="8037"/>
                </a:moveTo>
                <a:cubicBezTo>
                  <a:pt x="18039" y="8148"/>
                  <a:pt x="18059" y="8171"/>
                  <a:pt x="18008" y="8210"/>
                </a:cubicBezTo>
                <a:cubicBezTo>
                  <a:pt x="18020" y="8163"/>
                  <a:pt x="18049" y="8115"/>
                  <a:pt x="18058" y="8062"/>
                </a:cubicBezTo>
                <a:cubicBezTo>
                  <a:pt x="18070" y="7991"/>
                  <a:pt x="18080" y="7965"/>
                  <a:pt x="18132" y="7913"/>
                </a:cubicBezTo>
                <a:cubicBezTo>
                  <a:pt x="18163" y="7882"/>
                  <a:pt x="18219" y="7909"/>
                  <a:pt x="18256" y="7938"/>
                </a:cubicBezTo>
                <a:cubicBezTo>
                  <a:pt x="18296" y="7969"/>
                  <a:pt x="18314" y="8022"/>
                  <a:pt x="18331" y="8062"/>
                </a:cubicBezTo>
                <a:cubicBezTo>
                  <a:pt x="18340" y="8084"/>
                  <a:pt x="18355" y="8190"/>
                  <a:pt x="18355" y="8136"/>
                </a:cubicBezTo>
                <a:cubicBezTo>
                  <a:pt x="18355" y="8073"/>
                  <a:pt x="18382" y="8017"/>
                  <a:pt x="18405" y="7962"/>
                </a:cubicBezTo>
                <a:cubicBezTo>
                  <a:pt x="18424" y="7916"/>
                  <a:pt x="18473" y="7890"/>
                  <a:pt x="18529" y="7913"/>
                </a:cubicBezTo>
                <a:cubicBezTo>
                  <a:pt x="18573" y="7932"/>
                  <a:pt x="18618" y="7977"/>
                  <a:pt x="18653" y="8012"/>
                </a:cubicBezTo>
                <a:cubicBezTo>
                  <a:pt x="18689" y="8048"/>
                  <a:pt x="18677" y="8098"/>
                  <a:pt x="18703" y="8136"/>
                </a:cubicBezTo>
                <a:cubicBezTo>
                  <a:pt x="18732" y="8179"/>
                  <a:pt x="18724" y="8186"/>
                  <a:pt x="18777" y="8186"/>
                </a:cubicBezTo>
              </a:path>
              <a:path w="9774" h="1390">
                <a:moveTo>
                  <a:pt x="19025" y="8012"/>
                </a:moveTo>
                <a:cubicBezTo>
                  <a:pt x="19117" y="7990"/>
                  <a:pt x="19200" y="7976"/>
                  <a:pt x="19273" y="7913"/>
                </a:cubicBezTo>
                <a:cubicBezTo>
                  <a:pt x="19307" y="7883"/>
                  <a:pt x="19391" y="7815"/>
                  <a:pt x="19397" y="7764"/>
                </a:cubicBezTo>
                <a:cubicBezTo>
                  <a:pt x="19402" y="7723"/>
                  <a:pt x="19359" y="7692"/>
                  <a:pt x="19323" y="7689"/>
                </a:cubicBezTo>
                <a:cubicBezTo>
                  <a:pt x="19231" y="7682"/>
                  <a:pt x="19227" y="7733"/>
                  <a:pt x="19174" y="7789"/>
                </a:cubicBezTo>
                <a:cubicBezTo>
                  <a:pt x="19094" y="7873"/>
                  <a:pt x="19075" y="7951"/>
                  <a:pt x="19075" y="8062"/>
                </a:cubicBezTo>
                <a:cubicBezTo>
                  <a:pt x="19075" y="8101"/>
                  <a:pt x="19101" y="8172"/>
                  <a:pt x="19149" y="8186"/>
                </a:cubicBezTo>
                <a:cubicBezTo>
                  <a:pt x="19210" y="8204"/>
                  <a:pt x="19294" y="8185"/>
                  <a:pt x="19348" y="8161"/>
                </a:cubicBezTo>
                <a:cubicBezTo>
                  <a:pt x="19391" y="8139"/>
                  <a:pt x="19403" y="8135"/>
                  <a:pt x="19422" y="8111"/>
                </a:cubicBezTo>
              </a:path>
              <a:path w="9774" h="1390">
                <a:moveTo>
                  <a:pt x="19596" y="7789"/>
                </a:moveTo>
                <a:cubicBezTo>
                  <a:pt x="19637" y="7854"/>
                  <a:pt x="19681" y="7922"/>
                  <a:pt x="19720" y="7987"/>
                </a:cubicBezTo>
                <a:cubicBezTo>
                  <a:pt x="19755" y="8045"/>
                  <a:pt x="19763" y="8039"/>
                  <a:pt x="19819" y="8062"/>
                </a:cubicBezTo>
                <a:cubicBezTo>
                  <a:pt x="19876" y="8086"/>
                  <a:pt x="19897" y="8077"/>
                  <a:pt x="19943" y="8037"/>
                </a:cubicBezTo>
                <a:cubicBezTo>
                  <a:pt x="19951" y="8029"/>
                  <a:pt x="19960" y="8020"/>
                  <a:pt x="19968" y="8012"/>
                </a:cubicBezTo>
              </a:path>
              <a:path w="9774" h="1390">
                <a:moveTo>
                  <a:pt x="19769" y="7838"/>
                </a:moveTo>
                <a:cubicBezTo>
                  <a:pt x="19719" y="7941"/>
                  <a:pt x="19640" y="8077"/>
                  <a:pt x="19596" y="8186"/>
                </a:cubicBezTo>
                <a:cubicBezTo>
                  <a:pt x="19572" y="8246"/>
                  <a:pt x="19614" y="8234"/>
                  <a:pt x="19645" y="8210"/>
                </a:cubicBezTo>
              </a:path>
              <a:path w="9774" h="1390">
                <a:moveTo>
                  <a:pt x="20166" y="7863"/>
                </a:moveTo>
                <a:cubicBezTo>
                  <a:pt x="20166" y="7984"/>
                  <a:pt x="20127" y="8212"/>
                  <a:pt x="20141" y="8334"/>
                </a:cubicBezTo>
                <a:cubicBezTo>
                  <a:pt x="20142" y="8341"/>
                  <a:pt x="20158" y="8500"/>
                  <a:pt x="20166" y="8508"/>
                </a:cubicBezTo>
                <a:cubicBezTo>
                  <a:pt x="20196" y="8538"/>
                  <a:pt x="20178" y="8450"/>
                  <a:pt x="20166" y="8409"/>
                </a:cubicBezTo>
              </a:path>
              <a:path w="9774" h="1390">
                <a:moveTo>
                  <a:pt x="20191" y="7764"/>
                </a:moveTo>
                <a:cubicBezTo>
                  <a:pt x="20274" y="7752"/>
                  <a:pt x="20369" y="7739"/>
                  <a:pt x="20439" y="7813"/>
                </a:cubicBezTo>
                <a:cubicBezTo>
                  <a:pt x="20492" y="7868"/>
                  <a:pt x="20513" y="7932"/>
                  <a:pt x="20464" y="7987"/>
                </a:cubicBezTo>
                <a:cubicBezTo>
                  <a:pt x="20425" y="8031"/>
                  <a:pt x="20385" y="8052"/>
                  <a:pt x="20340" y="8086"/>
                </a:cubicBezTo>
                <a:cubicBezTo>
                  <a:pt x="20304" y="8113"/>
                  <a:pt x="20301" y="8103"/>
                  <a:pt x="20290" y="8136"/>
                </a:cubicBezTo>
              </a:path>
              <a:path w="9774" h="1390">
                <a:moveTo>
                  <a:pt x="21158" y="7640"/>
                </a:moveTo>
                <a:cubicBezTo>
                  <a:pt x="20997" y="7655"/>
                  <a:pt x="21010" y="7709"/>
                  <a:pt x="20910" y="7838"/>
                </a:cubicBezTo>
                <a:cubicBezTo>
                  <a:pt x="20855" y="7910"/>
                  <a:pt x="20836" y="7945"/>
                  <a:pt x="20836" y="8037"/>
                </a:cubicBezTo>
                <a:cubicBezTo>
                  <a:pt x="20836" y="8065"/>
                  <a:pt x="20838" y="8076"/>
                  <a:pt x="20861" y="8086"/>
                </a:cubicBezTo>
                <a:cubicBezTo>
                  <a:pt x="20932" y="8086"/>
                  <a:pt x="20948" y="8070"/>
                  <a:pt x="21010" y="8037"/>
                </a:cubicBezTo>
                <a:cubicBezTo>
                  <a:pt x="21088" y="7995"/>
                  <a:pt x="21106" y="7920"/>
                  <a:pt x="21134" y="7838"/>
                </a:cubicBezTo>
                <a:cubicBezTo>
                  <a:pt x="21161" y="7758"/>
                  <a:pt x="21175" y="7650"/>
                  <a:pt x="21158" y="7565"/>
                </a:cubicBezTo>
                <a:cubicBezTo>
                  <a:pt x="21144" y="7496"/>
                  <a:pt x="21127" y="7425"/>
                  <a:pt x="21109" y="7367"/>
                </a:cubicBezTo>
                <a:cubicBezTo>
                  <a:pt x="21109" y="7359"/>
                  <a:pt x="21109" y="7350"/>
                  <a:pt x="21109" y="7342"/>
                </a:cubicBezTo>
                <a:cubicBezTo>
                  <a:pt x="21109" y="7403"/>
                  <a:pt x="21087" y="7455"/>
                  <a:pt x="21084" y="7516"/>
                </a:cubicBezTo>
                <a:cubicBezTo>
                  <a:pt x="21079" y="7625"/>
                  <a:pt x="21089" y="7733"/>
                  <a:pt x="21109" y="7838"/>
                </a:cubicBezTo>
                <a:cubicBezTo>
                  <a:pt x="21116" y="7875"/>
                  <a:pt x="21150" y="8010"/>
                  <a:pt x="21183" y="8037"/>
                </a:cubicBezTo>
                <a:cubicBezTo>
                  <a:pt x="21215" y="8063"/>
                  <a:pt x="21291" y="8073"/>
                  <a:pt x="21332" y="8062"/>
                </a:cubicBezTo>
                <a:cubicBezTo>
                  <a:pt x="21400" y="8043"/>
                  <a:pt x="21441" y="7984"/>
                  <a:pt x="21481" y="7938"/>
                </a:cubicBezTo>
                <a:cubicBezTo>
                  <a:pt x="21526" y="7887"/>
                  <a:pt x="21545" y="7857"/>
                  <a:pt x="21555" y="7789"/>
                </a:cubicBezTo>
                <a:cubicBezTo>
                  <a:pt x="21562" y="7741"/>
                  <a:pt x="21565" y="7701"/>
                  <a:pt x="21530" y="7689"/>
                </a:cubicBezTo>
                <a:cubicBezTo>
                  <a:pt x="21485" y="7689"/>
                  <a:pt x="21465" y="7682"/>
                  <a:pt x="21431" y="7714"/>
                </a:cubicBezTo>
                <a:cubicBezTo>
                  <a:pt x="21354" y="7786"/>
                  <a:pt x="21339" y="7870"/>
                  <a:pt x="21307" y="7962"/>
                </a:cubicBezTo>
                <a:cubicBezTo>
                  <a:pt x="21288" y="8017"/>
                  <a:pt x="21289" y="8061"/>
                  <a:pt x="21332" y="8111"/>
                </a:cubicBezTo>
                <a:cubicBezTo>
                  <a:pt x="21404" y="8194"/>
                  <a:pt x="21446" y="8153"/>
                  <a:pt x="21530" y="8111"/>
                </a:cubicBezTo>
                <a:cubicBezTo>
                  <a:pt x="21587" y="8083"/>
                  <a:pt x="21610" y="8072"/>
                  <a:pt x="21654" y="8062"/>
                </a:cubicBezTo>
              </a:path>
              <a:path w="9774" h="1390">
                <a:moveTo>
                  <a:pt x="21903" y="7689"/>
                </a:moveTo>
                <a:cubicBezTo>
                  <a:pt x="21837" y="7790"/>
                  <a:pt x="21799" y="7866"/>
                  <a:pt x="21754" y="7962"/>
                </a:cubicBezTo>
                <a:cubicBezTo>
                  <a:pt x="21726" y="7990"/>
                  <a:pt x="21717" y="8004"/>
                  <a:pt x="21729" y="8037"/>
                </a:cubicBezTo>
                <a:cubicBezTo>
                  <a:pt x="21767" y="8050"/>
                  <a:pt x="21750" y="8062"/>
                  <a:pt x="21803" y="8062"/>
                </a:cubicBezTo>
                <a:cubicBezTo>
                  <a:pt x="21856" y="8062"/>
                  <a:pt x="21865" y="8050"/>
                  <a:pt x="21903" y="8012"/>
                </a:cubicBezTo>
                <a:cubicBezTo>
                  <a:pt x="21953" y="7961"/>
                  <a:pt x="21957" y="7920"/>
                  <a:pt x="21977" y="7863"/>
                </a:cubicBezTo>
                <a:cubicBezTo>
                  <a:pt x="21985" y="7846"/>
                  <a:pt x="21994" y="7830"/>
                  <a:pt x="22002" y="7813"/>
                </a:cubicBezTo>
                <a:cubicBezTo>
                  <a:pt x="22032" y="7863"/>
                  <a:pt x="22027" y="7900"/>
                  <a:pt x="22027" y="7962"/>
                </a:cubicBezTo>
                <a:cubicBezTo>
                  <a:pt x="22027" y="8005"/>
                  <a:pt x="22026" y="8002"/>
                  <a:pt x="22051" y="8037"/>
                </a:cubicBezTo>
                <a:cubicBezTo>
                  <a:pt x="22051" y="7923"/>
                  <a:pt x="22055" y="7824"/>
                  <a:pt x="22076" y="7714"/>
                </a:cubicBezTo>
                <a:cubicBezTo>
                  <a:pt x="22088" y="7650"/>
                  <a:pt x="22106" y="7649"/>
                  <a:pt x="22151" y="7615"/>
                </a:cubicBezTo>
              </a:path>
              <a:path w="9774" h="1390">
                <a:moveTo>
                  <a:pt x="22250" y="7888"/>
                </a:moveTo>
                <a:cubicBezTo>
                  <a:pt x="22316" y="7908"/>
                  <a:pt x="22361" y="7926"/>
                  <a:pt x="22423" y="7888"/>
                </a:cubicBezTo>
                <a:cubicBezTo>
                  <a:pt x="22482" y="7852"/>
                  <a:pt x="22475" y="7785"/>
                  <a:pt x="22498" y="7739"/>
                </a:cubicBezTo>
                <a:cubicBezTo>
                  <a:pt x="22521" y="7716"/>
                  <a:pt x="22529" y="7712"/>
                  <a:pt x="22523" y="7689"/>
                </a:cubicBezTo>
                <a:cubicBezTo>
                  <a:pt x="22453" y="7689"/>
                  <a:pt x="22435" y="7703"/>
                  <a:pt x="22399" y="7764"/>
                </a:cubicBezTo>
                <a:cubicBezTo>
                  <a:pt x="22354" y="7840"/>
                  <a:pt x="22286" y="7893"/>
                  <a:pt x="22275" y="7987"/>
                </a:cubicBezTo>
                <a:cubicBezTo>
                  <a:pt x="22267" y="8059"/>
                  <a:pt x="22278" y="8069"/>
                  <a:pt x="22349" y="8086"/>
                </a:cubicBezTo>
                <a:cubicBezTo>
                  <a:pt x="22413" y="8102"/>
                  <a:pt x="22489" y="8086"/>
                  <a:pt x="22547" y="8062"/>
                </a:cubicBezTo>
                <a:cubicBezTo>
                  <a:pt x="22626" y="8029"/>
                  <a:pt x="22696" y="7979"/>
                  <a:pt x="22771" y="7938"/>
                </a:cubicBezTo>
              </a:path>
              <a:path w="9774" h="1390">
                <a:moveTo>
                  <a:pt x="22721" y="7813"/>
                </a:moveTo>
                <a:cubicBezTo>
                  <a:pt x="22659" y="7882"/>
                  <a:pt x="22615" y="7923"/>
                  <a:pt x="22597" y="8012"/>
                </a:cubicBezTo>
                <a:cubicBezTo>
                  <a:pt x="22627" y="8034"/>
                  <a:pt x="22678" y="8055"/>
                  <a:pt x="22721" y="8037"/>
                </a:cubicBezTo>
                <a:cubicBezTo>
                  <a:pt x="22775" y="8014"/>
                  <a:pt x="22784" y="7986"/>
                  <a:pt x="22820" y="7938"/>
                </a:cubicBezTo>
                <a:cubicBezTo>
                  <a:pt x="22847" y="7901"/>
                  <a:pt x="22881" y="7853"/>
                  <a:pt x="22895" y="7813"/>
                </a:cubicBezTo>
                <a:cubicBezTo>
                  <a:pt x="22895" y="7805"/>
                  <a:pt x="22895" y="7797"/>
                  <a:pt x="22895" y="7789"/>
                </a:cubicBezTo>
                <a:cubicBezTo>
                  <a:pt x="22872" y="7796"/>
                  <a:pt x="22856" y="7831"/>
                  <a:pt x="22845" y="7863"/>
                </a:cubicBezTo>
                <a:cubicBezTo>
                  <a:pt x="22829" y="7911"/>
                  <a:pt x="22879" y="7959"/>
                  <a:pt x="22920" y="7962"/>
                </a:cubicBezTo>
                <a:cubicBezTo>
                  <a:pt x="23017" y="7969"/>
                  <a:pt x="23099" y="7938"/>
                  <a:pt x="23192" y="7913"/>
                </a:cubicBezTo>
              </a:path>
              <a:path w="9774" h="1390">
                <a:moveTo>
                  <a:pt x="23242" y="7863"/>
                </a:moveTo>
                <a:cubicBezTo>
                  <a:pt x="23215" y="7910"/>
                  <a:pt x="23162" y="7964"/>
                  <a:pt x="23143" y="8012"/>
                </a:cubicBezTo>
                <a:cubicBezTo>
                  <a:pt x="23120" y="8070"/>
                  <a:pt x="23143" y="8026"/>
                  <a:pt x="23168" y="7987"/>
                </a:cubicBezTo>
                <a:cubicBezTo>
                  <a:pt x="23203" y="7932"/>
                  <a:pt x="23242" y="7875"/>
                  <a:pt x="23267" y="7813"/>
                </a:cubicBezTo>
                <a:cubicBezTo>
                  <a:pt x="23286" y="7765"/>
                  <a:pt x="23306" y="7714"/>
                  <a:pt x="23316" y="7665"/>
                </a:cubicBezTo>
                <a:cubicBezTo>
                  <a:pt x="23268" y="7675"/>
                  <a:pt x="23221" y="7693"/>
                  <a:pt x="23192" y="7739"/>
                </a:cubicBezTo>
                <a:cubicBezTo>
                  <a:pt x="23182" y="7756"/>
                  <a:pt x="23143" y="7867"/>
                  <a:pt x="23168" y="7888"/>
                </a:cubicBezTo>
                <a:cubicBezTo>
                  <a:pt x="23198" y="7913"/>
                  <a:pt x="23249" y="7913"/>
                  <a:pt x="23292" y="7913"/>
                </a:cubicBezTo>
                <a:cubicBezTo>
                  <a:pt x="23359" y="7913"/>
                  <a:pt x="23407" y="7904"/>
                  <a:pt x="23465" y="7863"/>
                </a:cubicBezTo>
                <a:cubicBezTo>
                  <a:pt x="23521" y="7824"/>
                  <a:pt x="23552" y="7765"/>
                  <a:pt x="23614" y="7739"/>
                </a:cubicBezTo>
                <a:cubicBezTo>
                  <a:pt x="23622" y="7739"/>
                  <a:pt x="23631" y="7739"/>
                  <a:pt x="23639" y="7739"/>
                </a:cubicBezTo>
                <a:cubicBezTo>
                  <a:pt x="23684" y="7785"/>
                  <a:pt x="23688" y="7798"/>
                  <a:pt x="23688" y="7863"/>
                </a:cubicBezTo>
                <a:cubicBezTo>
                  <a:pt x="23688" y="7910"/>
                  <a:pt x="23651" y="8003"/>
                  <a:pt x="23614" y="8037"/>
                </a:cubicBezTo>
                <a:cubicBezTo>
                  <a:pt x="23556" y="8091"/>
                  <a:pt x="23415" y="8115"/>
                  <a:pt x="23341" y="8136"/>
                </a:cubicBezTo>
                <a:cubicBezTo>
                  <a:pt x="23202" y="8171"/>
                  <a:pt x="23129" y="8184"/>
                  <a:pt x="23019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97360" y="3106800"/>
            <a:ext cx="963720" cy="376200"/>
          </a:xfrm>
          <a:custGeom>
            <a:avLst/>
            <a:gdLst/>
            <a:ahLst/>
            <a:rect l="l" t="t" r="r" b="b"/>
            <a:pathLst>
              <a:path w="2680" h="1043">
                <a:moveTo>
                  <a:pt x="15949" y="8954"/>
                </a:moveTo>
                <a:cubicBezTo>
                  <a:pt x="15999" y="8954"/>
                  <a:pt x="16048" y="8954"/>
                  <a:pt x="16098" y="8954"/>
                </a:cubicBezTo>
                <a:cubicBezTo>
                  <a:pt x="16132" y="9056"/>
                  <a:pt x="16124" y="9150"/>
                  <a:pt x="16073" y="9252"/>
                </a:cubicBezTo>
                <a:cubicBezTo>
                  <a:pt x="16034" y="9331"/>
                  <a:pt x="15955" y="9431"/>
                  <a:pt x="15900" y="9500"/>
                </a:cubicBezTo>
                <a:cubicBezTo>
                  <a:pt x="15849" y="9564"/>
                  <a:pt x="15836" y="9597"/>
                  <a:pt x="15825" y="9674"/>
                </a:cubicBezTo>
                <a:cubicBezTo>
                  <a:pt x="15911" y="9674"/>
                  <a:pt x="15913" y="9669"/>
                  <a:pt x="15974" y="9624"/>
                </a:cubicBezTo>
                <a:cubicBezTo>
                  <a:pt x="16047" y="9570"/>
                  <a:pt x="16089" y="9577"/>
                  <a:pt x="16148" y="9500"/>
                </a:cubicBezTo>
                <a:cubicBezTo>
                  <a:pt x="16156" y="9484"/>
                  <a:pt x="16165" y="9467"/>
                  <a:pt x="16173" y="9451"/>
                </a:cubicBezTo>
              </a:path>
              <a:path w="2680" h="1043">
                <a:moveTo>
                  <a:pt x="16247" y="9079"/>
                </a:moveTo>
                <a:cubicBezTo>
                  <a:pt x="16274" y="9145"/>
                  <a:pt x="16288" y="9165"/>
                  <a:pt x="16297" y="9227"/>
                </a:cubicBezTo>
                <a:cubicBezTo>
                  <a:pt x="16287" y="9158"/>
                  <a:pt x="16272" y="9107"/>
                  <a:pt x="16272" y="9029"/>
                </a:cubicBezTo>
                <a:cubicBezTo>
                  <a:pt x="16272" y="8972"/>
                  <a:pt x="16259" y="8890"/>
                  <a:pt x="16321" y="8855"/>
                </a:cubicBezTo>
                <a:cubicBezTo>
                  <a:pt x="16380" y="8822"/>
                  <a:pt x="16421" y="8900"/>
                  <a:pt x="16446" y="8930"/>
                </a:cubicBezTo>
                <a:cubicBezTo>
                  <a:pt x="16487" y="8979"/>
                  <a:pt x="16486" y="9028"/>
                  <a:pt x="16520" y="9079"/>
                </a:cubicBezTo>
                <a:cubicBezTo>
                  <a:pt x="16550" y="9108"/>
                  <a:pt x="16562" y="9122"/>
                  <a:pt x="16570" y="9153"/>
                </a:cubicBezTo>
              </a:path>
              <a:path w="2680" h="1043">
                <a:moveTo>
                  <a:pt x="16619" y="9079"/>
                </a:moveTo>
                <a:cubicBezTo>
                  <a:pt x="16661" y="9173"/>
                  <a:pt x="16645" y="9153"/>
                  <a:pt x="16743" y="9153"/>
                </a:cubicBezTo>
                <a:cubicBezTo>
                  <a:pt x="16753" y="9080"/>
                  <a:pt x="16756" y="9069"/>
                  <a:pt x="16743" y="9004"/>
                </a:cubicBezTo>
                <a:cubicBezTo>
                  <a:pt x="16731" y="8946"/>
                  <a:pt x="16718" y="8861"/>
                  <a:pt x="16694" y="8806"/>
                </a:cubicBezTo>
                <a:cubicBezTo>
                  <a:pt x="16669" y="8748"/>
                  <a:pt x="16649" y="8711"/>
                  <a:pt x="16644" y="8657"/>
                </a:cubicBezTo>
                <a:cubicBezTo>
                  <a:pt x="16644" y="8649"/>
                  <a:pt x="16644" y="8640"/>
                  <a:pt x="16644" y="8632"/>
                </a:cubicBezTo>
                <a:cubicBezTo>
                  <a:pt x="16686" y="8674"/>
                  <a:pt x="16724" y="8701"/>
                  <a:pt x="16768" y="8731"/>
                </a:cubicBezTo>
                <a:cubicBezTo>
                  <a:pt x="16793" y="8748"/>
                  <a:pt x="16817" y="8764"/>
                  <a:pt x="16842" y="8781"/>
                </a:cubicBezTo>
              </a:path>
              <a:path w="2680" h="1043">
                <a:moveTo>
                  <a:pt x="17016" y="9004"/>
                </a:moveTo>
                <a:cubicBezTo>
                  <a:pt x="17022" y="9124"/>
                  <a:pt x="17046" y="9223"/>
                  <a:pt x="17066" y="9327"/>
                </a:cubicBezTo>
                <a:cubicBezTo>
                  <a:pt x="17077" y="9383"/>
                  <a:pt x="17141" y="9501"/>
                  <a:pt x="17090" y="9475"/>
                </a:cubicBezTo>
                <a:cubicBezTo>
                  <a:pt x="17082" y="9467"/>
                  <a:pt x="17074" y="9459"/>
                  <a:pt x="17066" y="9451"/>
                </a:cubicBezTo>
              </a:path>
              <a:path w="2680" h="1043">
                <a:moveTo>
                  <a:pt x="16867" y="9227"/>
                </a:moveTo>
                <a:cubicBezTo>
                  <a:pt x="16939" y="9245"/>
                  <a:pt x="16910" y="9247"/>
                  <a:pt x="16991" y="9227"/>
                </a:cubicBezTo>
                <a:cubicBezTo>
                  <a:pt x="17078" y="9205"/>
                  <a:pt x="17079" y="9250"/>
                  <a:pt x="17140" y="9178"/>
                </a:cubicBezTo>
              </a:path>
              <a:path w="2680" h="1043">
                <a:moveTo>
                  <a:pt x="17338" y="9252"/>
                </a:moveTo>
                <a:cubicBezTo>
                  <a:pt x="17389" y="9252"/>
                  <a:pt x="17397" y="9241"/>
                  <a:pt x="17438" y="9227"/>
                </a:cubicBezTo>
                <a:cubicBezTo>
                  <a:pt x="17462" y="9227"/>
                  <a:pt x="17471" y="9227"/>
                  <a:pt x="17487" y="9227"/>
                </a:cubicBezTo>
                <a:cubicBezTo>
                  <a:pt x="17494" y="9182"/>
                  <a:pt x="17542" y="9112"/>
                  <a:pt x="17487" y="9079"/>
                </a:cubicBezTo>
                <a:cubicBezTo>
                  <a:pt x="17479" y="9079"/>
                  <a:pt x="17470" y="9079"/>
                  <a:pt x="17462" y="9079"/>
                </a:cubicBezTo>
              </a:path>
              <a:path w="2680" h="1043">
                <a:moveTo>
                  <a:pt x="17239" y="9302"/>
                </a:moveTo>
                <a:cubicBezTo>
                  <a:pt x="17220" y="9413"/>
                  <a:pt x="17184" y="9436"/>
                  <a:pt x="17239" y="9475"/>
                </a:cubicBezTo>
                <a:cubicBezTo>
                  <a:pt x="17293" y="9475"/>
                  <a:pt x="17311" y="9464"/>
                  <a:pt x="17363" y="9451"/>
                </a:cubicBezTo>
                <a:cubicBezTo>
                  <a:pt x="17403" y="9451"/>
                  <a:pt x="17422" y="9440"/>
                  <a:pt x="17438" y="9401"/>
                </a:cubicBezTo>
              </a:path>
              <a:path w="2680" h="1043">
                <a:moveTo>
                  <a:pt x="17587" y="9327"/>
                </a:moveTo>
                <a:cubicBezTo>
                  <a:pt x="17599" y="9393"/>
                  <a:pt x="17611" y="9542"/>
                  <a:pt x="17611" y="9475"/>
                </a:cubicBezTo>
                <a:cubicBezTo>
                  <a:pt x="17611" y="9410"/>
                  <a:pt x="17594" y="9353"/>
                  <a:pt x="17587" y="9302"/>
                </a:cubicBezTo>
                <a:cubicBezTo>
                  <a:pt x="17578" y="9239"/>
                  <a:pt x="17583" y="9201"/>
                  <a:pt x="17611" y="9153"/>
                </a:cubicBezTo>
              </a:path>
              <a:path w="2680" h="1043">
                <a:moveTo>
                  <a:pt x="17934" y="9376"/>
                </a:moveTo>
                <a:cubicBezTo>
                  <a:pt x="17934" y="9401"/>
                  <a:pt x="17934" y="9426"/>
                  <a:pt x="17934" y="9451"/>
                </a:cubicBezTo>
                <a:cubicBezTo>
                  <a:pt x="17934" y="9377"/>
                  <a:pt x="17936" y="9322"/>
                  <a:pt x="17959" y="9252"/>
                </a:cubicBezTo>
                <a:cubicBezTo>
                  <a:pt x="17980" y="9187"/>
                  <a:pt x="17979" y="9162"/>
                  <a:pt x="18033" y="9178"/>
                </a:cubicBezTo>
                <a:cubicBezTo>
                  <a:pt x="18053" y="9208"/>
                  <a:pt x="18102" y="9278"/>
                  <a:pt x="18132" y="9302"/>
                </a:cubicBezTo>
                <a:cubicBezTo>
                  <a:pt x="18166" y="9328"/>
                  <a:pt x="18157" y="9304"/>
                  <a:pt x="18157" y="9376"/>
                </a:cubicBezTo>
                <a:cubicBezTo>
                  <a:pt x="18168" y="9376"/>
                  <a:pt x="18171" y="9355"/>
                  <a:pt x="18182" y="9302"/>
                </a:cubicBezTo>
                <a:cubicBezTo>
                  <a:pt x="18194" y="9244"/>
                  <a:pt x="18201" y="9204"/>
                  <a:pt x="18231" y="9153"/>
                </a:cubicBezTo>
                <a:cubicBezTo>
                  <a:pt x="18287" y="9164"/>
                  <a:pt x="18345" y="9208"/>
                  <a:pt x="18380" y="9252"/>
                </a:cubicBezTo>
                <a:cubicBezTo>
                  <a:pt x="18414" y="9295"/>
                  <a:pt x="18431" y="9369"/>
                  <a:pt x="18479" y="9401"/>
                </a:cubicBezTo>
                <a:cubicBezTo>
                  <a:pt x="18487" y="9401"/>
                  <a:pt x="18496" y="9401"/>
                  <a:pt x="18504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187800"/>
            <a:ext cx="108000" cy="6336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19248" y="8855"/>
                </a:moveTo>
                <a:cubicBezTo>
                  <a:pt x="19256" y="8905"/>
                  <a:pt x="19265" y="8954"/>
                  <a:pt x="19273" y="9004"/>
                </a:cubicBezTo>
              </a:path>
              <a:path w="299" h="175">
                <a:moveTo>
                  <a:pt x="19521" y="8930"/>
                </a:moveTo>
                <a:cubicBezTo>
                  <a:pt x="19540" y="8987"/>
                  <a:pt x="19549" y="8994"/>
                  <a:pt x="19546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91240" y="3197160"/>
            <a:ext cx="1054440" cy="258840"/>
          </a:xfrm>
          <a:custGeom>
            <a:avLst/>
            <a:gdLst/>
            <a:ahLst/>
            <a:rect l="l" t="t" r="r" b="b"/>
            <a:pathLst>
              <a:path w="2928" h="720">
                <a:moveTo>
                  <a:pt x="20836" y="9227"/>
                </a:moveTo>
                <a:cubicBezTo>
                  <a:pt x="20836" y="9318"/>
                  <a:pt x="20867" y="9547"/>
                  <a:pt x="20811" y="9475"/>
                </a:cubicBezTo>
                <a:cubicBezTo>
                  <a:pt x="20811" y="9467"/>
                  <a:pt x="20811" y="9459"/>
                  <a:pt x="20811" y="9451"/>
                </a:cubicBezTo>
              </a:path>
              <a:path w="2928" h="720">
                <a:moveTo>
                  <a:pt x="20811" y="8930"/>
                </a:moveTo>
                <a:cubicBezTo>
                  <a:pt x="20811" y="8913"/>
                  <a:pt x="20811" y="8897"/>
                  <a:pt x="20811" y="8880"/>
                </a:cubicBezTo>
              </a:path>
              <a:path w="2928" h="720">
                <a:moveTo>
                  <a:pt x="21034" y="9252"/>
                </a:moveTo>
                <a:cubicBezTo>
                  <a:pt x="21034" y="9368"/>
                  <a:pt x="21034" y="9385"/>
                  <a:pt x="21034" y="9451"/>
                </a:cubicBezTo>
                <a:cubicBezTo>
                  <a:pt x="21003" y="9419"/>
                  <a:pt x="21008" y="9313"/>
                  <a:pt x="21034" y="9252"/>
                </a:cubicBezTo>
                <a:cubicBezTo>
                  <a:pt x="21051" y="9211"/>
                  <a:pt x="21128" y="9142"/>
                  <a:pt x="21158" y="9103"/>
                </a:cubicBezTo>
                <a:cubicBezTo>
                  <a:pt x="21216" y="9026"/>
                  <a:pt x="21300" y="9135"/>
                  <a:pt x="21332" y="9178"/>
                </a:cubicBezTo>
                <a:cubicBezTo>
                  <a:pt x="21382" y="9245"/>
                  <a:pt x="21382" y="9323"/>
                  <a:pt x="21382" y="9401"/>
                </a:cubicBezTo>
                <a:cubicBezTo>
                  <a:pt x="21382" y="9484"/>
                  <a:pt x="21397" y="9455"/>
                  <a:pt x="21406" y="9401"/>
                </a:cubicBezTo>
              </a:path>
              <a:path w="2928" h="720">
                <a:moveTo>
                  <a:pt x="21704" y="9079"/>
                </a:moveTo>
                <a:cubicBezTo>
                  <a:pt x="21655" y="9095"/>
                  <a:pt x="21629" y="9184"/>
                  <a:pt x="21580" y="9227"/>
                </a:cubicBezTo>
                <a:cubicBezTo>
                  <a:pt x="21528" y="9273"/>
                  <a:pt x="21474" y="9328"/>
                  <a:pt x="21456" y="9401"/>
                </a:cubicBezTo>
                <a:cubicBezTo>
                  <a:pt x="21456" y="9418"/>
                  <a:pt x="21456" y="9434"/>
                  <a:pt x="21456" y="9451"/>
                </a:cubicBezTo>
                <a:cubicBezTo>
                  <a:pt x="21539" y="9451"/>
                  <a:pt x="21621" y="9451"/>
                  <a:pt x="21704" y="9451"/>
                </a:cubicBezTo>
              </a:path>
              <a:path w="2928" h="720">
                <a:moveTo>
                  <a:pt x="21878" y="9227"/>
                </a:moveTo>
                <a:cubicBezTo>
                  <a:pt x="21878" y="9318"/>
                  <a:pt x="21878" y="9542"/>
                  <a:pt x="21878" y="9451"/>
                </a:cubicBezTo>
                <a:cubicBezTo>
                  <a:pt x="21878" y="9381"/>
                  <a:pt x="21901" y="9293"/>
                  <a:pt x="21927" y="9227"/>
                </a:cubicBezTo>
                <a:cubicBezTo>
                  <a:pt x="21947" y="9177"/>
                  <a:pt x="21989" y="9122"/>
                  <a:pt x="22027" y="9103"/>
                </a:cubicBezTo>
              </a:path>
              <a:path w="2928" h="720">
                <a:moveTo>
                  <a:pt x="22076" y="9401"/>
                </a:moveTo>
                <a:cubicBezTo>
                  <a:pt x="22129" y="9401"/>
                  <a:pt x="22156" y="9379"/>
                  <a:pt x="22200" y="9376"/>
                </a:cubicBezTo>
                <a:cubicBezTo>
                  <a:pt x="22297" y="9369"/>
                  <a:pt x="22267" y="9316"/>
                  <a:pt x="22299" y="9252"/>
                </a:cubicBezTo>
                <a:cubicBezTo>
                  <a:pt x="22318" y="9214"/>
                  <a:pt x="22324" y="9201"/>
                  <a:pt x="22324" y="9153"/>
                </a:cubicBezTo>
                <a:cubicBezTo>
                  <a:pt x="22263" y="9153"/>
                  <a:pt x="22250" y="9194"/>
                  <a:pt x="22225" y="9227"/>
                </a:cubicBezTo>
                <a:cubicBezTo>
                  <a:pt x="22175" y="9291"/>
                  <a:pt x="22132" y="9375"/>
                  <a:pt x="22126" y="9451"/>
                </a:cubicBezTo>
                <a:cubicBezTo>
                  <a:pt x="22121" y="9509"/>
                  <a:pt x="22152" y="9554"/>
                  <a:pt x="22225" y="9550"/>
                </a:cubicBezTo>
                <a:cubicBezTo>
                  <a:pt x="22242" y="9542"/>
                  <a:pt x="22258" y="9533"/>
                  <a:pt x="22275" y="9525"/>
                </a:cubicBezTo>
              </a:path>
              <a:path w="2928" h="720">
                <a:moveTo>
                  <a:pt x="22547" y="9252"/>
                </a:moveTo>
                <a:cubicBezTo>
                  <a:pt x="22499" y="9329"/>
                  <a:pt x="22463" y="9385"/>
                  <a:pt x="22448" y="9475"/>
                </a:cubicBezTo>
                <a:cubicBezTo>
                  <a:pt x="22502" y="9475"/>
                  <a:pt x="22520" y="9464"/>
                  <a:pt x="22572" y="9451"/>
                </a:cubicBezTo>
                <a:cubicBezTo>
                  <a:pt x="22639" y="9435"/>
                  <a:pt x="22606" y="9411"/>
                  <a:pt x="22647" y="9376"/>
                </a:cubicBezTo>
                <a:cubicBezTo>
                  <a:pt x="22673" y="9354"/>
                  <a:pt x="22692" y="9312"/>
                  <a:pt x="22721" y="9302"/>
                </a:cubicBezTo>
                <a:cubicBezTo>
                  <a:pt x="22721" y="9346"/>
                  <a:pt x="22707" y="9417"/>
                  <a:pt x="22746" y="9451"/>
                </a:cubicBezTo>
                <a:cubicBezTo>
                  <a:pt x="22754" y="9458"/>
                  <a:pt x="22808" y="9451"/>
                  <a:pt x="22820" y="9451"/>
                </a:cubicBezTo>
              </a:path>
              <a:path w="2928" h="720">
                <a:moveTo>
                  <a:pt x="23044" y="9401"/>
                </a:moveTo>
                <a:cubicBezTo>
                  <a:pt x="23021" y="9459"/>
                  <a:pt x="22994" y="9492"/>
                  <a:pt x="22994" y="9550"/>
                </a:cubicBezTo>
                <a:cubicBezTo>
                  <a:pt x="23004" y="9521"/>
                  <a:pt x="23036" y="9507"/>
                  <a:pt x="23068" y="9475"/>
                </a:cubicBezTo>
                <a:cubicBezTo>
                  <a:pt x="23117" y="9426"/>
                  <a:pt x="23153" y="9379"/>
                  <a:pt x="23217" y="9327"/>
                </a:cubicBezTo>
                <a:cubicBezTo>
                  <a:pt x="23276" y="9278"/>
                  <a:pt x="23310" y="9258"/>
                  <a:pt x="23316" y="9178"/>
                </a:cubicBezTo>
                <a:cubicBezTo>
                  <a:pt x="23316" y="9170"/>
                  <a:pt x="23316" y="9161"/>
                  <a:pt x="23316" y="9153"/>
                </a:cubicBezTo>
                <a:cubicBezTo>
                  <a:pt x="23262" y="9164"/>
                  <a:pt x="23208" y="9199"/>
                  <a:pt x="23168" y="9227"/>
                </a:cubicBezTo>
                <a:cubicBezTo>
                  <a:pt x="23118" y="9262"/>
                  <a:pt x="23101" y="9324"/>
                  <a:pt x="23093" y="9376"/>
                </a:cubicBezTo>
                <a:cubicBezTo>
                  <a:pt x="23132" y="9386"/>
                  <a:pt x="23148" y="9401"/>
                  <a:pt x="23192" y="9401"/>
                </a:cubicBezTo>
                <a:cubicBezTo>
                  <a:pt x="23343" y="9401"/>
                  <a:pt x="23364" y="9352"/>
                  <a:pt x="23515" y="9302"/>
                </a:cubicBezTo>
                <a:cubicBezTo>
                  <a:pt x="23575" y="9282"/>
                  <a:pt x="23582" y="9268"/>
                  <a:pt x="23639" y="9227"/>
                </a:cubicBezTo>
                <a:cubicBezTo>
                  <a:pt x="23705" y="9237"/>
                  <a:pt x="23733" y="9249"/>
                  <a:pt x="23738" y="9327"/>
                </a:cubicBezTo>
                <a:cubicBezTo>
                  <a:pt x="23742" y="9381"/>
                  <a:pt x="23709" y="9435"/>
                  <a:pt x="23664" y="9451"/>
                </a:cubicBezTo>
                <a:cubicBezTo>
                  <a:pt x="23569" y="9485"/>
                  <a:pt x="23487" y="9501"/>
                  <a:pt x="23391" y="9525"/>
                </a:cubicBezTo>
                <a:cubicBezTo>
                  <a:pt x="23243" y="9562"/>
                  <a:pt x="23095" y="9584"/>
                  <a:pt x="22944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9800" y="3679920"/>
            <a:ext cx="1108080" cy="507960"/>
          </a:xfrm>
          <a:custGeom>
            <a:avLst/>
            <a:gdLst/>
            <a:ahLst/>
            <a:rect l="l" t="t" r="r" b="b"/>
            <a:pathLst>
              <a:path w="3077" h="1414">
                <a:moveTo>
                  <a:pt x="18728" y="10443"/>
                </a:moveTo>
                <a:cubicBezTo>
                  <a:pt x="18728" y="10530"/>
                  <a:pt x="18737" y="10611"/>
                  <a:pt x="18703" y="10691"/>
                </a:cubicBezTo>
                <a:cubicBezTo>
                  <a:pt x="18682" y="10740"/>
                  <a:pt x="18678" y="10773"/>
                  <a:pt x="18653" y="10815"/>
                </a:cubicBezTo>
                <a:cubicBezTo>
                  <a:pt x="18678" y="10848"/>
                  <a:pt x="18686" y="10875"/>
                  <a:pt x="18728" y="10889"/>
                </a:cubicBezTo>
                <a:cubicBezTo>
                  <a:pt x="18770" y="10903"/>
                  <a:pt x="18893" y="10899"/>
                  <a:pt x="18926" y="10864"/>
                </a:cubicBezTo>
                <a:cubicBezTo>
                  <a:pt x="18934" y="10848"/>
                  <a:pt x="18943" y="10831"/>
                  <a:pt x="18951" y="10815"/>
                </a:cubicBezTo>
              </a:path>
              <a:path w="3077" h="1414">
                <a:moveTo>
                  <a:pt x="18876" y="10418"/>
                </a:moveTo>
                <a:cubicBezTo>
                  <a:pt x="18863" y="10591"/>
                  <a:pt x="18824" y="10831"/>
                  <a:pt x="18852" y="11013"/>
                </a:cubicBezTo>
                <a:cubicBezTo>
                  <a:pt x="18863" y="11081"/>
                  <a:pt x="18880" y="11174"/>
                  <a:pt x="18901" y="11237"/>
                </a:cubicBezTo>
                <a:cubicBezTo>
                  <a:pt x="18907" y="11256"/>
                  <a:pt x="18926" y="11366"/>
                  <a:pt x="18926" y="11311"/>
                </a:cubicBezTo>
                <a:cubicBezTo>
                  <a:pt x="18926" y="11303"/>
                  <a:pt x="18926" y="11294"/>
                  <a:pt x="18926" y="11286"/>
                </a:cubicBezTo>
              </a:path>
              <a:path w="3077" h="1414">
                <a:moveTo>
                  <a:pt x="18827" y="10294"/>
                </a:moveTo>
                <a:cubicBezTo>
                  <a:pt x="18716" y="10170"/>
                  <a:pt x="18796" y="10230"/>
                  <a:pt x="18678" y="10269"/>
                </a:cubicBezTo>
                <a:cubicBezTo>
                  <a:pt x="18570" y="10304"/>
                  <a:pt x="18540" y="10414"/>
                  <a:pt x="18479" y="10517"/>
                </a:cubicBezTo>
                <a:cubicBezTo>
                  <a:pt x="18377" y="10688"/>
                  <a:pt x="18362" y="10895"/>
                  <a:pt x="18331" y="11088"/>
                </a:cubicBezTo>
                <a:cubicBezTo>
                  <a:pt x="18304" y="11254"/>
                  <a:pt x="18334" y="11356"/>
                  <a:pt x="18405" y="11509"/>
                </a:cubicBezTo>
                <a:cubicBezTo>
                  <a:pt x="18450" y="11607"/>
                  <a:pt x="18531" y="11629"/>
                  <a:pt x="18628" y="11633"/>
                </a:cubicBezTo>
                <a:cubicBezTo>
                  <a:pt x="18715" y="11637"/>
                  <a:pt x="18797" y="11601"/>
                  <a:pt x="18852" y="11534"/>
                </a:cubicBezTo>
                <a:cubicBezTo>
                  <a:pt x="18939" y="11428"/>
                  <a:pt x="18972" y="11319"/>
                  <a:pt x="18976" y="11187"/>
                </a:cubicBezTo>
                <a:cubicBezTo>
                  <a:pt x="18980" y="11050"/>
                  <a:pt x="19000" y="10928"/>
                  <a:pt x="18976" y="10790"/>
                </a:cubicBezTo>
                <a:cubicBezTo>
                  <a:pt x="18956" y="10680"/>
                  <a:pt x="18881" y="10590"/>
                  <a:pt x="18827" y="10492"/>
                </a:cubicBezTo>
                <a:cubicBezTo>
                  <a:pt x="18785" y="10415"/>
                  <a:pt x="18768" y="10455"/>
                  <a:pt x="18728" y="10418"/>
                </a:cubicBezTo>
                <a:cubicBezTo>
                  <a:pt x="18720" y="10401"/>
                  <a:pt x="18711" y="10385"/>
                  <a:pt x="18703" y="10368"/>
                </a:cubicBezTo>
              </a:path>
              <a:path w="3077" h="1414">
                <a:moveTo>
                  <a:pt x="19670" y="10914"/>
                </a:moveTo>
                <a:cubicBezTo>
                  <a:pt x="19622" y="10904"/>
                  <a:pt x="19586" y="10877"/>
                  <a:pt x="19546" y="10864"/>
                </a:cubicBezTo>
                <a:cubicBezTo>
                  <a:pt x="19513" y="10853"/>
                  <a:pt x="19479" y="10848"/>
                  <a:pt x="19447" y="10840"/>
                </a:cubicBezTo>
                <a:cubicBezTo>
                  <a:pt x="19410" y="10887"/>
                  <a:pt x="19399" y="10927"/>
                  <a:pt x="19372" y="10988"/>
                </a:cubicBezTo>
                <a:cubicBezTo>
                  <a:pt x="19336" y="11069"/>
                  <a:pt x="19326" y="11172"/>
                  <a:pt x="19323" y="11261"/>
                </a:cubicBezTo>
                <a:cubicBezTo>
                  <a:pt x="19321" y="11324"/>
                  <a:pt x="19346" y="11438"/>
                  <a:pt x="19397" y="11485"/>
                </a:cubicBezTo>
                <a:cubicBezTo>
                  <a:pt x="19442" y="11526"/>
                  <a:pt x="19537" y="11551"/>
                  <a:pt x="19596" y="11534"/>
                </a:cubicBezTo>
                <a:cubicBezTo>
                  <a:pt x="19676" y="11511"/>
                  <a:pt x="19735" y="11439"/>
                  <a:pt x="19794" y="11385"/>
                </a:cubicBezTo>
              </a:path>
              <a:path w="3077" h="1414">
                <a:moveTo>
                  <a:pt x="19918" y="11286"/>
                </a:moveTo>
                <a:cubicBezTo>
                  <a:pt x="19918" y="11323"/>
                  <a:pt x="19884" y="11542"/>
                  <a:pt x="19993" y="11534"/>
                </a:cubicBezTo>
                <a:cubicBezTo>
                  <a:pt x="20055" y="11530"/>
                  <a:pt x="20130" y="11481"/>
                  <a:pt x="20166" y="11435"/>
                </a:cubicBezTo>
                <a:cubicBezTo>
                  <a:pt x="20215" y="11374"/>
                  <a:pt x="20216" y="11310"/>
                  <a:pt x="20216" y="11237"/>
                </a:cubicBezTo>
                <a:cubicBezTo>
                  <a:pt x="20216" y="11166"/>
                  <a:pt x="20217" y="11138"/>
                  <a:pt x="20141" y="11112"/>
                </a:cubicBezTo>
                <a:cubicBezTo>
                  <a:pt x="20071" y="11088"/>
                  <a:pt x="20028" y="11149"/>
                  <a:pt x="19968" y="11162"/>
                </a:cubicBezTo>
                <a:cubicBezTo>
                  <a:pt x="19951" y="11162"/>
                  <a:pt x="19935" y="11162"/>
                  <a:pt x="19918" y="11162"/>
                </a:cubicBezTo>
              </a:path>
              <a:path w="3077" h="1414">
                <a:moveTo>
                  <a:pt x="20389" y="11237"/>
                </a:moveTo>
                <a:cubicBezTo>
                  <a:pt x="20450" y="11222"/>
                  <a:pt x="20578" y="11215"/>
                  <a:pt x="20613" y="11137"/>
                </a:cubicBezTo>
                <a:cubicBezTo>
                  <a:pt x="20638" y="11080"/>
                  <a:pt x="20630" y="11069"/>
                  <a:pt x="20613" y="11013"/>
                </a:cubicBezTo>
                <a:cubicBezTo>
                  <a:pt x="20603" y="10979"/>
                  <a:pt x="20599" y="10990"/>
                  <a:pt x="20563" y="10964"/>
                </a:cubicBezTo>
                <a:cubicBezTo>
                  <a:pt x="20495" y="11012"/>
                  <a:pt x="20432" y="11098"/>
                  <a:pt x="20414" y="11187"/>
                </a:cubicBezTo>
                <a:cubicBezTo>
                  <a:pt x="20394" y="11285"/>
                  <a:pt x="20374" y="11392"/>
                  <a:pt x="20414" y="11485"/>
                </a:cubicBezTo>
                <a:cubicBezTo>
                  <a:pt x="20441" y="11547"/>
                  <a:pt x="20542" y="11583"/>
                  <a:pt x="20613" y="11559"/>
                </a:cubicBezTo>
                <a:cubicBezTo>
                  <a:pt x="20685" y="11535"/>
                  <a:pt x="20756" y="11459"/>
                  <a:pt x="20811" y="11410"/>
                </a:cubicBezTo>
              </a:path>
              <a:path w="3077" h="1414">
                <a:moveTo>
                  <a:pt x="21109" y="10592"/>
                </a:moveTo>
                <a:cubicBezTo>
                  <a:pt x="21008" y="10646"/>
                  <a:pt x="20959" y="10668"/>
                  <a:pt x="20886" y="10765"/>
                </a:cubicBezTo>
                <a:cubicBezTo>
                  <a:pt x="20805" y="10874"/>
                  <a:pt x="20799" y="11010"/>
                  <a:pt x="20762" y="11137"/>
                </a:cubicBezTo>
                <a:cubicBezTo>
                  <a:pt x="20734" y="11233"/>
                  <a:pt x="20755" y="11316"/>
                  <a:pt x="20786" y="11410"/>
                </a:cubicBezTo>
                <a:cubicBezTo>
                  <a:pt x="20795" y="11438"/>
                  <a:pt x="20865" y="11548"/>
                  <a:pt x="20836" y="11509"/>
                </a:cubicBezTo>
                <a:cubicBezTo>
                  <a:pt x="20828" y="11501"/>
                  <a:pt x="20819" y="11493"/>
                  <a:pt x="20811" y="11485"/>
                </a:cubicBezTo>
              </a:path>
              <a:path w="3077" h="1414">
                <a:moveTo>
                  <a:pt x="20613" y="11336"/>
                </a:moveTo>
                <a:cubicBezTo>
                  <a:pt x="20709" y="11372"/>
                  <a:pt x="20719" y="11345"/>
                  <a:pt x="20811" y="11311"/>
                </a:cubicBezTo>
                <a:cubicBezTo>
                  <a:pt x="20956" y="11257"/>
                  <a:pt x="21055" y="11197"/>
                  <a:pt x="21183" y="11112"/>
                </a:cubicBezTo>
                <a:cubicBezTo>
                  <a:pt x="21208" y="11096"/>
                  <a:pt x="21233" y="11079"/>
                  <a:pt x="21258" y="11063"/>
                </a:cubicBezTo>
              </a:path>
              <a:path w="3077" h="1414">
                <a:moveTo>
                  <a:pt x="21332" y="10691"/>
                </a:moveTo>
                <a:cubicBezTo>
                  <a:pt x="21244" y="10866"/>
                  <a:pt x="21187" y="11003"/>
                  <a:pt x="21134" y="11187"/>
                </a:cubicBezTo>
                <a:cubicBezTo>
                  <a:pt x="21106" y="11284"/>
                  <a:pt x="21118" y="11329"/>
                  <a:pt x="21134" y="11410"/>
                </a:cubicBezTo>
                <a:cubicBezTo>
                  <a:pt x="21143" y="11456"/>
                  <a:pt x="21153" y="11510"/>
                  <a:pt x="21208" y="11534"/>
                </a:cubicBezTo>
                <a:cubicBezTo>
                  <a:pt x="21236" y="11534"/>
                  <a:pt x="21247" y="11532"/>
                  <a:pt x="21258" y="11509"/>
                </a:cubicBezTo>
              </a:path>
              <a:path w="3077" h="1414">
                <a:moveTo>
                  <a:pt x="21010" y="11311"/>
                </a:moveTo>
                <a:cubicBezTo>
                  <a:pt x="21100" y="11285"/>
                  <a:pt x="21193" y="11251"/>
                  <a:pt x="21282" y="11237"/>
                </a:cubicBezTo>
                <a:cubicBezTo>
                  <a:pt x="21334" y="11237"/>
                  <a:pt x="21352" y="11236"/>
                  <a:pt x="21382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12080" y="391968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22324" y="10889"/>
                </a:moveTo>
                <a:cubicBezTo>
                  <a:pt x="22271" y="10902"/>
                  <a:pt x="22202" y="10959"/>
                  <a:pt x="22151" y="10988"/>
                </a:cubicBezTo>
                <a:cubicBezTo>
                  <a:pt x="22111" y="11011"/>
                  <a:pt x="22000" y="11062"/>
                  <a:pt x="21977" y="11112"/>
                </a:cubicBezTo>
                <a:cubicBezTo>
                  <a:pt x="21957" y="11156"/>
                  <a:pt x="22052" y="11199"/>
                  <a:pt x="22076" y="11212"/>
                </a:cubicBezTo>
                <a:cubicBezTo>
                  <a:pt x="22151" y="11252"/>
                  <a:pt x="22213" y="11277"/>
                  <a:pt x="22275" y="11336"/>
                </a:cubicBezTo>
                <a:cubicBezTo>
                  <a:pt x="22309" y="11367"/>
                  <a:pt x="22316" y="11431"/>
                  <a:pt x="22275" y="11460"/>
                </a:cubicBezTo>
                <a:cubicBezTo>
                  <a:pt x="22217" y="11501"/>
                  <a:pt x="22144" y="11529"/>
                  <a:pt x="22076" y="11534"/>
                </a:cubicBezTo>
                <a:cubicBezTo>
                  <a:pt x="22040" y="11537"/>
                  <a:pt x="22026" y="11509"/>
                  <a:pt x="22002" y="11485"/>
                </a:cubicBezTo>
              </a:path>
              <a:path w="2432" h="1142">
                <a:moveTo>
                  <a:pt x="22399" y="11137"/>
                </a:moveTo>
                <a:cubicBezTo>
                  <a:pt x="22430" y="11227"/>
                  <a:pt x="22451" y="11379"/>
                  <a:pt x="22498" y="11460"/>
                </a:cubicBezTo>
                <a:cubicBezTo>
                  <a:pt x="22543" y="11539"/>
                  <a:pt x="22583" y="11457"/>
                  <a:pt x="22597" y="11435"/>
                </a:cubicBezTo>
                <a:cubicBezTo>
                  <a:pt x="22605" y="11427"/>
                  <a:pt x="22614" y="11418"/>
                  <a:pt x="22622" y="11410"/>
                </a:cubicBezTo>
              </a:path>
              <a:path w="2432" h="1142">
                <a:moveTo>
                  <a:pt x="22647" y="11063"/>
                </a:moveTo>
                <a:cubicBezTo>
                  <a:pt x="22647" y="11171"/>
                  <a:pt x="22640" y="11280"/>
                  <a:pt x="22622" y="11385"/>
                </a:cubicBezTo>
                <a:cubicBezTo>
                  <a:pt x="22598" y="11524"/>
                  <a:pt x="22577" y="11665"/>
                  <a:pt x="22572" y="11807"/>
                </a:cubicBezTo>
                <a:cubicBezTo>
                  <a:pt x="22570" y="11866"/>
                  <a:pt x="22544" y="12040"/>
                  <a:pt x="22597" y="12005"/>
                </a:cubicBezTo>
              </a:path>
              <a:path w="2432" h="1142">
                <a:moveTo>
                  <a:pt x="22820" y="11361"/>
                </a:moveTo>
                <a:cubicBezTo>
                  <a:pt x="22835" y="11461"/>
                  <a:pt x="22845" y="11536"/>
                  <a:pt x="22845" y="11633"/>
                </a:cubicBezTo>
                <a:cubicBezTo>
                  <a:pt x="22878" y="11590"/>
                  <a:pt x="22870" y="11567"/>
                  <a:pt x="22870" y="11509"/>
                </a:cubicBezTo>
                <a:cubicBezTo>
                  <a:pt x="22870" y="11443"/>
                  <a:pt x="22906" y="11367"/>
                  <a:pt x="22944" y="11311"/>
                </a:cubicBezTo>
                <a:cubicBezTo>
                  <a:pt x="22966" y="11279"/>
                  <a:pt x="22987" y="11269"/>
                  <a:pt x="23019" y="11261"/>
                </a:cubicBezTo>
                <a:cubicBezTo>
                  <a:pt x="23056" y="11308"/>
                  <a:pt x="23087" y="11376"/>
                  <a:pt x="23093" y="11435"/>
                </a:cubicBezTo>
                <a:cubicBezTo>
                  <a:pt x="23093" y="11509"/>
                  <a:pt x="23093" y="11518"/>
                  <a:pt x="23093" y="11559"/>
                </a:cubicBezTo>
                <a:cubicBezTo>
                  <a:pt x="23129" y="11510"/>
                  <a:pt x="23108" y="11466"/>
                  <a:pt x="23143" y="11410"/>
                </a:cubicBezTo>
                <a:cubicBezTo>
                  <a:pt x="23151" y="11402"/>
                  <a:pt x="23160" y="11393"/>
                  <a:pt x="23168" y="11385"/>
                </a:cubicBezTo>
                <a:cubicBezTo>
                  <a:pt x="23218" y="11435"/>
                  <a:pt x="23265" y="11475"/>
                  <a:pt x="23316" y="11509"/>
                </a:cubicBezTo>
                <a:cubicBezTo>
                  <a:pt x="23365" y="11542"/>
                  <a:pt x="23367" y="11539"/>
                  <a:pt x="23416" y="11509"/>
                </a:cubicBezTo>
              </a:path>
              <a:path w="2432" h="1142">
                <a:moveTo>
                  <a:pt x="23614" y="11509"/>
                </a:moveTo>
                <a:cubicBezTo>
                  <a:pt x="23614" y="11617"/>
                  <a:pt x="23573" y="11666"/>
                  <a:pt x="23639" y="11658"/>
                </a:cubicBezTo>
                <a:cubicBezTo>
                  <a:pt x="23650" y="11604"/>
                  <a:pt x="23650" y="11538"/>
                  <a:pt x="23664" y="11485"/>
                </a:cubicBezTo>
                <a:cubicBezTo>
                  <a:pt x="23671" y="11459"/>
                  <a:pt x="23721" y="11347"/>
                  <a:pt x="23738" y="11336"/>
                </a:cubicBezTo>
                <a:cubicBezTo>
                  <a:pt x="23746" y="11336"/>
                  <a:pt x="23755" y="11336"/>
                  <a:pt x="23763" y="11336"/>
                </a:cubicBezTo>
                <a:cubicBezTo>
                  <a:pt x="23806" y="11379"/>
                  <a:pt x="23827" y="11424"/>
                  <a:pt x="23837" y="11485"/>
                </a:cubicBezTo>
                <a:cubicBezTo>
                  <a:pt x="23848" y="11549"/>
                  <a:pt x="23852" y="11625"/>
                  <a:pt x="23887" y="11683"/>
                </a:cubicBezTo>
                <a:cubicBezTo>
                  <a:pt x="23923" y="11741"/>
                  <a:pt x="23977" y="11689"/>
                  <a:pt x="24011" y="11658"/>
                </a:cubicBezTo>
                <a:cubicBezTo>
                  <a:pt x="24057" y="11616"/>
                  <a:pt x="24062" y="11558"/>
                  <a:pt x="24110" y="11534"/>
                </a:cubicBezTo>
                <a:cubicBezTo>
                  <a:pt x="24150" y="11554"/>
                  <a:pt x="24181" y="11611"/>
                  <a:pt x="24209" y="11658"/>
                </a:cubicBezTo>
                <a:cubicBezTo>
                  <a:pt x="24235" y="11703"/>
                  <a:pt x="24263" y="11752"/>
                  <a:pt x="24309" y="11782"/>
                </a:cubicBezTo>
                <a:cubicBezTo>
                  <a:pt x="24351" y="11809"/>
                  <a:pt x="24364" y="11807"/>
                  <a:pt x="24408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82296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things to not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ach expansion there are n+1 te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ach expansion, x and y have symmetric roles.  The powers of x decrease by 1 in successive terms, whereas the powers of y increase by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m of the powers of each term is n.  For instance, in the expansion of (x+y)5, the sum o f the powers of each term is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efficients increase and then decrease in a symmetric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File:Pascal's triangle 5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04920"/>
            <a:ext cx="8077320" cy="5817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33640" y="534960"/>
            <a:ext cx="1152360" cy="679320"/>
          </a:xfrm>
          <a:custGeom>
            <a:avLst/>
            <a:gdLst/>
            <a:ahLst/>
            <a:rect l="l" t="t" r="r" b="b"/>
            <a:pathLst>
              <a:path w="3201" h="1886">
                <a:moveTo>
                  <a:pt x="3621" y="1811"/>
                </a:moveTo>
                <a:cubicBezTo>
                  <a:pt x="3629" y="1803"/>
                  <a:pt x="3638" y="1794"/>
                  <a:pt x="3646" y="1786"/>
                </a:cubicBezTo>
                <a:cubicBezTo>
                  <a:pt x="3631" y="1801"/>
                  <a:pt x="3594" y="1826"/>
                  <a:pt x="3572" y="1860"/>
                </a:cubicBezTo>
                <a:cubicBezTo>
                  <a:pt x="3519" y="1941"/>
                  <a:pt x="3462" y="2033"/>
                  <a:pt x="3398" y="2108"/>
                </a:cubicBezTo>
                <a:cubicBezTo>
                  <a:pt x="3299" y="2224"/>
                  <a:pt x="3246" y="2354"/>
                  <a:pt x="3200" y="2505"/>
                </a:cubicBezTo>
                <a:cubicBezTo>
                  <a:pt x="3165" y="2619"/>
                  <a:pt x="3150" y="2710"/>
                  <a:pt x="3150" y="2828"/>
                </a:cubicBezTo>
                <a:cubicBezTo>
                  <a:pt x="3150" y="2928"/>
                  <a:pt x="3151" y="2969"/>
                  <a:pt x="3200" y="3051"/>
                </a:cubicBezTo>
                <a:cubicBezTo>
                  <a:pt x="3224" y="3091"/>
                  <a:pt x="3247" y="3125"/>
                  <a:pt x="3299" y="3125"/>
                </a:cubicBezTo>
                <a:cubicBezTo>
                  <a:pt x="3364" y="3125"/>
                  <a:pt x="3366" y="3096"/>
                  <a:pt x="3398" y="3051"/>
                </a:cubicBezTo>
              </a:path>
              <a:path w="3201" h="1886">
                <a:moveTo>
                  <a:pt x="3696" y="2381"/>
                </a:moveTo>
                <a:cubicBezTo>
                  <a:pt x="3748" y="2463"/>
                  <a:pt x="3767" y="2519"/>
                  <a:pt x="3795" y="2604"/>
                </a:cubicBezTo>
                <a:cubicBezTo>
                  <a:pt x="3819" y="2674"/>
                  <a:pt x="3836" y="2734"/>
                  <a:pt x="3870" y="2803"/>
                </a:cubicBezTo>
                <a:cubicBezTo>
                  <a:pt x="3893" y="2851"/>
                  <a:pt x="3921" y="2886"/>
                  <a:pt x="3969" y="2902"/>
                </a:cubicBezTo>
                <a:cubicBezTo>
                  <a:pt x="4009" y="2915"/>
                  <a:pt x="3994" y="2876"/>
                  <a:pt x="3994" y="2853"/>
                </a:cubicBezTo>
              </a:path>
              <a:path w="3201" h="1886">
                <a:moveTo>
                  <a:pt x="3969" y="2356"/>
                </a:moveTo>
                <a:cubicBezTo>
                  <a:pt x="3921" y="2447"/>
                  <a:pt x="3880" y="2572"/>
                  <a:pt x="3820" y="2654"/>
                </a:cubicBezTo>
                <a:cubicBezTo>
                  <a:pt x="3773" y="2718"/>
                  <a:pt x="3742" y="2788"/>
                  <a:pt x="3696" y="2853"/>
                </a:cubicBezTo>
                <a:cubicBezTo>
                  <a:pt x="3673" y="2875"/>
                  <a:pt x="3665" y="2880"/>
                  <a:pt x="3671" y="2902"/>
                </a:cubicBezTo>
              </a:path>
              <a:path w="3201" h="1886">
                <a:moveTo>
                  <a:pt x="4341" y="2356"/>
                </a:moveTo>
                <a:cubicBezTo>
                  <a:pt x="4347" y="2462"/>
                  <a:pt x="4366" y="2548"/>
                  <a:pt x="4366" y="2654"/>
                </a:cubicBezTo>
                <a:cubicBezTo>
                  <a:pt x="4366" y="2724"/>
                  <a:pt x="4420" y="2790"/>
                  <a:pt x="4390" y="2853"/>
                </a:cubicBezTo>
                <a:cubicBezTo>
                  <a:pt x="4362" y="2853"/>
                  <a:pt x="4352" y="2850"/>
                  <a:pt x="4341" y="2828"/>
                </a:cubicBezTo>
              </a:path>
              <a:path w="3201" h="1886">
                <a:moveTo>
                  <a:pt x="4242" y="2580"/>
                </a:moveTo>
                <a:cubicBezTo>
                  <a:pt x="4357" y="2594"/>
                  <a:pt x="4401" y="2580"/>
                  <a:pt x="4514" y="2580"/>
                </a:cubicBezTo>
                <a:cubicBezTo>
                  <a:pt x="4572" y="2580"/>
                  <a:pt x="4630" y="2580"/>
                  <a:pt x="4688" y="2580"/>
                </a:cubicBezTo>
              </a:path>
              <a:path w="3201" h="1886">
                <a:moveTo>
                  <a:pt x="4862" y="2555"/>
                </a:moveTo>
                <a:cubicBezTo>
                  <a:pt x="4862" y="2637"/>
                  <a:pt x="4881" y="2681"/>
                  <a:pt x="4887" y="2753"/>
                </a:cubicBezTo>
                <a:cubicBezTo>
                  <a:pt x="4891" y="2803"/>
                  <a:pt x="4926" y="2802"/>
                  <a:pt x="4961" y="2828"/>
                </a:cubicBezTo>
                <a:cubicBezTo>
                  <a:pt x="5006" y="2801"/>
                  <a:pt x="5052" y="2804"/>
                  <a:pt x="5085" y="2753"/>
                </a:cubicBezTo>
                <a:cubicBezTo>
                  <a:pt x="5122" y="2697"/>
                  <a:pt x="5153" y="2641"/>
                  <a:pt x="5184" y="2580"/>
                </a:cubicBezTo>
              </a:path>
              <a:path w="3201" h="1886">
                <a:moveTo>
                  <a:pt x="5209" y="2406"/>
                </a:moveTo>
                <a:cubicBezTo>
                  <a:pt x="5183" y="2476"/>
                  <a:pt x="5184" y="2528"/>
                  <a:pt x="5184" y="2604"/>
                </a:cubicBezTo>
                <a:cubicBezTo>
                  <a:pt x="5184" y="2709"/>
                  <a:pt x="5205" y="2800"/>
                  <a:pt x="5209" y="2902"/>
                </a:cubicBezTo>
                <a:cubicBezTo>
                  <a:pt x="5212" y="2990"/>
                  <a:pt x="5255" y="3085"/>
                  <a:pt x="5234" y="3175"/>
                </a:cubicBezTo>
                <a:cubicBezTo>
                  <a:pt x="5220" y="3235"/>
                  <a:pt x="5158" y="3296"/>
                  <a:pt x="5110" y="3324"/>
                </a:cubicBezTo>
                <a:cubicBezTo>
                  <a:pt x="5013" y="3381"/>
                  <a:pt x="4960" y="3364"/>
                  <a:pt x="4862" y="3349"/>
                </a:cubicBezTo>
                <a:cubicBezTo>
                  <a:pt x="4771" y="3335"/>
                  <a:pt x="4742" y="3325"/>
                  <a:pt x="4738" y="3225"/>
                </a:cubicBezTo>
                <a:cubicBezTo>
                  <a:pt x="4738" y="3200"/>
                  <a:pt x="4738" y="3175"/>
                  <a:pt x="4738" y="3150"/>
                </a:cubicBezTo>
              </a:path>
              <a:path w="3201" h="1886">
                <a:moveTo>
                  <a:pt x="5358" y="1736"/>
                </a:moveTo>
                <a:cubicBezTo>
                  <a:pt x="5467" y="1785"/>
                  <a:pt x="5519" y="1824"/>
                  <a:pt x="5606" y="1910"/>
                </a:cubicBezTo>
                <a:cubicBezTo>
                  <a:pt x="5705" y="2009"/>
                  <a:pt x="5781" y="2141"/>
                  <a:pt x="5804" y="2282"/>
                </a:cubicBezTo>
                <a:cubicBezTo>
                  <a:pt x="5819" y="2372"/>
                  <a:pt x="5837" y="2598"/>
                  <a:pt x="5779" y="2679"/>
                </a:cubicBezTo>
                <a:cubicBezTo>
                  <a:pt x="5741" y="2733"/>
                  <a:pt x="5664" y="2828"/>
                  <a:pt x="5606" y="2853"/>
                </a:cubicBezTo>
                <a:cubicBezTo>
                  <a:pt x="5518" y="2890"/>
                  <a:pt x="5533" y="2832"/>
                  <a:pt x="5556" y="2778"/>
                </a:cubicBezTo>
              </a:path>
              <a:path w="3201" h="1886">
                <a:moveTo>
                  <a:pt x="6077" y="2307"/>
                </a:moveTo>
                <a:cubicBezTo>
                  <a:pt x="6160" y="2301"/>
                  <a:pt x="6198" y="2282"/>
                  <a:pt x="6276" y="2282"/>
                </a:cubicBezTo>
                <a:cubicBezTo>
                  <a:pt x="6317" y="2282"/>
                  <a:pt x="6325" y="2282"/>
                  <a:pt x="6350" y="2282"/>
                </a:cubicBezTo>
              </a:path>
              <a:path w="3201" h="1886">
                <a:moveTo>
                  <a:pt x="6052" y="2480"/>
                </a:moveTo>
                <a:cubicBezTo>
                  <a:pt x="6118" y="2520"/>
                  <a:pt x="6151" y="2486"/>
                  <a:pt x="6226" y="2480"/>
                </a:cubicBezTo>
                <a:cubicBezTo>
                  <a:pt x="6261" y="2480"/>
                  <a:pt x="6278" y="2476"/>
                  <a:pt x="6300" y="2456"/>
                </a:cubicBezTo>
              </a:path>
              <a:path w="3201" h="1886">
                <a:moveTo>
                  <a:pt x="5928" y="1786"/>
                </a:moveTo>
                <a:cubicBezTo>
                  <a:pt x="6033" y="1744"/>
                  <a:pt x="6020" y="1752"/>
                  <a:pt x="6052" y="1662"/>
                </a:cubicBezTo>
                <a:cubicBezTo>
                  <a:pt x="6073" y="1601"/>
                  <a:pt x="6086" y="1566"/>
                  <a:pt x="6052" y="1513"/>
                </a:cubicBezTo>
                <a:cubicBezTo>
                  <a:pt x="6022" y="1466"/>
                  <a:pt x="5918" y="1495"/>
                  <a:pt x="5879" y="1513"/>
                </a:cubicBezTo>
                <a:cubicBezTo>
                  <a:pt x="5849" y="1543"/>
                  <a:pt x="5835" y="1554"/>
                  <a:pt x="5804" y="15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6920" y="581040"/>
            <a:ext cx="7920" cy="347760"/>
          </a:xfrm>
          <a:custGeom>
            <a:avLst/>
            <a:gdLst/>
            <a:ahLst/>
            <a:rect l="l" t="t" r="r" b="b"/>
            <a:pathLst>
              <a:path w="25" h="969">
                <a:moveTo>
                  <a:pt x="7045" y="1612"/>
                </a:moveTo>
                <a:cubicBezTo>
                  <a:pt x="7045" y="1667"/>
                  <a:pt x="7067" y="1706"/>
                  <a:pt x="7069" y="1761"/>
                </a:cubicBezTo>
                <a:cubicBezTo>
                  <a:pt x="7073" y="1886"/>
                  <a:pt x="7045" y="2006"/>
                  <a:pt x="7045" y="2133"/>
                </a:cubicBezTo>
                <a:cubicBezTo>
                  <a:pt x="7045" y="2221"/>
                  <a:pt x="7063" y="2295"/>
                  <a:pt x="7069" y="2381"/>
                </a:cubicBezTo>
                <a:cubicBezTo>
                  <a:pt x="7074" y="2447"/>
                  <a:pt x="7069" y="2514"/>
                  <a:pt x="7069" y="25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55800" y="1285920"/>
            <a:ext cx="1982520" cy="714240"/>
          </a:xfrm>
          <a:custGeom>
            <a:avLst/>
            <a:gdLst/>
            <a:ahLst/>
            <a:rect l="l" t="t" r="r" b="b"/>
            <a:pathLst>
              <a:path w="5508" h="1985">
                <a:moveTo>
                  <a:pt x="2853" y="3820"/>
                </a:moveTo>
                <a:cubicBezTo>
                  <a:pt x="2808" y="3865"/>
                  <a:pt x="2776" y="3909"/>
                  <a:pt x="2753" y="3969"/>
                </a:cubicBezTo>
                <a:cubicBezTo>
                  <a:pt x="2712" y="4076"/>
                  <a:pt x="2708" y="4203"/>
                  <a:pt x="2679" y="4316"/>
                </a:cubicBezTo>
                <a:cubicBezTo>
                  <a:pt x="2647" y="4442"/>
                  <a:pt x="2633" y="4607"/>
                  <a:pt x="2654" y="4738"/>
                </a:cubicBezTo>
                <a:cubicBezTo>
                  <a:pt x="2671" y="4840"/>
                  <a:pt x="2712" y="4954"/>
                  <a:pt x="2778" y="5035"/>
                </a:cubicBezTo>
                <a:cubicBezTo>
                  <a:pt x="2813" y="5078"/>
                  <a:pt x="2916" y="5162"/>
                  <a:pt x="2977" y="5159"/>
                </a:cubicBezTo>
                <a:cubicBezTo>
                  <a:pt x="3019" y="5157"/>
                  <a:pt x="3071" y="5109"/>
                  <a:pt x="3101" y="5085"/>
                </a:cubicBezTo>
              </a:path>
              <a:path w="5508" h="1985">
                <a:moveTo>
                  <a:pt x="3299" y="4266"/>
                </a:moveTo>
                <a:cubicBezTo>
                  <a:pt x="3327" y="4372"/>
                  <a:pt x="3353" y="4488"/>
                  <a:pt x="3398" y="4589"/>
                </a:cubicBezTo>
                <a:cubicBezTo>
                  <a:pt x="3448" y="4703"/>
                  <a:pt x="3485" y="4775"/>
                  <a:pt x="3572" y="4862"/>
                </a:cubicBezTo>
                <a:cubicBezTo>
                  <a:pt x="3627" y="4917"/>
                  <a:pt x="3611" y="4936"/>
                  <a:pt x="3696" y="4936"/>
                </a:cubicBezTo>
                <a:cubicBezTo>
                  <a:pt x="3729" y="4936"/>
                  <a:pt x="3755" y="4877"/>
                  <a:pt x="3746" y="4837"/>
                </a:cubicBezTo>
                <a:cubicBezTo>
                  <a:pt x="3718" y="4782"/>
                  <a:pt x="3710" y="4759"/>
                  <a:pt x="3721" y="4713"/>
                </a:cubicBezTo>
              </a:path>
              <a:path w="5508" h="1985">
                <a:moveTo>
                  <a:pt x="3597" y="4415"/>
                </a:moveTo>
                <a:cubicBezTo>
                  <a:pt x="3501" y="4551"/>
                  <a:pt x="3415" y="4678"/>
                  <a:pt x="3324" y="4812"/>
                </a:cubicBezTo>
                <a:cubicBezTo>
                  <a:pt x="3296" y="4853"/>
                  <a:pt x="3258" y="4908"/>
                  <a:pt x="3249" y="4936"/>
                </a:cubicBezTo>
                <a:cubicBezTo>
                  <a:pt x="3297" y="4924"/>
                  <a:pt x="3308" y="4902"/>
                  <a:pt x="3349" y="4862"/>
                </a:cubicBezTo>
              </a:path>
              <a:path w="5508" h="1985">
                <a:moveTo>
                  <a:pt x="4018" y="4366"/>
                </a:moveTo>
                <a:cubicBezTo>
                  <a:pt x="4014" y="4447"/>
                  <a:pt x="3972" y="4581"/>
                  <a:pt x="3994" y="4663"/>
                </a:cubicBezTo>
                <a:cubicBezTo>
                  <a:pt x="4009" y="4719"/>
                  <a:pt x="4032" y="4767"/>
                  <a:pt x="4068" y="4812"/>
                </a:cubicBezTo>
              </a:path>
              <a:path w="5508" h="1985">
                <a:moveTo>
                  <a:pt x="3820" y="4638"/>
                </a:moveTo>
                <a:cubicBezTo>
                  <a:pt x="3881" y="4683"/>
                  <a:pt x="3900" y="4650"/>
                  <a:pt x="3969" y="4638"/>
                </a:cubicBezTo>
                <a:cubicBezTo>
                  <a:pt x="4066" y="4622"/>
                  <a:pt x="4092" y="4629"/>
                  <a:pt x="4192" y="4589"/>
                </a:cubicBezTo>
              </a:path>
              <a:path w="5508" h="1985">
                <a:moveTo>
                  <a:pt x="4291" y="4589"/>
                </a:moveTo>
                <a:cubicBezTo>
                  <a:pt x="4297" y="4666"/>
                  <a:pt x="4293" y="4753"/>
                  <a:pt x="4341" y="4812"/>
                </a:cubicBezTo>
                <a:cubicBezTo>
                  <a:pt x="4369" y="4846"/>
                  <a:pt x="4448" y="4850"/>
                  <a:pt x="4490" y="4837"/>
                </a:cubicBezTo>
                <a:cubicBezTo>
                  <a:pt x="4555" y="4816"/>
                  <a:pt x="4586" y="4745"/>
                  <a:pt x="4614" y="4688"/>
                </a:cubicBezTo>
                <a:cubicBezTo>
                  <a:pt x="4655" y="4605"/>
                  <a:pt x="4663" y="4530"/>
                  <a:pt x="4663" y="4440"/>
                </a:cubicBezTo>
                <a:cubicBezTo>
                  <a:pt x="4663" y="4432"/>
                  <a:pt x="4663" y="4423"/>
                  <a:pt x="4663" y="4415"/>
                </a:cubicBezTo>
                <a:cubicBezTo>
                  <a:pt x="4632" y="4466"/>
                  <a:pt x="4625" y="4549"/>
                  <a:pt x="4638" y="4614"/>
                </a:cubicBezTo>
                <a:cubicBezTo>
                  <a:pt x="4661" y="4732"/>
                  <a:pt x="4663" y="4838"/>
                  <a:pt x="4663" y="4961"/>
                </a:cubicBezTo>
                <a:cubicBezTo>
                  <a:pt x="4663" y="5065"/>
                  <a:pt x="4684" y="5186"/>
                  <a:pt x="4638" y="5283"/>
                </a:cubicBezTo>
                <a:cubicBezTo>
                  <a:pt x="4591" y="5383"/>
                  <a:pt x="4539" y="5465"/>
                  <a:pt x="4440" y="5507"/>
                </a:cubicBezTo>
                <a:cubicBezTo>
                  <a:pt x="4346" y="5547"/>
                  <a:pt x="4288" y="5571"/>
                  <a:pt x="4192" y="5531"/>
                </a:cubicBezTo>
                <a:cubicBezTo>
                  <a:pt x="4098" y="5492"/>
                  <a:pt x="4118" y="5421"/>
                  <a:pt x="4118" y="5333"/>
                </a:cubicBezTo>
              </a:path>
              <a:path w="5508" h="1985">
                <a:moveTo>
                  <a:pt x="4713" y="3845"/>
                </a:moveTo>
                <a:cubicBezTo>
                  <a:pt x="4837" y="3959"/>
                  <a:pt x="4878" y="4008"/>
                  <a:pt x="4936" y="4167"/>
                </a:cubicBezTo>
                <a:cubicBezTo>
                  <a:pt x="4987" y="4305"/>
                  <a:pt x="5051" y="4463"/>
                  <a:pt x="5035" y="4614"/>
                </a:cubicBezTo>
                <a:cubicBezTo>
                  <a:pt x="5023" y="4722"/>
                  <a:pt x="4983" y="4811"/>
                  <a:pt x="4911" y="4887"/>
                </a:cubicBezTo>
                <a:cubicBezTo>
                  <a:pt x="4859" y="4942"/>
                  <a:pt x="4807" y="4951"/>
                  <a:pt x="4738" y="4961"/>
                </a:cubicBezTo>
                <a:cubicBezTo>
                  <a:pt x="4701" y="4912"/>
                  <a:pt x="4713" y="4880"/>
                  <a:pt x="4713" y="4812"/>
                </a:cubicBezTo>
              </a:path>
              <a:path w="5508" h="1985">
                <a:moveTo>
                  <a:pt x="5259" y="3572"/>
                </a:moveTo>
                <a:cubicBezTo>
                  <a:pt x="5271" y="3669"/>
                  <a:pt x="5272" y="3721"/>
                  <a:pt x="5259" y="3820"/>
                </a:cubicBezTo>
                <a:cubicBezTo>
                  <a:pt x="5249" y="3899"/>
                  <a:pt x="5259" y="3988"/>
                  <a:pt x="5259" y="4068"/>
                </a:cubicBezTo>
              </a:path>
              <a:path w="5508" h="1985">
                <a:moveTo>
                  <a:pt x="5556" y="4291"/>
                </a:moveTo>
                <a:cubicBezTo>
                  <a:pt x="5556" y="4322"/>
                  <a:pt x="5554" y="4291"/>
                  <a:pt x="5606" y="4291"/>
                </a:cubicBezTo>
                <a:cubicBezTo>
                  <a:pt x="5691" y="4291"/>
                  <a:pt x="5751" y="4296"/>
                  <a:pt x="5829" y="4316"/>
                </a:cubicBezTo>
                <a:cubicBezTo>
                  <a:pt x="5837" y="4316"/>
                  <a:pt x="5846" y="4316"/>
                  <a:pt x="5854" y="4316"/>
                </a:cubicBezTo>
              </a:path>
              <a:path w="5508" h="1985">
                <a:moveTo>
                  <a:pt x="5606" y="4514"/>
                </a:moveTo>
                <a:cubicBezTo>
                  <a:pt x="5650" y="4540"/>
                  <a:pt x="5722" y="4555"/>
                  <a:pt x="5779" y="4539"/>
                </a:cubicBezTo>
                <a:cubicBezTo>
                  <a:pt x="5849" y="4520"/>
                  <a:pt x="5875" y="4514"/>
                  <a:pt x="5953" y="4514"/>
                </a:cubicBezTo>
              </a:path>
              <a:path w="5508" h="1985">
                <a:moveTo>
                  <a:pt x="6499" y="4118"/>
                </a:moveTo>
                <a:cubicBezTo>
                  <a:pt x="6522" y="4200"/>
                  <a:pt x="6542" y="4262"/>
                  <a:pt x="6573" y="4341"/>
                </a:cubicBezTo>
                <a:cubicBezTo>
                  <a:pt x="6609" y="4433"/>
                  <a:pt x="6645" y="4485"/>
                  <a:pt x="6697" y="4564"/>
                </a:cubicBezTo>
                <a:cubicBezTo>
                  <a:pt x="6737" y="4624"/>
                  <a:pt x="6770" y="4654"/>
                  <a:pt x="6821" y="4688"/>
                </a:cubicBezTo>
                <a:cubicBezTo>
                  <a:pt x="6892" y="4736"/>
                  <a:pt x="6890" y="4690"/>
                  <a:pt x="6921" y="4614"/>
                </a:cubicBezTo>
              </a:path>
              <a:path w="5508" h="1985">
                <a:moveTo>
                  <a:pt x="6871" y="4167"/>
                </a:moveTo>
                <a:cubicBezTo>
                  <a:pt x="6793" y="4267"/>
                  <a:pt x="6715" y="4426"/>
                  <a:pt x="6623" y="4514"/>
                </a:cubicBezTo>
                <a:cubicBezTo>
                  <a:pt x="6555" y="4579"/>
                  <a:pt x="6460" y="4644"/>
                  <a:pt x="6400" y="4713"/>
                </a:cubicBezTo>
                <a:cubicBezTo>
                  <a:pt x="6348" y="4773"/>
                  <a:pt x="6306" y="4770"/>
                  <a:pt x="6375" y="4787"/>
                </a:cubicBezTo>
              </a:path>
              <a:path w="5508" h="1985">
                <a:moveTo>
                  <a:pt x="7367" y="4192"/>
                </a:moveTo>
                <a:cubicBezTo>
                  <a:pt x="7367" y="4301"/>
                  <a:pt x="7348" y="4386"/>
                  <a:pt x="7342" y="4490"/>
                </a:cubicBezTo>
                <a:cubicBezTo>
                  <a:pt x="7339" y="4546"/>
                  <a:pt x="7367" y="4583"/>
                  <a:pt x="7367" y="4638"/>
                </a:cubicBezTo>
                <a:cubicBezTo>
                  <a:pt x="7367" y="4663"/>
                  <a:pt x="7404" y="4693"/>
                  <a:pt x="7367" y="4638"/>
                </a:cubicBezTo>
              </a:path>
              <a:path w="5508" h="1985">
                <a:moveTo>
                  <a:pt x="7094" y="4415"/>
                </a:moveTo>
                <a:cubicBezTo>
                  <a:pt x="7185" y="4415"/>
                  <a:pt x="7255" y="4400"/>
                  <a:pt x="7342" y="4390"/>
                </a:cubicBezTo>
                <a:cubicBezTo>
                  <a:pt x="7414" y="4382"/>
                  <a:pt x="7468" y="4372"/>
                  <a:pt x="7541" y="4366"/>
                </a:cubicBezTo>
              </a:path>
              <a:path w="5508" h="1985">
                <a:moveTo>
                  <a:pt x="7739" y="4291"/>
                </a:moveTo>
                <a:cubicBezTo>
                  <a:pt x="7720" y="4417"/>
                  <a:pt x="7691" y="4503"/>
                  <a:pt x="7764" y="4614"/>
                </a:cubicBezTo>
                <a:cubicBezTo>
                  <a:pt x="7787" y="4649"/>
                  <a:pt x="7878" y="4651"/>
                  <a:pt x="7913" y="4638"/>
                </a:cubicBezTo>
                <a:cubicBezTo>
                  <a:pt x="7964" y="4619"/>
                  <a:pt x="8025" y="4585"/>
                  <a:pt x="8062" y="4539"/>
                </a:cubicBezTo>
                <a:cubicBezTo>
                  <a:pt x="8115" y="4473"/>
                  <a:pt x="8107" y="4384"/>
                  <a:pt x="8136" y="4316"/>
                </a:cubicBezTo>
                <a:cubicBezTo>
                  <a:pt x="8152" y="4278"/>
                  <a:pt x="8161" y="4265"/>
                  <a:pt x="8161" y="4217"/>
                </a:cubicBezTo>
                <a:cubicBezTo>
                  <a:pt x="8161" y="4314"/>
                  <a:pt x="8147" y="4396"/>
                  <a:pt x="8136" y="4490"/>
                </a:cubicBezTo>
                <a:cubicBezTo>
                  <a:pt x="8123" y="4604"/>
                  <a:pt x="8109" y="4783"/>
                  <a:pt x="8062" y="4887"/>
                </a:cubicBezTo>
                <a:cubicBezTo>
                  <a:pt x="8038" y="4939"/>
                  <a:pt x="7939" y="5056"/>
                  <a:pt x="7888" y="5085"/>
                </a:cubicBezTo>
                <a:cubicBezTo>
                  <a:pt x="7772" y="5150"/>
                  <a:pt x="7664" y="5134"/>
                  <a:pt x="7541" y="5110"/>
                </a:cubicBezTo>
                <a:cubicBezTo>
                  <a:pt x="7500" y="5102"/>
                  <a:pt x="7458" y="5093"/>
                  <a:pt x="7417" y="50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1240" y="2125800"/>
            <a:ext cx="2133720" cy="500040"/>
          </a:xfrm>
          <a:custGeom>
            <a:avLst/>
            <a:gdLst/>
            <a:ahLst/>
            <a:rect l="l" t="t" r="r" b="b"/>
            <a:pathLst>
              <a:path w="5929" h="1390">
                <a:moveTo>
                  <a:pt x="2332" y="6548"/>
                </a:moveTo>
                <a:cubicBezTo>
                  <a:pt x="2373" y="6642"/>
                  <a:pt x="2418" y="6781"/>
                  <a:pt x="2480" y="6871"/>
                </a:cubicBezTo>
                <a:cubicBezTo>
                  <a:pt x="2490" y="6886"/>
                  <a:pt x="2558" y="6966"/>
                  <a:pt x="2580" y="6945"/>
                </a:cubicBezTo>
                <a:cubicBezTo>
                  <a:pt x="2580" y="6937"/>
                  <a:pt x="2580" y="6929"/>
                  <a:pt x="2580" y="6921"/>
                </a:cubicBezTo>
              </a:path>
              <a:path w="5929" h="1390">
                <a:moveTo>
                  <a:pt x="2431" y="6499"/>
                </a:moveTo>
                <a:cubicBezTo>
                  <a:pt x="2377" y="6613"/>
                  <a:pt x="2333" y="6745"/>
                  <a:pt x="2257" y="6846"/>
                </a:cubicBezTo>
                <a:cubicBezTo>
                  <a:pt x="2236" y="6873"/>
                  <a:pt x="2186" y="6981"/>
                  <a:pt x="2158" y="6995"/>
                </a:cubicBezTo>
                <a:cubicBezTo>
                  <a:pt x="2102" y="7023"/>
                  <a:pt x="2178" y="6974"/>
                  <a:pt x="2183" y="6970"/>
                </a:cubicBezTo>
              </a:path>
              <a:path w="5929" h="1390">
                <a:moveTo>
                  <a:pt x="2753" y="6449"/>
                </a:moveTo>
                <a:cubicBezTo>
                  <a:pt x="2753" y="6596"/>
                  <a:pt x="2751" y="6729"/>
                  <a:pt x="2778" y="6871"/>
                </a:cubicBezTo>
                <a:cubicBezTo>
                  <a:pt x="2789" y="6929"/>
                  <a:pt x="2743" y="6882"/>
                  <a:pt x="2729" y="6871"/>
                </a:cubicBezTo>
              </a:path>
              <a:path w="5929" h="1390">
                <a:moveTo>
                  <a:pt x="2580" y="6672"/>
                </a:moveTo>
                <a:cubicBezTo>
                  <a:pt x="2647" y="6672"/>
                  <a:pt x="2716" y="6669"/>
                  <a:pt x="2778" y="6648"/>
                </a:cubicBezTo>
                <a:cubicBezTo>
                  <a:pt x="2826" y="6632"/>
                  <a:pt x="2862" y="6622"/>
                  <a:pt x="2902" y="6598"/>
                </a:cubicBezTo>
              </a:path>
              <a:path w="5929" h="1390">
                <a:moveTo>
                  <a:pt x="2952" y="6648"/>
                </a:moveTo>
                <a:cubicBezTo>
                  <a:pt x="2952" y="6716"/>
                  <a:pt x="2933" y="6795"/>
                  <a:pt x="2977" y="6846"/>
                </a:cubicBezTo>
                <a:cubicBezTo>
                  <a:pt x="3028" y="6905"/>
                  <a:pt x="3020" y="6890"/>
                  <a:pt x="3076" y="6871"/>
                </a:cubicBezTo>
                <a:cubicBezTo>
                  <a:pt x="3123" y="6855"/>
                  <a:pt x="3147" y="6818"/>
                  <a:pt x="3175" y="6772"/>
                </a:cubicBezTo>
                <a:cubicBezTo>
                  <a:pt x="3207" y="6719"/>
                  <a:pt x="3218" y="6682"/>
                  <a:pt x="3225" y="6623"/>
                </a:cubicBezTo>
              </a:path>
              <a:path w="5929" h="1390">
                <a:moveTo>
                  <a:pt x="3249" y="6598"/>
                </a:moveTo>
                <a:cubicBezTo>
                  <a:pt x="3269" y="6734"/>
                  <a:pt x="3277" y="6838"/>
                  <a:pt x="3249" y="6970"/>
                </a:cubicBezTo>
                <a:cubicBezTo>
                  <a:pt x="3228" y="7068"/>
                  <a:pt x="3219" y="7119"/>
                  <a:pt x="3150" y="7193"/>
                </a:cubicBezTo>
                <a:cubicBezTo>
                  <a:pt x="3088" y="7259"/>
                  <a:pt x="3016" y="7283"/>
                  <a:pt x="2927" y="7293"/>
                </a:cubicBezTo>
                <a:cubicBezTo>
                  <a:pt x="2810" y="7307"/>
                  <a:pt x="2715" y="7260"/>
                  <a:pt x="2629" y="7193"/>
                </a:cubicBezTo>
              </a:path>
              <a:path w="5929" h="1390">
                <a:moveTo>
                  <a:pt x="2084" y="6325"/>
                </a:moveTo>
                <a:cubicBezTo>
                  <a:pt x="2062" y="6483"/>
                  <a:pt x="2044" y="6616"/>
                  <a:pt x="2084" y="6772"/>
                </a:cubicBezTo>
                <a:cubicBezTo>
                  <a:pt x="2117" y="6903"/>
                  <a:pt x="2160" y="6958"/>
                  <a:pt x="2257" y="7045"/>
                </a:cubicBezTo>
                <a:cubicBezTo>
                  <a:pt x="2309" y="7096"/>
                  <a:pt x="2328" y="7113"/>
                  <a:pt x="2381" y="7119"/>
                </a:cubicBezTo>
              </a:path>
              <a:path w="5929" h="1390">
                <a:moveTo>
                  <a:pt x="3299" y="6152"/>
                </a:moveTo>
                <a:cubicBezTo>
                  <a:pt x="3388" y="6259"/>
                  <a:pt x="3412" y="6337"/>
                  <a:pt x="3448" y="6474"/>
                </a:cubicBezTo>
                <a:cubicBezTo>
                  <a:pt x="3479" y="6595"/>
                  <a:pt x="3497" y="6697"/>
                  <a:pt x="3497" y="6821"/>
                </a:cubicBezTo>
                <a:cubicBezTo>
                  <a:pt x="3497" y="6908"/>
                  <a:pt x="3507" y="6936"/>
                  <a:pt x="3448" y="6995"/>
                </a:cubicBezTo>
                <a:cubicBezTo>
                  <a:pt x="3425" y="7018"/>
                  <a:pt x="3421" y="7026"/>
                  <a:pt x="3398" y="7020"/>
                </a:cubicBezTo>
                <a:cubicBezTo>
                  <a:pt x="3352" y="6959"/>
                  <a:pt x="3373" y="6952"/>
                  <a:pt x="3373" y="6846"/>
                </a:cubicBezTo>
              </a:path>
              <a:path w="5929" h="1390">
                <a:moveTo>
                  <a:pt x="3696" y="6003"/>
                </a:moveTo>
                <a:cubicBezTo>
                  <a:pt x="3729" y="6003"/>
                  <a:pt x="3762" y="6003"/>
                  <a:pt x="3795" y="6003"/>
                </a:cubicBezTo>
                <a:cubicBezTo>
                  <a:pt x="3795" y="6068"/>
                  <a:pt x="3787" y="6098"/>
                  <a:pt x="3746" y="6152"/>
                </a:cubicBezTo>
                <a:cubicBezTo>
                  <a:pt x="3721" y="6185"/>
                  <a:pt x="3706" y="6187"/>
                  <a:pt x="3696" y="6226"/>
                </a:cubicBezTo>
                <a:cubicBezTo>
                  <a:pt x="3722" y="6265"/>
                  <a:pt x="3781" y="6273"/>
                  <a:pt x="3845" y="6276"/>
                </a:cubicBezTo>
                <a:cubicBezTo>
                  <a:pt x="3943" y="6281"/>
                  <a:pt x="4000" y="6291"/>
                  <a:pt x="4093" y="6325"/>
                </a:cubicBezTo>
              </a:path>
              <a:path w="5929" h="1390">
                <a:moveTo>
                  <a:pt x="4068" y="6722"/>
                </a:moveTo>
                <a:cubicBezTo>
                  <a:pt x="4118" y="6722"/>
                  <a:pt x="4167" y="6722"/>
                  <a:pt x="4217" y="6722"/>
                </a:cubicBezTo>
              </a:path>
              <a:path w="5929" h="1390">
                <a:moveTo>
                  <a:pt x="3994" y="6896"/>
                </a:moveTo>
                <a:cubicBezTo>
                  <a:pt x="4047" y="6896"/>
                  <a:pt x="4074" y="6895"/>
                  <a:pt x="4118" y="6871"/>
                </a:cubicBezTo>
                <a:cubicBezTo>
                  <a:pt x="4167" y="6845"/>
                  <a:pt x="4217" y="6821"/>
                  <a:pt x="4266" y="6796"/>
                </a:cubicBezTo>
              </a:path>
              <a:path w="5929" h="1390">
                <a:moveTo>
                  <a:pt x="4465" y="6499"/>
                </a:moveTo>
                <a:cubicBezTo>
                  <a:pt x="4494" y="6603"/>
                  <a:pt x="4514" y="6672"/>
                  <a:pt x="4564" y="6772"/>
                </a:cubicBezTo>
                <a:cubicBezTo>
                  <a:pt x="4607" y="6857"/>
                  <a:pt x="4620" y="6837"/>
                  <a:pt x="4688" y="6871"/>
                </a:cubicBezTo>
                <a:cubicBezTo>
                  <a:pt x="4745" y="6900"/>
                  <a:pt x="4736" y="6897"/>
                  <a:pt x="4787" y="6846"/>
                </a:cubicBezTo>
                <a:cubicBezTo>
                  <a:pt x="4795" y="6838"/>
                  <a:pt x="4804" y="6829"/>
                  <a:pt x="4812" y="6821"/>
                </a:cubicBezTo>
              </a:path>
              <a:path w="5929" h="1390">
                <a:moveTo>
                  <a:pt x="4738" y="6400"/>
                </a:moveTo>
                <a:cubicBezTo>
                  <a:pt x="4664" y="6527"/>
                  <a:pt x="4589" y="6653"/>
                  <a:pt x="4514" y="6772"/>
                </a:cubicBezTo>
                <a:cubicBezTo>
                  <a:pt x="4475" y="6833"/>
                  <a:pt x="4421" y="6909"/>
                  <a:pt x="4390" y="6970"/>
                </a:cubicBezTo>
                <a:cubicBezTo>
                  <a:pt x="4362" y="7027"/>
                  <a:pt x="4412" y="6928"/>
                  <a:pt x="4415" y="6921"/>
                </a:cubicBezTo>
                <a:cubicBezTo>
                  <a:pt x="4423" y="6896"/>
                  <a:pt x="4432" y="6871"/>
                  <a:pt x="4440" y="6846"/>
                </a:cubicBezTo>
              </a:path>
              <a:path w="5929" h="1390">
                <a:moveTo>
                  <a:pt x="4862" y="6003"/>
                </a:moveTo>
                <a:cubicBezTo>
                  <a:pt x="4953" y="5985"/>
                  <a:pt x="4960" y="5976"/>
                  <a:pt x="5011" y="5978"/>
                </a:cubicBezTo>
                <a:cubicBezTo>
                  <a:pt x="5011" y="6028"/>
                  <a:pt x="5020" y="6063"/>
                  <a:pt x="4986" y="6102"/>
                </a:cubicBezTo>
                <a:cubicBezTo>
                  <a:pt x="4933" y="6163"/>
                  <a:pt x="4867" y="6177"/>
                  <a:pt x="4837" y="6251"/>
                </a:cubicBezTo>
                <a:cubicBezTo>
                  <a:pt x="4891" y="6291"/>
                  <a:pt x="4939" y="6297"/>
                  <a:pt x="5011" y="6300"/>
                </a:cubicBezTo>
                <a:cubicBezTo>
                  <a:pt x="5078" y="6303"/>
                  <a:pt x="5123" y="6296"/>
                  <a:pt x="5184" y="6276"/>
                </a:cubicBezTo>
              </a:path>
              <a:path w="5929" h="1390">
                <a:moveTo>
                  <a:pt x="5333" y="6400"/>
                </a:moveTo>
                <a:cubicBezTo>
                  <a:pt x="5293" y="6511"/>
                  <a:pt x="5283" y="6541"/>
                  <a:pt x="5283" y="6648"/>
                </a:cubicBezTo>
                <a:cubicBezTo>
                  <a:pt x="5283" y="6681"/>
                  <a:pt x="5283" y="6714"/>
                  <a:pt x="5283" y="6747"/>
                </a:cubicBezTo>
              </a:path>
              <a:path w="5929" h="1390">
                <a:moveTo>
                  <a:pt x="5110" y="6573"/>
                </a:moveTo>
                <a:cubicBezTo>
                  <a:pt x="5205" y="6566"/>
                  <a:pt x="5269" y="6538"/>
                  <a:pt x="5358" y="6524"/>
                </a:cubicBezTo>
                <a:cubicBezTo>
                  <a:pt x="5374" y="6524"/>
                  <a:pt x="5391" y="6524"/>
                  <a:pt x="5407" y="6524"/>
                </a:cubicBezTo>
              </a:path>
              <a:path w="5929" h="1390">
                <a:moveTo>
                  <a:pt x="5655" y="6251"/>
                </a:moveTo>
                <a:cubicBezTo>
                  <a:pt x="5726" y="6232"/>
                  <a:pt x="5798" y="6206"/>
                  <a:pt x="5854" y="6276"/>
                </a:cubicBezTo>
                <a:cubicBezTo>
                  <a:pt x="5882" y="6311"/>
                  <a:pt x="5840" y="6394"/>
                  <a:pt x="5829" y="6424"/>
                </a:cubicBezTo>
                <a:cubicBezTo>
                  <a:pt x="5794" y="6519"/>
                  <a:pt x="5735" y="6567"/>
                  <a:pt x="5680" y="6648"/>
                </a:cubicBezTo>
                <a:cubicBezTo>
                  <a:pt x="5655" y="6685"/>
                  <a:pt x="5607" y="6747"/>
                  <a:pt x="5631" y="6796"/>
                </a:cubicBezTo>
                <a:cubicBezTo>
                  <a:pt x="5653" y="6841"/>
                  <a:pt x="5709" y="6862"/>
                  <a:pt x="5755" y="6846"/>
                </a:cubicBezTo>
                <a:cubicBezTo>
                  <a:pt x="5828" y="6821"/>
                  <a:pt x="5833" y="6826"/>
                  <a:pt x="5879" y="6772"/>
                </a:cubicBezTo>
              </a:path>
              <a:path w="5929" h="1390">
                <a:moveTo>
                  <a:pt x="5953" y="6548"/>
                </a:moveTo>
                <a:cubicBezTo>
                  <a:pt x="5974" y="6607"/>
                  <a:pt x="5997" y="6707"/>
                  <a:pt x="6052" y="6747"/>
                </a:cubicBezTo>
                <a:cubicBezTo>
                  <a:pt x="6108" y="6788"/>
                  <a:pt x="6157" y="6816"/>
                  <a:pt x="6226" y="6821"/>
                </a:cubicBezTo>
                <a:cubicBezTo>
                  <a:pt x="6268" y="6824"/>
                  <a:pt x="6268" y="6821"/>
                  <a:pt x="6300" y="6796"/>
                </a:cubicBezTo>
              </a:path>
              <a:path w="5929" h="1390">
                <a:moveTo>
                  <a:pt x="6127" y="6548"/>
                </a:moveTo>
                <a:cubicBezTo>
                  <a:pt x="6051" y="6630"/>
                  <a:pt x="5948" y="6716"/>
                  <a:pt x="5879" y="6796"/>
                </a:cubicBezTo>
                <a:cubicBezTo>
                  <a:pt x="5846" y="6834"/>
                  <a:pt x="5829" y="6873"/>
                  <a:pt x="5829" y="6921"/>
                </a:cubicBezTo>
                <a:cubicBezTo>
                  <a:pt x="5859" y="6914"/>
                  <a:pt x="5932" y="6871"/>
                  <a:pt x="5953" y="6846"/>
                </a:cubicBezTo>
                <a:cubicBezTo>
                  <a:pt x="5961" y="6829"/>
                  <a:pt x="5970" y="6813"/>
                  <a:pt x="5978" y="6796"/>
                </a:cubicBezTo>
              </a:path>
              <a:path w="5929" h="1390">
                <a:moveTo>
                  <a:pt x="6400" y="6524"/>
                </a:moveTo>
                <a:cubicBezTo>
                  <a:pt x="6398" y="6545"/>
                  <a:pt x="6354" y="6721"/>
                  <a:pt x="6375" y="6747"/>
                </a:cubicBezTo>
                <a:cubicBezTo>
                  <a:pt x="6446" y="6832"/>
                  <a:pt x="6478" y="6810"/>
                  <a:pt x="6548" y="6796"/>
                </a:cubicBezTo>
                <a:cubicBezTo>
                  <a:pt x="6601" y="6785"/>
                  <a:pt x="6660" y="6774"/>
                  <a:pt x="6697" y="6722"/>
                </a:cubicBezTo>
                <a:cubicBezTo>
                  <a:pt x="6725" y="6682"/>
                  <a:pt x="6779" y="6617"/>
                  <a:pt x="6796" y="6573"/>
                </a:cubicBezTo>
                <a:cubicBezTo>
                  <a:pt x="6796" y="6565"/>
                  <a:pt x="6796" y="6556"/>
                  <a:pt x="6796" y="6548"/>
                </a:cubicBezTo>
              </a:path>
              <a:path w="5929" h="1390">
                <a:moveTo>
                  <a:pt x="6747" y="6524"/>
                </a:moveTo>
                <a:cubicBezTo>
                  <a:pt x="6747" y="6606"/>
                  <a:pt x="6758" y="6656"/>
                  <a:pt x="6772" y="6722"/>
                </a:cubicBezTo>
                <a:cubicBezTo>
                  <a:pt x="6788" y="6798"/>
                  <a:pt x="6815" y="6885"/>
                  <a:pt x="6796" y="6970"/>
                </a:cubicBezTo>
                <a:cubicBezTo>
                  <a:pt x="6775" y="7061"/>
                  <a:pt x="6749" y="7080"/>
                  <a:pt x="6697" y="7144"/>
                </a:cubicBezTo>
                <a:cubicBezTo>
                  <a:pt x="6640" y="7214"/>
                  <a:pt x="6591" y="7228"/>
                  <a:pt x="6499" y="7243"/>
                </a:cubicBezTo>
                <a:cubicBezTo>
                  <a:pt x="6424" y="7255"/>
                  <a:pt x="6343" y="7248"/>
                  <a:pt x="6276" y="7218"/>
                </a:cubicBezTo>
                <a:cubicBezTo>
                  <a:pt x="6246" y="7205"/>
                  <a:pt x="6163" y="7166"/>
                  <a:pt x="6176" y="7119"/>
                </a:cubicBezTo>
                <a:cubicBezTo>
                  <a:pt x="6184" y="7102"/>
                  <a:pt x="6193" y="7086"/>
                  <a:pt x="6201" y="7069"/>
                </a:cubicBezTo>
              </a:path>
              <a:path w="5929" h="1390">
                <a:moveTo>
                  <a:pt x="7045" y="6300"/>
                </a:moveTo>
                <a:cubicBezTo>
                  <a:pt x="7045" y="6355"/>
                  <a:pt x="7071" y="6617"/>
                  <a:pt x="7020" y="6623"/>
                </a:cubicBezTo>
                <a:cubicBezTo>
                  <a:pt x="7012" y="6623"/>
                  <a:pt x="7003" y="6623"/>
                  <a:pt x="6995" y="6623"/>
                </a:cubicBezTo>
              </a:path>
              <a:path w="5929" h="1390">
                <a:moveTo>
                  <a:pt x="6871" y="6449"/>
                </a:moveTo>
                <a:cubicBezTo>
                  <a:pt x="6955" y="6455"/>
                  <a:pt x="7087" y="6506"/>
                  <a:pt x="7169" y="6474"/>
                </a:cubicBezTo>
                <a:cubicBezTo>
                  <a:pt x="7204" y="6460"/>
                  <a:pt x="7235" y="6444"/>
                  <a:pt x="7268" y="6424"/>
                </a:cubicBezTo>
              </a:path>
              <a:path w="5929" h="1390">
                <a:moveTo>
                  <a:pt x="7243" y="6499"/>
                </a:moveTo>
                <a:cubicBezTo>
                  <a:pt x="7248" y="6577"/>
                  <a:pt x="7246" y="6667"/>
                  <a:pt x="7317" y="6722"/>
                </a:cubicBezTo>
                <a:cubicBezTo>
                  <a:pt x="7330" y="6732"/>
                  <a:pt x="7393" y="6761"/>
                  <a:pt x="7417" y="6747"/>
                </a:cubicBezTo>
                <a:cubicBezTo>
                  <a:pt x="7460" y="6722"/>
                  <a:pt x="7493" y="6663"/>
                  <a:pt x="7516" y="6623"/>
                </a:cubicBezTo>
              </a:path>
              <a:path w="5929" h="1390">
                <a:moveTo>
                  <a:pt x="7491" y="6499"/>
                </a:moveTo>
                <a:cubicBezTo>
                  <a:pt x="7472" y="6673"/>
                  <a:pt x="7439" y="6828"/>
                  <a:pt x="7417" y="6995"/>
                </a:cubicBezTo>
                <a:cubicBezTo>
                  <a:pt x="7407" y="7073"/>
                  <a:pt x="7390" y="7130"/>
                  <a:pt x="7342" y="7193"/>
                </a:cubicBezTo>
                <a:cubicBezTo>
                  <a:pt x="7329" y="7210"/>
                  <a:pt x="7237" y="7252"/>
                  <a:pt x="7218" y="7243"/>
                </a:cubicBezTo>
                <a:cubicBezTo>
                  <a:pt x="7175" y="7224"/>
                  <a:pt x="7129" y="7135"/>
                  <a:pt x="7119" y="7094"/>
                </a:cubicBezTo>
                <a:cubicBezTo>
                  <a:pt x="7111" y="7044"/>
                  <a:pt x="7102" y="6995"/>
                  <a:pt x="7094" y="6945"/>
                </a:cubicBezTo>
              </a:path>
              <a:path w="5929" h="1390">
                <a:moveTo>
                  <a:pt x="7689" y="5904"/>
                </a:moveTo>
                <a:cubicBezTo>
                  <a:pt x="7783" y="5904"/>
                  <a:pt x="7803" y="5883"/>
                  <a:pt x="7838" y="5928"/>
                </a:cubicBezTo>
                <a:cubicBezTo>
                  <a:pt x="7808" y="5978"/>
                  <a:pt x="7808" y="6028"/>
                  <a:pt x="7764" y="6077"/>
                </a:cubicBezTo>
                <a:cubicBezTo>
                  <a:pt x="7734" y="6111"/>
                  <a:pt x="7694" y="6131"/>
                  <a:pt x="7689" y="6176"/>
                </a:cubicBezTo>
                <a:cubicBezTo>
                  <a:pt x="7684" y="6224"/>
                  <a:pt x="7776" y="6237"/>
                  <a:pt x="7813" y="6251"/>
                </a:cubicBezTo>
                <a:cubicBezTo>
                  <a:pt x="7889" y="6281"/>
                  <a:pt x="7913" y="6283"/>
                  <a:pt x="7987" y="62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4200" y="4626000"/>
            <a:ext cx="3241800" cy="822240"/>
          </a:xfrm>
          <a:custGeom>
            <a:avLst/>
            <a:gdLst/>
            <a:ahLst/>
            <a:rect l="l" t="t" r="r" b="b"/>
            <a:pathLst>
              <a:path w="9005" h="2283">
                <a:moveTo>
                  <a:pt x="819" y="12948"/>
                </a:moveTo>
                <a:cubicBezTo>
                  <a:pt x="781" y="13023"/>
                  <a:pt x="729" y="13096"/>
                  <a:pt x="695" y="13171"/>
                </a:cubicBezTo>
                <a:cubicBezTo>
                  <a:pt x="652" y="13264"/>
                  <a:pt x="609" y="13393"/>
                  <a:pt x="595" y="13494"/>
                </a:cubicBezTo>
                <a:cubicBezTo>
                  <a:pt x="582" y="13592"/>
                  <a:pt x="592" y="13698"/>
                  <a:pt x="620" y="13791"/>
                </a:cubicBezTo>
                <a:cubicBezTo>
                  <a:pt x="640" y="13860"/>
                  <a:pt x="673" y="13955"/>
                  <a:pt x="744" y="13990"/>
                </a:cubicBezTo>
                <a:cubicBezTo>
                  <a:pt x="772" y="13990"/>
                  <a:pt x="783" y="13988"/>
                  <a:pt x="794" y="13965"/>
                </a:cubicBezTo>
              </a:path>
              <a:path w="9005" h="2283">
                <a:moveTo>
                  <a:pt x="868" y="13271"/>
                </a:moveTo>
                <a:cubicBezTo>
                  <a:pt x="896" y="13396"/>
                  <a:pt x="930" y="13507"/>
                  <a:pt x="992" y="13618"/>
                </a:cubicBezTo>
                <a:cubicBezTo>
                  <a:pt x="1046" y="13714"/>
                  <a:pt x="1115" y="13789"/>
                  <a:pt x="1191" y="13866"/>
                </a:cubicBezTo>
                <a:cubicBezTo>
                  <a:pt x="1219" y="13895"/>
                  <a:pt x="1232" y="13903"/>
                  <a:pt x="1265" y="13891"/>
                </a:cubicBezTo>
              </a:path>
              <a:path w="9005" h="2283">
                <a:moveTo>
                  <a:pt x="1091" y="13320"/>
                </a:moveTo>
                <a:cubicBezTo>
                  <a:pt x="1024" y="13448"/>
                  <a:pt x="972" y="13561"/>
                  <a:pt x="918" y="13692"/>
                </a:cubicBezTo>
                <a:cubicBezTo>
                  <a:pt x="905" y="13725"/>
                  <a:pt x="855" y="13833"/>
                  <a:pt x="868" y="13866"/>
                </a:cubicBezTo>
                <a:cubicBezTo>
                  <a:pt x="891" y="13889"/>
                  <a:pt x="899" y="13900"/>
                  <a:pt x="893" y="13866"/>
                </a:cubicBezTo>
              </a:path>
              <a:path w="9005" h="2283">
                <a:moveTo>
                  <a:pt x="1488" y="13271"/>
                </a:moveTo>
                <a:cubicBezTo>
                  <a:pt x="1472" y="13409"/>
                  <a:pt x="1463" y="13530"/>
                  <a:pt x="1463" y="13667"/>
                </a:cubicBezTo>
                <a:cubicBezTo>
                  <a:pt x="1463" y="13734"/>
                  <a:pt x="1476" y="13779"/>
                  <a:pt x="1488" y="13841"/>
                </a:cubicBezTo>
              </a:path>
              <a:path w="9005" h="2283">
                <a:moveTo>
                  <a:pt x="1240" y="13444"/>
                </a:moveTo>
                <a:cubicBezTo>
                  <a:pt x="1295" y="13458"/>
                  <a:pt x="1349" y="13485"/>
                  <a:pt x="1414" y="13494"/>
                </a:cubicBezTo>
                <a:cubicBezTo>
                  <a:pt x="1499" y="13506"/>
                  <a:pt x="1574" y="13519"/>
                  <a:pt x="1662" y="13519"/>
                </a:cubicBezTo>
              </a:path>
              <a:path w="9005" h="2283">
                <a:moveTo>
                  <a:pt x="1761" y="13444"/>
                </a:moveTo>
                <a:cubicBezTo>
                  <a:pt x="1731" y="13497"/>
                  <a:pt x="1672" y="13575"/>
                  <a:pt x="1687" y="13643"/>
                </a:cubicBezTo>
                <a:cubicBezTo>
                  <a:pt x="1698" y="13690"/>
                  <a:pt x="1737" y="13771"/>
                  <a:pt x="1786" y="13791"/>
                </a:cubicBezTo>
                <a:cubicBezTo>
                  <a:pt x="1820" y="13805"/>
                  <a:pt x="1911" y="13791"/>
                  <a:pt x="1935" y="13767"/>
                </a:cubicBezTo>
                <a:cubicBezTo>
                  <a:pt x="1956" y="13746"/>
                  <a:pt x="2027" y="13644"/>
                  <a:pt x="2034" y="13618"/>
                </a:cubicBezTo>
                <a:cubicBezTo>
                  <a:pt x="2047" y="13570"/>
                  <a:pt x="2055" y="13520"/>
                  <a:pt x="2059" y="13469"/>
                </a:cubicBezTo>
                <a:cubicBezTo>
                  <a:pt x="2059" y="13461"/>
                  <a:pt x="2059" y="13452"/>
                  <a:pt x="2059" y="13444"/>
                </a:cubicBezTo>
                <a:cubicBezTo>
                  <a:pt x="2059" y="13500"/>
                  <a:pt x="2041" y="13542"/>
                  <a:pt x="2034" y="13593"/>
                </a:cubicBezTo>
                <a:cubicBezTo>
                  <a:pt x="1998" y="13863"/>
                  <a:pt x="2048" y="14116"/>
                  <a:pt x="1984" y="14387"/>
                </a:cubicBezTo>
                <a:cubicBezTo>
                  <a:pt x="1965" y="14467"/>
                  <a:pt x="1903" y="14585"/>
                  <a:pt x="1836" y="14635"/>
                </a:cubicBezTo>
                <a:cubicBezTo>
                  <a:pt x="1779" y="14677"/>
                  <a:pt x="1686" y="14662"/>
                  <a:pt x="1637" y="14610"/>
                </a:cubicBezTo>
                <a:cubicBezTo>
                  <a:pt x="1547" y="14514"/>
                  <a:pt x="1545" y="14383"/>
                  <a:pt x="1538" y="14263"/>
                </a:cubicBezTo>
              </a:path>
              <a:path w="9005" h="2283">
                <a:moveTo>
                  <a:pt x="2108" y="13072"/>
                </a:moveTo>
                <a:cubicBezTo>
                  <a:pt x="2162" y="13298"/>
                  <a:pt x="2183" y="13443"/>
                  <a:pt x="2183" y="13667"/>
                </a:cubicBezTo>
                <a:cubicBezTo>
                  <a:pt x="2183" y="13806"/>
                  <a:pt x="2157" y="13961"/>
                  <a:pt x="2108" y="14089"/>
                </a:cubicBezTo>
                <a:cubicBezTo>
                  <a:pt x="2084" y="14151"/>
                  <a:pt x="2088" y="14177"/>
                  <a:pt x="2059" y="14139"/>
                </a:cubicBezTo>
                <a:cubicBezTo>
                  <a:pt x="2051" y="14131"/>
                  <a:pt x="2042" y="14122"/>
                  <a:pt x="2034" y="14114"/>
                </a:cubicBezTo>
              </a:path>
              <a:path w="9005" h="2283">
                <a:moveTo>
                  <a:pt x="2332" y="12948"/>
                </a:moveTo>
                <a:cubicBezTo>
                  <a:pt x="2418" y="12904"/>
                  <a:pt x="2487" y="12895"/>
                  <a:pt x="2580" y="12874"/>
                </a:cubicBezTo>
                <a:cubicBezTo>
                  <a:pt x="2627" y="12863"/>
                  <a:pt x="2631" y="12884"/>
                  <a:pt x="2654" y="12849"/>
                </a:cubicBezTo>
              </a:path>
              <a:path w="9005" h="2283">
                <a:moveTo>
                  <a:pt x="2356" y="12898"/>
                </a:moveTo>
                <a:cubicBezTo>
                  <a:pt x="2301" y="12954"/>
                  <a:pt x="2252" y="12990"/>
                  <a:pt x="2307" y="13072"/>
                </a:cubicBezTo>
                <a:cubicBezTo>
                  <a:pt x="2362" y="13153"/>
                  <a:pt x="2433" y="13205"/>
                  <a:pt x="2480" y="13295"/>
                </a:cubicBezTo>
                <a:cubicBezTo>
                  <a:pt x="2514" y="13360"/>
                  <a:pt x="2519" y="13429"/>
                  <a:pt x="2480" y="13494"/>
                </a:cubicBezTo>
                <a:cubicBezTo>
                  <a:pt x="2459" y="13529"/>
                  <a:pt x="2371" y="13561"/>
                  <a:pt x="2332" y="13568"/>
                </a:cubicBezTo>
                <a:cubicBezTo>
                  <a:pt x="2315" y="13568"/>
                  <a:pt x="2299" y="13568"/>
                  <a:pt x="2282" y="13568"/>
                </a:cubicBezTo>
              </a:path>
              <a:path w="9005" h="2283">
                <a:moveTo>
                  <a:pt x="2654" y="13742"/>
                </a:moveTo>
                <a:cubicBezTo>
                  <a:pt x="2729" y="13742"/>
                  <a:pt x="2781" y="13757"/>
                  <a:pt x="2853" y="13767"/>
                </a:cubicBezTo>
                <a:cubicBezTo>
                  <a:pt x="2894" y="13767"/>
                  <a:pt x="2902" y="13767"/>
                  <a:pt x="2927" y="13767"/>
                </a:cubicBezTo>
              </a:path>
              <a:path w="9005" h="2283">
                <a:moveTo>
                  <a:pt x="2679" y="13990"/>
                </a:moveTo>
                <a:cubicBezTo>
                  <a:pt x="2769" y="14021"/>
                  <a:pt x="2839" y="14053"/>
                  <a:pt x="2927" y="14064"/>
                </a:cubicBezTo>
              </a:path>
              <a:path w="9005" h="2283">
                <a:moveTo>
                  <a:pt x="3225" y="13370"/>
                </a:moveTo>
                <a:cubicBezTo>
                  <a:pt x="3217" y="13378"/>
                  <a:pt x="3208" y="13387"/>
                  <a:pt x="3200" y="13395"/>
                </a:cubicBezTo>
              </a:path>
              <a:path w="9005" h="2283">
                <a:moveTo>
                  <a:pt x="3150" y="13295"/>
                </a:moveTo>
                <a:cubicBezTo>
                  <a:pt x="3179" y="13429"/>
                  <a:pt x="3173" y="13555"/>
                  <a:pt x="3200" y="13692"/>
                </a:cubicBezTo>
                <a:cubicBezTo>
                  <a:pt x="3219" y="13787"/>
                  <a:pt x="3241" y="13901"/>
                  <a:pt x="3274" y="13990"/>
                </a:cubicBezTo>
                <a:cubicBezTo>
                  <a:pt x="3298" y="14056"/>
                  <a:pt x="3331" y="14129"/>
                  <a:pt x="3349" y="14188"/>
                </a:cubicBezTo>
                <a:cubicBezTo>
                  <a:pt x="3363" y="14233"/>
                  <a:pt x="3349" y="14250"/>
                  <a:pt x="3349" y="14188"/>
                </a:cubicBezTo>
              </a:path>
              <a:path w="9005" h="2283">
                <a:moveTo>
                  <a:pt x="3324" y="13667"/>
                </a:moveTo>
                <a:cubicBezTo>
                  <a:pt x="3381" y="13681"/>
                  <a:pt x="3372" y="13719"/>
                  <a:pt x="3398" y="13767"/>
                </a:cubicBezTo>
                <a:cubicBezTo>
                  <a:pt x="3437" y="13839"/>
                  <a:pt x="3456" y="13920"/>
                  <a:pt x="3497" y="13990"/>
                </a:cubicBezTo>
                <a:cubicBezTo>
                  <a:pt x="3550" y="14080"/>
                  <a:pt x="3636" y="14130"/>
                  <a:pt x="3696" y="14213"/>
                </a:cubicBezTo>
                <a:cubicBezTo>
                  <a:pt x="3704" y="14230"/>
                  <a:pt x="3713" y="14246"/>
                  <a:pt x="3721" y="14263"/>
                </a:cubicBezTo>
              </a:path>
              <a:path w="9005" h="2283">
                <a:moveTo>
                  <a:pt x="3646" y="13643"/>
                </a:moveTo>
                <a:cubicBezTo>
                  <a:pt x="3594" y="13703"/>
                  <a:pt x="3529" y="13767"/>
                  <a:pt x="3497" y="13841"/>
                </a:cubicBezTo>
                <a:cubicBezTo>
                  <a:pt x="3463" y="13920"/>
                  <a:pt x="3414" y="14029"/>
                  <a:pt x="3398" y="14114"/>
                </a:cubicBezTo>
                <a:cubicBezTo>
                  <a:pt x="3385" y="14182"/>
                  <a:pt x="3373" y="14240"/>
                  <a:pt x="3373" y="14312"/>
                </a:cubicBezTo>
              </a:path>
              <a:path w="9005" h="2283">
                <a:moveTo>
                  <a:pt x="3646" y="13444"/>
                </a:moveTo>
                <a:cubicBezTo>
                  <a:pt x="3732" y="13412"/>
                  <a:pt x="3738" y="13424"/>
                  <a:pt x="3820" y="13444"/>
                </a:cubicBezTo>
                <a:cubicBezTo>
                  <a:pt x="3850" y="13452"/>
                  <a:pt x="3888" y="13444"/>
                  <a:pt x="3919" y="13444"/>
                </a:cubicBezTo>
              </a:path>
              <a:path w="9005" h="2283">
                <a:moveTo>
                  <a:pt x="3671" y="13419"/>
                </a:moveTo>
                <a:cubicBezTo>
                  <a:pt x="3636" y="13477"/>
                  <a:pt x="3631" y="13521"/>
                  <a:pt x="3597" y="13568"/>
                </a:cubicBezTo>
                <a:cubicBezTo>
                  <a:pt x="3634" y="13581"/>
                  <a:pt x="3618" y="13629"/>
                  <a:pt x="3646" y="13643"/>
                </a:cubicBezTo>
                <a:cubicBezTo>
                  <a:pt x="3671" y="13655"/>
                  <a:pt x="3768" y="13660"/>
                  <a:pt x="3795" y="13667"/>
                </a:cubicBezTo>
                <a:cubicBezTo>
                  <a:pt x="3828" y="13675"/>
                  <a:pt x="3877" y="13705"/>
                  <a:pt x="3894" y="13742"/>
                </a:cubicBezTo>
                <a:cubicBezTo>
                  <a:pt x="3909" y="13774"/>
                  <a:pt x="3939" y="13875"/>
                  <a:pt x="3919" y="13915"/>
                </a:cubicBezTo>
                <a:cubicBezTo>
                  <a:pt x="3891" y="13970"/>
                  <a:pt x="3847" y="13965"/>
                  <a:pt x="3795" y="13965"/>
                </a:cubicBezTo>
                <a:cubicBezTo>
                  <a:pt x="3742" y="13965"/>
                  <a:pt x="3710" y="13975"/>
                  <a:pt x="3671" y="13940"/>
                </a:cubicBezTo>
                <a:cubicBezTo>
                  <a:pt x="3646" y="13915"/>
                  <a:pt x="3638" y="13907"/>
                  <a:pt x="3621" y="13891"/>
                </a:cubicBezTo>
              </a:path>
              <a:path w="9005" h="2283">
                <a:moveTo>
                  <a:pt x="4167" y="13667"/>
                </a:moveTo>
                <a:cubicBezTo>
                  <a:pt x="4167" y="13767"/>
                  <a:pt x="4177" y="13847"/>
                  <a:pt x="4192" y="13940"/>
                </a:cubicBezTo>
                <a:cubicBezTo>
                  <a:pt x="4200" y="13993"/>
                  <a:pt x="4210" y="14036"/>
                  <a:pt x="4217" y="14089"/>
                </a:cubicBezTo>
              </a:path>
              <a:path w="9005" h="2283">
                <a:moveTo>
                  <a:pt x="4068" y="13915"/>
                </a:moveTo>
                <a:cubicBezTo>
                  <a:pt x="4241" y="13992"/>
                  <a:pt x="4262" y="14009"/>
                  <a:pt x="4366" y="14039"/>
                </a:cubicBezTo>
              </a:path>
              <a:path w="9005" h="2283">
                <a:moveTo>
                  <a:pt x="4663" y="13618"/>
                </a:moveTo>
                <a:cubicBezTo>
                  <a:pt x="4731" y="13627"/>
                  <a:pt x="4803" y="13656"/>
                  <a:pt x="4862" y="13667"/>
                </a:cubicBezTo>
                <a:cubicBezTo>
                  <a:pt x="4919" y="13677"/>
                  <a:pt x="4946" y="13650"/>
                  <a:pt x="4986" y="13618"/>
                </a:cubicBezTo>
              </a:path>
              <a:path w="9005" h="2283">
                <a:moveTo>
                  <a:pt x="4614" y="13742"/>
                </a:moveTo>
                <a:cubicBezTo>
                  <a:pt x="4565" y="13797"/>
                  <a:pt x="4539" y="13818"/>
                  <a:pt x="4539" y="13891"/>
                </a:cubicBezTo>
                <a:cubicBezTo>
                  <a:pt x="4539" y="13899"/>
                  <a:pt x="4539" y="13907"/>
                  <a:pt x="4539" y="13915"/>
                </a:cubicBezTo>
                <a:cubicBezTo>
                  <a:pt x="4636" y="13915"/>
                  <a:pt x="4718" y="13926"/>
                  <a:pt x="4812" y="13940"/>
                </a:cubicBezTo>
                <a:cubicBezTo>
                  <a:pt x="4885" y="13951"/>
                  <a:pt x="4931" y="13986"/>
                  <a:pt x="4961" y="14064"/>
                </a:cubicBezTo>
                <a:cubicBezTo>
                  <a:pt x="4982" y="14118"/>
                  <a:pt x="4940" y="14195"/>
                  <a:pt x="4911" y="14238"/>
                </a:cubicBezTo>
                <a:cubicBezTo>
                  <a:pt x="4886" y="14275"/>
                  <a:pt x="4831" y="14327"/>
                  <a:pt x="4787" y="14337"/>
                </a:cubicBezTo>
                <a:cubicBezTo>
                  <a:pt x="4708" y="14356"/>
                  <a:pt x="4644" y="14338"/>
                  <a:pt x="4589" y="14288"/>
                </a:cubicBezTo>
                <a:cubicBezTo>
                  <a:pt x="4566" y="14265"/>
                  <a:pt x="4558" y="14261"/>
                  <a:pt x="4564" y="14238"/>
                </a:cubicBezTo>
              </a:path>
              <a:path w="9005" h="2283">
                <a:moveTo>
                  <a:pt x="5085" y="13816"/>
                </a:moveTo>
                <a:cubicBezTo>
                  <a:pt x="5171" y="13975"/>
                  <a:pt x="5238" y="14127"/>
                  <a:pt x="5358" y="14263"/>
                </a:cubicBezTo>
                <a:cubicBezTo>
                  <a:pt x="5366" y="14271"/>
                  <a:pt x="5375" y="14280"/>
                  <a:pt x="5383" y="14288"/>
                </a:cubicBezTo>
              </a:path>
              <a:path w="9005" h="2283">
                <a:moveTo>
                  <a:pt x="5234" y="13940"/>
                </a:moveTo>
                <a:cubicBezTo>
                  <a:pt x="5145" y="14060"/>
                  <a:pt x="5015" y="14196"/>
                  <a:pt x="4961" y="14337"/>
                </a:cubicBezTo>
                <a:cubicBezTo>
                  <a:pt x="4944" y="14381"/>
                  <a:pt x="4893" y="14452"/>
                  <a:pt x="4936" y="14387"/>
                </a:cubicBezTo>
              </a:path>
              <a:path w="9005" h="2283">
                <a:moveTo>
                  <a:pt x="5358" y="13444"/>
                </a:moveTo>
                <a:cubicBezTo>
                  <a:pt x="5330" y="13494"/>
                  <a:pt x="5308" y="13513"/>
                  <a:pt x="5308" y="13568"/>
                </a:cubicBezTo>
                <a:cubicBezTo>
                  <a:pt x="5308" y="13625"/>
                  <a:pt x="5346" y="13636"/>
                  <a:pt x="5383" y="13667"/>
                </a:cubicBezTo>
                <a:cubicBezTo>
                  <a:pt x="5438" y="13712"/>
                  <a:pt x="5454" y="13736"/>
                  <a:pt x="5531" y="13742"/>
                </a:cubicBezTo>
                <a:cubicBezTo>
                  <a:pt x="5576" y="13746"/>
                  <a:pt x="5599" y="13717"/>
                  <a:pt x="5631" y="13692"/>
                </a:cubicBezTo>
              </a:path>
              <a:path w="9005" h="2283">
                <a:moveTo>
                  <a:pt x="5531" y="13246"/>
                </a:moveTo>
                <a:cubicBezTo>
                  <a:pt x="5504" y="13375"/>
                  <a:pt x="5482" y="13487"/>
                  <a:pt x="5482" y="13618"/>
                </a:cubicBezTo>
                <a:cubicBezTo>
                  <a:pt x="5482" y="13750"/>
                  <a:pt x="5482" y="13883"/>
                  <a:pt x="5482" y="14015"/>
                </a:cubicBezTo>
              </a:path>
              <a:path w="9005" h="2283">
                <a:moveTo>
                  <a:pt x="5755" y="13816"/>
                </a:moveTo>
                <a:cubicBezTo>
                  <a:pt x="5735" y="13886"/>
                  <a:pt x="5683" y="13987"/>
                  <a:pt x="5705" y="14064"/>
                </a:cubicBezTo>
                <a:cubicBezTo>
                  <a:pt x="5722" y="14123"/>
                  <a:pt x="5762" y="14171"/>
                  <a:pt x="5804" y="14213"/>
                </a:cubicBezTo>
                <a:cubicBezTo>
                  <a:pt x="5841" y="14250"/>
                  <a:pt x="5867" y="14247"/>
                  <a:pt x="5904" y="14213"/>
                </a:cubicBezTo>
                <a:cubicBezTo>
                  <a:pt x="5946" y="14175"/>
                  <a:pt x="5990" y="14120"/>
                  <a:pt x="6003" y="14064"/>
                </a:cubicBezTo>
                <a:cubicBezTo>
                  <a:pt x="6019" y="13995"/>
                  <a:pt x="6028" y="13940"/>
                  <a:pt x="6028" y="13866"/>
                </a:cubicBezTo>
                <a:cubicBezTo>
                  <a:pt x="6028" y="13858"/>
                  <a:pt x="6028" y="13849"/>
                  <a:pt x="6028" y="13841"/>
                </a:cubicBezTo>
                <a:cubicBezTo>
                  <a:pt x="6028" y="13784"/>
                  <a:pt x="6005" y="13881"/>
                  <a:pt x="6003" y="13891"/>
                </a:cubicBezTo>
                <a:cubicBezTo>
                  <a:pt x="5979" y="14002"/>
                  <a:pt x="5989" y="14151"/>
                  <a:pt x="5978" y="14263"/>
                </a:cubicBezTo>
                <a:cubicBezTo>
                  <a:pt x="5967" y="14381"/>
                  <a:pt x="5975" y="14449"/>
                  <a:pt x="5928" y="14560"/>
                </a:cubicBezTo>
                <a:cubicBezTo>
                  <a:pt x="5897" y="14634"/>
                  <a:pt x="5864" y="14690"/>
                  <a:pt x="5779" y="14709"/>
                </a:cubicBezTo>
                <a:cubicBezTo>
                  <a:pt x="5714" y="14724"/>
                  <a:pt x="5639" y="14709"/>
                  <a:pt x="5581" y="14684"/>
                </a:cubicBezTo>
                <a:cubicBezTo>
                  <a:pt x="5510" y="14653"/>
                  <a:pt x="5454" y="14614"/>
                  <a:pt x="5383" y="14585"/>
                </a:cubicBezTo>
              </a:path>
              <a:path w="9005" h="2283">
                <a:moveTo>
                  <a:pt x="6474" y="13568"/>
                </a:moveTo>
                <a:cubicBezTo>
                  <a:pt x="6474" y="13737"/>
                  <a:pt x="6483" y="13900"/>
                  <a:pt x="6499" y="14064"/>
                </a:cubicBezTo>
                <a:cubicBezTo>
                  <a:pt x="6499" y="14147"/>
                  <a:pt x="6499" y="14163"/>
                  <a:pt x="6499" y="14213"/>
                </a:cubicBezTo>
              </a:path>
              <a:path w="9005" h="2283">
                <a:moveTo>
                  <a:pt x="6276" y="13940"/>
                </a:moveTo>
                <a:cubicBezTo>
                  <a:pt x="6327" y="13901"/>
                  <a:pt x="6386" y="13924"/>
                  <a:pt x="6449" y="13940"/>
                </a:cubicBezTo>
                <a:cubicBezTo>
                  <a:pt x="6539" y="13970"/>
                  <a:pt x="6580" y="13975"/>
                  <a:pt x="6648" y="13940"/>
                </a:cubicBezTo>
              </a:path>
              <a:path w="9005" h="2283">
                <a:moveTo>
                  <a:pt x="6921" y="13692"/>
                </a:moveTo>
                <a:cubicBezTo>
                  <a:pt x="6902" y="13807"/>
                  <a:pt x="6884" y="13926"/>
                  <a:pt x="6871" y="14039"/>
                </a:cubicBezTo>
                <a:cubicBezTo>
                  <a:pt x="6861" y="14129"/>
                  <a:pt x="6896" y="14219"/>
                  <a:pt x="6896" y="14312"/>
                </a:cubicBezTo>
                <a:cubicBezTo>
                  <a:pt x="6896" y="14345"/>
                  <a:pt x="6896" y="14362"/>
                  <a:pt x="6896" y="14387"/>
                </a:cubicBezTo>
              </a:path>
              <a:path w="9005" h="2283">
                <a:moveTo>
                  <a:pt x="7094" y="13816"/>
                </a:moveTo>
                <a:cubicBezTo>
                  <a:pt x="7113" y="13753"/>
                  <a:pt x="7111" y="13735"/>
                  <a:pt x="7144" y="13692"/>
                </a:cubicBezTo>
                <a:cubicBezTo>
                  <a:pt x="7098" y="13749"/>
                  <a:pt x="7080" y="13817"/>
                  <a:pt x="7069" y="13891"/>
                </a:cubicBezTo>
                <a:cubicBezTo>
                  <a:pt x="7055" y="13990"/>
                  <a:pt x="7060" y="14121"/>
                  <a:pt x="7094" y="14213"/>
                </a:cubicBezTo>
                <a:cubicBezTo>
                  <a:pt x="7122" y="14289"/>
                  <a:pt x="7188" y="14341"/>
                  <a:pt x="7243" y="14387"/>
                </a:cubicBezTo>
                <a:cubicBezTo>
                  <a:pt x="7266" y="14410"/>
                  <a:pt x="7270" y="14418"/>
                  <a:pt x="7293" y="14412"/>
                </a:cubicBezTo>
                <a:cubicBezTo>
                  <a:pt x="7333" y="14361"/>
                  <a:pt x="7368" y="14300"/>
                  <a:pt x="7392" y="14238"/>
                </a:cubicBezTo>
                <a:cubicBezTo>
                  <a:pt x="7444" y="14106"/>
                  <a:pt x="7406" y="13973"/>
                  <a:pt x="7367" y="13841"/>
                </a:cubicBezTo>
                <a:cubicBezTo>
                  <a:pt x="7349" y="13781"/>
                  <a:pt x="7273" y="13668"/>
                  <a:pt x="7218" y="13643"/>
                </a:cubicBezTo>
                <a:cubicBezTo>
                  <a:pt x="7189" y="13630"/>
                  <a:pt x="7091" y="13622"/>
                  <a:pt x="7094" y="13643"/>
                </a:cubicBezTo>
                <a:cubicBezTo>
                  <a:pt x="7114" y="13703"/>
                  <a:pt x="7113" y="13718"/>
                  <a:pt x="7144" y="13742"/>
                </a:cubicBezTo>
              </a:path>
              <a:path w="9005" h="2283">
                <a:moveTo>
                  <a:pt x="7441" y="14039"/>
                </a:moveTo>
                <a:cubicBezTo>
                  <a:pt x="7464" y="14119"/>
                  <a:pt x="7488" y="14219"/>
                  <a:pt x="7541" y="14288"/>
                </a:cubicBezTo>
                <a:cubicBezTo>
                  <a:pt x="7573" y="14329"/>
                  <a:pt x="7618" y="14375"/>
                  <a:pt x="7665" y="14387"/>
                </a:cubicBezTo>
              </a:path>
              <a:path w="9005" h="2283">
                <a:moveTo>
                  <a:pt x="7714" y="13891"/>
                </a:moveTo>
                <a:cubicBezTo>
                  <a:pt x="7698" y="13969"/>
                  <a:pt x="7668" y="14030"/>
                  <a:pt x="7665" y="14114"/>
                </a:cubicBezTo>
                <a:cubicBezTo>
                  <a:pt x="7657" y="14337"/>
                  <a:pt x="7689" y="14566"/>
                  <a:pt x="7640" y="14784"/>
                </a:cubicBezTo>
                <a:cubicBezTo>
                  <a:pt x="7622" y="14866"/>
                  <a:pt x="7630" y="15016"/>
                  <a:pt x="7565" y="15081"/>
                </a:cubicBezTo>
                <a:cubicBezTo>
                  <a:pt x="7531" y="15115"/>
                  <a:pt x="7486" y="15131"/>
                  <a:pt x="7441" y="15131"/>
                </a:cubicBezTo>
                <a:cubicBezTo>
                  <a:pt x="7400" y="15131"/>
                  <a:pt x="7417" y="15094"/>
                  <a:pt x="7417" y="15056"/>
                </a:cubicBezTo>
              </a:path>
              <a:path w="9005" h="2283">
                <a:moveTo>
                  <a:pt x="7367" y="13915"/>
                </a:moveTo>
                <a:cubicBezTo>
                  <a:pt x="7412" y="14005"/>
                  <a:pt x="7450" y="14110"/>
                  <a:pt x="7516" y="14188"/>
                </a:cubicBezTo>
                <a:cubicBezTo>
                  <a:pt x="7607" y="14296"/>
                  <a:pt x="7699" y="14400"/>
                  <a:pt x="7789" y="14511"/>
                </a:cubicBezTo>
                <a:cubicBezTo>
                  <a:pt x="7836" y="14569"/>
                  <a:pt x="7938" y="14735"/>
                  <a:pt x="7938" y="14660"/>
                </a:cubicBezTo>
                <a:cubicBezTo>
                  <a:pt x="7930" y="14643"/>
                  <a:pt x="7921" y="14627"/>
                  <a:pt x="7913" y="14610"/>
                </a:cubicBezTo>
              </a:path>
              <a:path w="9005" h="2283">
                <a:moveTo>
                  <a:pt x="7813" y="13891"/>
                </a:moveTo>
                <a:cubicBezTo>
                  <a:pt x="7732" y="14029"/>
                  <a:pt x="7657" y="14169"/>
                  <a:pt x="7590" y="14312"/>
                </a:cubicBezTo>
                <a:cubicBezTo>
                  <a:pt x="7533" y="14435"/>
                  <a:pt x="7438" y="14560"/>
                  <a:pt x="7392" y="14684"/>
                </a:cubicBezTo>
                <a:cubicBezTo>
                  <a:pt x="7372" y="14737"/>
                  <a:pt x="7374" y="14752"/>
                  <a:pt x="7342" y="14808"/>
                </a:cubicBezTo>
              </a:path>
              <a:path w="9005" h="2283">
                <a:moveTo>
                  <a:pt x="7739" y="13543"/>
                </a:moveTo>
                <a:cubicBezTo>
                  <a:pt x="7816" y="13528"/>
                  <a:pt x="7884" y="13523"/>
                  <a:pt x="7962" y="13568"/>
                </a:cubicBezTo>
                <a:cubicBezTo>
                  <a:pt x="8012" y="13597"/>
                  <a:pt x="8032" y="13652"/>
                  <a:pt x="8062" y="13692"/>
                </a:cubicBezTo>
                <a:cubicBezTo>
                  <a:pt x="8023" y="13702"/>
                  <a:pt x="8007" y="13717"/>
                  <a:pt x="7962" y="13717"/>
                </a:cubicBezTo>
                <a:cubicBezTo>
                  <a:pt x="7944" y="13717"/>
                  <a:pt x="7906" y="13744"/>
                  <a:pt x="7913" y="13767"/>
                </a:cubicBezTo>
                <a:cubicBezTo>
                  <a:pt x="7938" y="13847"/>
                  <a:pt x="8018" y="13907"/>
                  <a:pt x="8037" y="13990"/>
                </a:cubicBezTo>
                <a:cubicBezTo>
                  <a:pt x="8047" y="14034"/>
                  <a:pt x="8004" y="14095"/>
                  <a:pt x="7962" y="14114"/>
                </a:cubicBezTo>
                <a:cubicBezTo>
                  <a:pt x="7923" y="14132"/>
                  <a:pt x="7866" y="14111"/>
                  <a:pt x="7838" y="14089"/>
                </a:cubicBezTo>
                <a:cubicBezTo>
                  <a:pt x="7793" y="14053"/>
                  <a:pt x="7793" y="14056"/>
                  <a:pt x="7813" y="14015"/>
                </a:cubicBezTo>
              </a:path>
              <a:path w="9005" h="2283">
                <a:moveTo>
                  <a:pt x="8086" y="13990"/>
                </a:moveTo>
                <a:cubicBezTo>
                  <a:pt x="8141" y="14121"/>
                  <a:pt x="8200" y="14243"/>
                  <a:pt x="8260" y="14362"/>
                </a:cubicBezTo>
                <a:cubicBezTo>
                  <a:pt x="8307" y="14454"/>
                  <a:pt x="8308" y="14461"/>
                  <a:pt x="8409" y="14461"/>
                </a:cubicBezTo>
              </a:path>
              <a:path w="9005" h="2283">
                <a:moveTo>
                  <a:pt x="8384" y="13915"/>
                </a:moveTo>
                <a:cubicBezTo>
                  <a:pt x="8350" y="14107"/>
                  <a:pt x="8314" y="14292"/>
                  <a:pt x="8310" y="14486"/>
                </a:cubicBezTo>
                <a:cubicBezTo>
                  <a:pt x="8306" y="14647"/>
                  <a:pt x="8318" y="14804"/>
                  <a:pt x="8285" y="14957"/>
                </a:cubicBezTo>
                <a:cubicBezTo>
                  <a:pt x="8285" y="14982"/>
                  <a:pt x="8285" y="14990"/>
                  <a:pt x="8285" y="14957"/>
                </a:cubicBezTo>
              </a:path>
              <a:path w="9005" h="2283">
                <a:moveTo>
                  <a:pt x="8632" y="13593"/>
                </a:moveTo>
                <a:cubicBezTo>
                  <a:pt x="8707" y="13598"/>
                  <a:pt x="8795" y="13573"/>
                  <a:pt x="8806" y="13667"/>
                </a:cubicBezTo>
                <a:cubicBezTo>
                  <a:pt x="8814" y="13739"/>
                  <a:pt x="8726" y="13738"/>
                  <a:pt x="8706" y="13767"/>
                </a:cubicBezTo>
                <a:cubicBezTo>
                  <a:pt x="8688" y="13793"/>
                  <a:pt x="8682" y="13831"/>
                  <a:pt x="8682" y="13866"/>
                </a:cubicBezTo>
                <a:cubicBezTo>
                  <a:pt x="8682" y="13908"/>
                  <a:pt x="8741" y="13912"/>
                  <a:pt x="8781" y="13915"/>
                </a:cubicBezTo>
                <a:cubicBezTo>
                  <a:pt x="8850" y="13921"/>
                  <a:pt x="8903" y="13940"/>
                  <a:pt x="8979" y="13940"/>
                </a:cubicBezTo>
                <a:cubicBezTo>
                  <a:pt x="9004" y="13940"/>
                  <a:pt x="9029" y="13940"/>
                  <a:pt x="9054" y="13940"/>
                </a:cubicBezTo>
              </a:path>
              <a:path w="9005" h="2283">
                <a:moveTo>
                  <a:pt x="9525" y="13915"/>
                </a:moveTo>
                <a:cubicBezTo>
                  <a:pt x="9525" y="14004"/>
                  <a:pt x="9541" y="14078"/>
                  <a:pt x="9550" y="14163"/>
                </a:cubicBezTo>
                <a:cubicBezTo>
                  <a:pt x="9559" y="14248"/>
                  <a:pt x="9569" y="14330"/>
                  <a:pt x="9575" y="14412"/>
                </a:cubicBezTo>
                <a:cubicBezTo>
                  <a:pt x="9575" y="14420"/>
                  <a:pt x="9575" y="14428"/>
                  <a:pt x="9575" y="14436"/>
                </a:cubicBezTo>
              </a:path>
              <a:path w="9005" h="2283">
                <a:moveTo>
                  <a:pt x="9327" y="14188"/>
                </a:moveTo>
                <a:cubicBezTo>
                  <a:pt x="9417" y="14219"/>
                  <a:pt x="9501" y="14213"/>
                  <a:pt x="9599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98920" y="4759200"/>
            <a:ext cx="2224080" cy="750960"/>
          </a:xfrm>
          <a:custGeom>
            <a:avLst/>
            <a:gdLst/>
            <a:ahLst/>
            <a:rect l="l" t="t" r="r" b="b"/>
            <a:pathLst>
              <a:path w="6178" h="2084">
                <a:moveTo>
                  <a:pt x="10021" y="13791"/>
                </a:moveTo>
                <a:cubicBezTo>
                  <a:pt x="10013" y="13889"/>
                  <a:pt x="9980" y="13988"/>
                  <a:pt x="9996" y="14089"/>
                </a:cubicBezTo>
                <a:cubicBezTo>
                  <a:pt x="10014" y="14201"/>
                  <a:pt x="10051" y="14302"/>
                  <a:pt x="10071" y="14412"/>
                </a:cubicBezTo>
                <a:cubicBezTo>
                  <a:pt x="10079" y="14456"/>
                  <a:pt x="10062" y="14520"/>
                  <a:pt x="10096" y="14486"/>
                </a:cubicBezTo>
              </a:path>
              <a:path w="6178" h="2084">
                <a:moveTo>
                  <a:pt x="10319" y="13767"/>
                </a:moveTo>
                <a:cubicBezTo>
                  <a:pt x="10301" y="13850"/>
                  <a:pt x="10273" y="13933"/>
                  <a:pt x="10269" y="14015"/>
                </a:cubicBezTo>
                <a:cubicBezTo>
                  <a:pt x="10264" y="14120"/>
                  <a:pt x="10278" y="14192"/>
                  <a:pt x="10319" y="14288"/>
                </a:cubicBezTo>
                <a:cubicBezTo>
                  <a:pt x="10347" y="14354"/>
                  <a:pt x="10394" y="14407"/>
                  <a:pt x="10468" y="14412"/>
                </a:cubicBezTo>
                <a:cubicBezTo>
                  <a:pt x="10545" y="14417"/>
                  <a:pt x="10567" y="14354"/>
                  <a:pt x="10592" y="14288"/>
                </a:cubicBezTo>
                <a:cubicBezTo>
                  <a:pt x="10633" y="14182"/>
                  <a:pt x="10621" y="14073"/>
                  <a:pt x="10592" y="13965"/>
                </a:cubicBezTo>
                <a:cubicBezTo>
                  <a:pt x="10568" y="13875"/>
                  <a:pt x="10500" y="13767"/>
                  <a:pt x="10418" y="13717"/>
                </a:cubicBezTo>
                <a:cubicBezTo>
                  <a:pt x="10393" y="13717"/>
                  <a:pt x="10385" y="13717"/>
                  <a:pt x="10368" y="13717"/>
                </a:cubicBezTo>
              </a:path>
              <a:path w="6178" h="2084">
                <a:moveTo>
                  <a:pt x="10592" y="13891"/>
                </a:moveTo>
                <a:cubicBezTo>
                  <a:pt x="10677" y="14007"/>
                  <a:pt x="10718" y="14117"/>
                  <a:pt x="10790" y="14238"/>
                </a:cubicBezTo>
                <a:cubicBezTo>
                  <a:pt x="10846" y="14331"/>
                  <a:pt x="10895" y="14408"/>
                  <a:pt x="10964" y="14486"/>
                </a:cubicBezTo>
              </a:path>
              <a:path w="6178" h="2084">
                <a:moveTo>
                  <a:pt x="10889" y="13915"/>
                </a:moveTo>
                <a:cubicBezTo>
                  <a:pt x="10827" y="14015"/>
                  <a:pt x="10790" y="14111"/>
                  <a:pt x="10740" y="14213"/>
                </a:cubicBezTo>
                <a:cubicBezTo>
                  <a:pt x="10702" y="14289"/>
                  <a:pt x="10672" y="14456"/>
                  <a:pt x="10616" y="14511"/>
                </a:cubicBezTo>
                <a:cubicBezTo>
                  <a:pt x="10616" y="14503"/>
                  <a:pt x="10616" y="14494"/>
                  <a:pt x="10616" y="14486"/>
                </a:cubicBezTo>
              </a:path>
              <a:path w="6178" h="2084">
                <a:moveTo>
                  <a:pt x="10939" y="13568"/>
                </a:moveTo>
                <a:cubicBezTo>
                  <a:pt x="11031" y="13576"/>
                  <a:pt x="11110" y="13601"/>
                  <a:pt x="11162" y="13692"/>
                </a:cubicBezTo>
                <a:cubicBezTo>
                  <a:pt x="11196" y="13752"/>
                  <a:pt x="11204" y="13840"/>
                  <a:pt x="11162" y="13891"/>
                </a:cubicBezTo>
                <a:cubicBezTo>
                  <a:pt x="11128" y="13933"/>
                  <a:pt x="11069" y="13960"/>
                  <a:pt x="11063" y="14015"/>
                </a:cubicBezTo>
                <a:cubicBezTo>
                  <a:pt x="11055" y="14082"/>
                  <a:pt x="11106" y="14072"/>
                  <a:pt x="11137" y="14089"/>
                </a:cubicBezTo>
                <a:cubicBezTo>
                  <a:pt x="11208" y="14128"/>
                  <a:pt x="11215" y="14110"/>
                  <a:pt x="11311" y="14089"/>
                </a:cubicBezTo>
              </a:path>
              <a:path w="6178" h="2084">
                <a:moveTo>
                  <a:pt x="11361" y="14039"/>
                </a:moveTo>
                <a:cubicBezTo>
                  <a:pt x="11328" y="14127"/>
                  <a:pt x="11333" y="14171"/>
                  <a:pt x="11361" y="14263"/>
                </a:cubicBezTo>
                <a:cubicBezTo>
                  <a:pt x="11382" y="14331"/>
                  <a:pt x="11441" y="14462"/>
                  <a:pt x="11509" y="14486"/>
                </a:cubicBezTo>
                <a:cubicBezTo>
                  <a:pt x="11526" y="14486"/>
                  <a:pt x="11542" y="14486"/>
                  <a:pt x="11559" y="14486"/>
                </a:cubicBezTo>
              </a:path>
              <a:path w="6178" h="2084">
                <a:moveTo>
                  <a:pt x="11658" y="14089"/>
                </a:moveTo>
                <a:cubicBezTo>
                  <a:pt x="11621" y="14236"/>
                  <a:pt x="11578" y="14410"/>
                  <a:pt x="11559" y="14560"/>
                </a:cubicBezTo>
                <a:cubicBezTo>
                  <a:pt x="11538" y="14731"/>
                  <a:pt x="11554" y="14887"/>
                  <a:pt x="11559" y="15056"/>
                </a:cubicBezTo>
                <a:cubicBezTo>
                  <a:pt x="11560" y="15111"/>
                  <a:pt x="11535" y="15214"/>
                  <a:pt x="11584" y="15230"/>
                </a:cubicBezTo>
              </a:path>
              <a:path w="6178" h="2084">
                <a:moveTo>
                  <a:pt x="11633" y="13543"/>
                </a:moveTo>
                <a:cubicBezTo>
                  <a:pt x="11712" y="13554"/>
                  <a:pt x="11769" y="13586"/>
                  <a:pt x="11832" y="13643"/>
                </a:cubicBezTo>
                <a:cubicBezTo>
                  <a:pt x="11878" y="13684"/>
                  <a:pt x="11942" y="13710"/>
                  <a:pt x="11956" y="13767"/>
                </a:cubicBezTo>
                <a:cubicBezTo>
                  <a:pt x="11893" y="13767"/>
                  <a:pt x="11866" y="13745"/>
                  <a:pt x="11807" y="13742"/>
                </a:cubicBezTo>
                <a:cubicBezTo>
                  <a:pt x="11766" y="13742"/>
                  <a:pt x="11758" y="13742"/>
                  <a:pt x="11733" y="13742"/>
                </a:cubicBezTo>
                <a:cubicBezTo>
                  <a:pt x="11733" y="13795"/>
                  <a:pt x="11752" y="13820"/>
                  <a:pt x="11782" y="13866"/>
                </a:cubicBezTo>
                <a:cubicBezTo>
                  <a:pt x="11837" y="13952"/>
                  <a:pt x="11902" y="14013"/>
                  <a:pt x="11931" y="14114"/>
                </a:cubicBezTo>
                <a:cubicBezTo>
                  <a:pt x="11931" y="14122"/>
                  <a:pt x="11931" y="14131"/>
                  <a:pt x="11931" y="14139"/>
                </a:cubicBezTo>
                <a:cubicBezTo>
                  <a:pt x="11872" y="14182"/>
                  <a:pt x="11876" y="14175"/>
                  <a:pt x="11807" y="14163"/>
                </a:cubicBezTo>
                <a:cubicBezTo>
                  <a:pt x="11758" y="14155"/>
                  <a:pt x="11708" y="14147"/>
                  <a:pt x="11658" y="14139"/>
                </a:cubicBezTo>
              </a:path>
              <a:path w="6178" h="2084">
                <a:moveTo>
                  <a:pt x="12278" y="14188"/>
                </a:moveTo>
                <a:cubicBezTo>
                  <a:pt x="12278" y="14285"/>
                  <a:pt x="12278" y="14394"/>
                  <a:pt x="12303" y="14486"/>
                </a:cubicBezTo>
                <a:cubicBezTo>
                  <a:pt x="12323" y="14526"/>
                  <a:pt x="12332" y="14533"/>
                  <a:pt x="12328" y="14560"/>
                </a:cubicBezTo>
              </a:path>
              <a:path w="6178" h="2084">
                <a:moveTo>
                  <a:pt x="12105" y="14263"/>
                </a:moveTo>
                <a:cubicBezTo>
                  <a:pt x="12167" y="14276"/>
                  <a:pt x="12218" y="14313"/>
                  <a:pt x="12278" y="14337"/>
                </a:cubicBezTo>
                <a:cubicBezTo>
                  <a:pt x="12384" y="14378"/>
                  <a:pt x="12439" y="14337"/>
                  <a:pt x="12526" y="14288"/>
                </a:cubicBezTo>
              </a:path>
              <a:path w="6178" h="2084">
                <a:moveTo>
                  <a:pt x="12650" y="14015"/>
                </a:moveTo>
                <a:cubicBezTo>
                  <a:pt x="12758" y="13996"/>
                  <a:pt x="12840" y="13990"/>
                  <a:pt x="12948" y="13990"/>
                </a:cubicBezTo>
                <a:cubicBezTo>
                  <a:pt x="13000" y="13990"/>
                  <a:pt x="13018" y="13989"/>
                  <a:pt x="13047" y="13965"/>
                </a:cubicBezTo>
              </a:path>
              <a:path w="6178" h="2084">
                <a:moveTo>
                  <a:pt x="12774" y="13915"/>
                </a:moveTo>
                <a:cubicBezTo>
                  <a:pt x="12733" y="13974"/>
                  <a:pt x="12700" y="13998"/>
                  <a:pt x="12700" y="14064"/>
                </a:cubicBezTo>
                <a:cubicBezTo>
                  <a:pt x="12700" y="14128"/>
                  <a:pt x="12691" y="14138"/>
                  <a:pt x="12725" y="14163"/>
                </a:cubicBezTo>
                <a:cubicBezTo>
                  <a:pt x="12769" y="14196"/>
                  <a:pt x="12778" y="14171"/>
                  <a:pt x="12824" y="14188"/>
                </a:cubicBezTo>
                <a:cubicBezTo>
                  <a:pt x="12894" y="14213"/>
                  <a:pt x="12934" y="14222"/>
                  <a:pt x="12973" y="14288"/>
                </a:cubicBezTo>
                <a:cubicBezTo>
                  <a:pt x="12994" y="14323"/>
                  <a:pt x="13024" y="14446"/>
                  <a:pt x="12998" y="14486"/>
                </a:cubicBezTo>
                <a:cubicBezTo>
                  <a:pt x="12990" y="14498"/>
                  <a:pt x="12881" y="14621"/>
                  <a:pt x="12849" y="14635"/>
                </a:cubicBezTo>
                <a:cubicBezTo>
                  <a:pt x="12787" y="14663"/>
                  <a:pt x="12766" y="14611"/>
                  <a:pt x="12725" y="14585"/>
                </a:cubicBezTo>
                <a:cubicBezTo>
                  <a:pt x="12665" y="14546"/>
                  <a:pt x="12658" y="14527"/>
                  <a:pt x="12626" y="14461"/>
                </a:cubicBezTo>
              </a:path>
              <a:path w="6178" h="2084">
                <a:moveTo>
                  <a:pt x="13122" y="14213"/>
                </a:moveTo>
                <a:cubicBezTo>
                  <a:pt x="13199" y="14345"/>
                  <a:pt x="13272" y="14469"/>
                  <a:pt x="13370" y="14585"/>
                </a:cubicBezTo>
                <a:cubicBezTo>
                  <a:pt x="13426" y="14650"/>
                  <a:pt x="13447" y="14678"/>
                  <a:pt x="13519" y="14635"/>
                </a:cubicBezTo>
              </a:path>
              <a:path w="6178" h="2084">
                <a:moveTo>
                  <a:pt x="13419" y="14114"/>
                </a:moveTo>
                <a:cubicBezTo>
                  <a:pt x="13278" y="14243"/>
                  <a:pt x="13184" y="14324"/>
                  <a:pt x="13097" y="14486"/>
                </a:cubicBezTo>
                <a:cubicBezTo>
                  <a:pt x="13072" y="14533"/>
                  <a:pt x="13013" y="14607"/>
                  <a:pt x="12998" y="14635"/>
                </a:cubicBezTo>
                <a:cubicBezTo>
                  <a:pt x="12998" y="14660"/>
                  <a:pt x="12998" y="14668"/>
                  <a:pt x="12998" y="14635"/>
                </a:cubicBezTo>
              </a:path>
              <a:path w="6178" h="2084">
                <a:moveTo>
                  <a:pt x="13494" y="14163"/>
                </a:moveTo>
                <a:cubicBezTo>
                  <a:pt x="13518" y="14219"/>
                  <a:pt x="13517" y="14317"/>
                  <a:pt x="13543" y="14362"/>
                </a:cubicBezTo>
                <a:cubicBezTo>
                  <a:pt x="13573" y="14414"/>
                  <a:pt x="13628" y="14519"/>
                  <a:pt x="13692" y="14536"/>
                </a:cubicBezTo>
                <a:cubicBezTo>
                  <a:pt x="13709" y="14536"/>
                  <a:pt x="13725" y="14536"/>
                  <a:pt x="13742" y="14536"/>
                </a:cubicBezTo>
              </a:path>
              <a:path w="6178" h="2084">
                <a:moveTo>
                  <a:pt x="13866" y="13965"/>
                </a:moveTo>
                <a:cubicBezTo>
                  <a:pt x="13818" y="14237"/>
                  <a:pt x="13825" y="14465"/>
                  <a:pt x="13841" y="14734"/>
                </a:cubicBezTo>
                <a:cubicBezTo>
                  <a:pt x="13851" y="14909"/>
                  <a:pt x="13816" y="15080"/>
                  <a:pt x="13816" y="15255"/>
                </a:cubicBezTo>
                <a:cubicBezTo>
                  <a:pt x="13816" y="15296"/>
                  <a:pt x="13816" y="15320"/>
                  <a:pt x="13816" y="15280"/>
                </a:cubicBezTo>
              </a:path>
              <a:path w="6178" h="2084">
                <a:moveTo>
                  <a:pt x="14015" y="13494"/>
                </a:moveTo>
                <a:cubicBezTo>
                  <a:pt x="14005" y="13525"/>
                  <a:pt x="13978" y="13549"/>
                  <a:pt x="13965" y="13593"/>
                </a:cubicBezTo>
                <a:cubicBezTo>
                  <a:pt x="13954" y="13631"/>
                  <a:pt x="13940" y="13648"/>
                  <a:pt x="13940" y="13692"/>
                </a:cubicBezTo>
                <a:cubicBezTo>
                  <a:pt x="13940" y="13747"/>
                  <a:pt x="13984" y="13746"/>
                  <a:pt x="14015" y="13767"/>
                </a:cubicBezTo>
                <a:cubicBezTo>
                  <a:pt x="14051" y="13791"/>
                  <a:pt x="14116" y="13811"/>
                  <a:pt x="14163" y="13791"/>
                </a:cubicBezTo>
                <a:cubicBezTo>
                  <a:pt x="14188" y="13775"/>
                  <a:pt x="14213" y="13758"/>
                  <a:pt x="14238" y="13742"/>
                </a:cubicBezTo>
              </a:path>
              <a:path w="6178" h="2084">
                <a:moveTo>
                  <a:pt x="14238" y="13221"/>
                </a:moveTo>
                <a:cubicBezTo>
                  <a:pt x="14221" y="13408"/>
                  <a:pt x="14213" y="13580"/>
                  <a:pt x="14213" y="13767"/>
                </a:cubicBezTo>
                <a:cubicBezTo>
                  <a:pt x="14213" y="13907"/>
                  <a:pt x="14213" y="14048"/>
                  <a:pt x="14213" y="14188"/>
                </a:cubicBezTo>
              </a:path>
              <a:path w="6178" h="2084">
                <a:moveTo>
                  <a:pt x="14684" y="13841"/>
                </a:moveTo>
                <a:cubicBezTo>
                  <a:pt x="14684" y="14020"/>
                  <a:pt x="14711" y="14166"/>
                  <a:pt x="14734" y="14337"/>
                </a:cubicBezTo>
                <a:cubicBezTo>
                  <a:pt x="14740" y="14384"/>
                  <a:pt x="14734" y="14438"/>
                  <a:pt x="14734" y="14486"/>
                </a:cubicBezTo>
              </a:path>
              <a:path w="6178" h="2084">
                <a:moveTo>
                  <a:pt x="14511" y="14163"/>
                </a:moveTo>
                <a:cubicBezTo>
                  <a:pt x="14616" y="14163"/>
                  <a:pt x="14707" y="14199"/>
                  <a:pt x="14808" y="14213"/>
                </a:cubicBezTo>
                <a:cubicBezTo>
                  <a:pt x="14909" y="14227"/>
                  <a:pt x="14946" y="14206"/>
                  <a:pt x="15032" y="14163"/>
                </a:cubicBezTo>
              </a:path>
              <a:path w="6178" h="2084">
                <a:moveTo>
                  <a:pt x="15106" y="13915"/>
                </a:moveTo>
                <a:cubicBezTo>
                  <a:pt x="15180" y="14035"/>
                  <a:pt x="15231" y="14171"/>
                  <a:pt x="15304" y="14288"/>
                </a:cubicBezTo>
                <a:cubicBezTo>
                  <a:pt x="15329" y="14321"/>
                  <a:pt x="15354" y="14354"/>
                  <a:pt x="15379" y="14387"/>
                </a:cubicBezTo>
              </a:path>
              <a:path w="6178" h="2084">
                <a:moveTo>
                  <a:pt x="15602" y="13841"/>
                </a:moveTo>
                <a:cubicBezTo>
                  <a:pt x="15508" y="14029"/>
                  <a:pt x="15461" y="14211"/>
                  <a:pt x="15404" y="14412"/>
                </a:cubicBezTo>
                <a:cubicBezTo>
                  <a:pt x="15353" y="14592"/>
                  <a:pt x="15330" y="14776"/>
                  <a:pt x="15280" y="14957"/>
                </a:cubicBezTo>
                <a:cubicBezTo>
                  <a:pt x="15261" y="15025"/>
                  <a:pt x="15166" y="15151"/>
                  <a:pt x="15280" y="15056"/>
                </a:cubicBezTo>
              </a:path>
              <a:path w="6178" h="2084">
                <a:moveTo>
                  <a:pt x="15875" y="13593"/>
                </a:moveTo>
                <a:cubicBezTo>
                  <a:pt x="15939" y="13567"/>
                  <a:pt x="16070" y="13536"/>
                  <a:pt x="16123" y="13494"/>
                </a:cubicBezTo>
                <a:cubicBezTo>
                  <a:pt x="16154" y="13469"/>
                  <a:pt x="16164" y="13453"/>
                  <a:pt x="16173" y="13419"/>
                </a:cubicBezTo>
              </a:path>
              <a:path w="6178" h="2084">
                <a:moveTo>
                  <a:pt x="15825" y="13519"/>
                </a:moveTo>
                <a:cubicBezTo>
                  <a:pt x="15802" y="13628"/>
                  <a:pt x="15808" y="13635"/>
                  <a:pt x="15825" y="13717"/>
                </a:cubicBezTo>
                <a:cubicBezTo>
                  <a:pt x="15843" y="13806"/>
                  <a:pt x="15876" y="13771"/>
                  <a:pt x="15925" y="13841"/>
                </a:cubicBezTo>
                <a:cubicBezTo>
                  <a:pt x="15968" y="13903"/>
                  <a:pt x="16024" y="13935"/>
                  <a:pt x="16049" y="14015"/>
                </a:cubicBezTo>
                <a:cubicBezTo>
                  <a:pt x="16087" y="14134"/>
                  <a:pt x="16062" y="14155"/>
                  <a:pt x="15949" y="14163"/>
                </a:cubicBezTo>
                <a:cubicBezTo>
                  <a:pt x="15893" y="14167"/>
                  <a:pt x="15825" y="14113"/>
                  <a:pt x="15776" y="14089"/>
                </a:cubicBezTo>
                <a:cubicBezTo>
                  <a:pt x="15716" y="14059"/>
                  <a:pt x="15715" y="14048"/>
                  <a:pt x="15652" y="140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5200" y="6062760"/>
            <a:ext cx="61920" cy="447480"/>
          </a:xfrm>
          <a:custGeom>
            <a:avLst/>
            <a:gdLst/>
            <a:ahLst/>
            <a:rect l="l" t="t" r="r" b="b"/>
            <a:pathLst>
              <a:path w="174" h="1242">
                <a:moveTo>
                  <a:pt x="868" y="16991"/>
                </a:moveTo>
                <a:cubicBezTo>
                  <a:pt x="857" y="17036"/>
                  <a:pt x="843" y="17061"/>
                  <a:pt x="843" y="17115"/>
                </a:cubicBezTo>
                <a:cubicBezTo>
                  <a:pt x="843" y="17413"/>
                  <a:pt x="843" y="17710"/>
                  <a:pt x="843" y="18008"/>
                </a:cubicBezTo>
                <a:cubicBezTo>
                  <a:pt x="824" y="18067"/>
                  <a:pt x="804" y="18010"/>
                  <a:pt x="819" y="17983"/>
                </a:cubicBezTo>
                <a:cubicBezTo>
                  <a:pt x="849" y="17927"/>
                  <a:pt x="854" y="17830"/>
                  <a:pt x="868" y="17760"/>
                </a:cubicBezTo>
                <a:cubicBezTo>
                  <a:pt x="893" y="17632"/>
                  <a:pt x="893" y="17517"/>
                  <a:pt x="893" y="17388"/>
                </a:cubicBezTo>
                <a:cubicBezTo>
                  <a:pt x="893" y="17307"/>
                  <a:pt x="925" y="17188"/>
                  <a:pt x="918" y="17115"/>
                </a:cubicBezTo>
                <a:cubicBezTo>
                  <a:pt x="913" y="17058"/>
                  <a:pt x="893" y="17006"/>
                  <a:pt x="893" y="16942"/>
                </a:cubicBezTo>
                <a:cubicBezTo>
                  <a:pt x="893" y="16900"/>
                  <a:pt x="893" y="16825"/>
                  <a:pt x="893" y="16867"/>
                </a:cubicBezTo>
                <a:cubicBezTo>
                  <a:pt x="893" y="17003"/>
                  <a:pt x="903" y="17132"/>
                  <a:pt x="918" y="17264"/>
                </a:cubicBezTo>
                <a:cubicBezTo>
                  <a:pt x="933" y="17394"/>
                  <a:pt x="947" y="17532"/>
                  <a:pt x="967" y="17661"/>
                </a:cubicBezTo>
                <a:cubicBezTo>
                  <a:pt x="981" y="17755"/>
                  <a:pt x="992" y="17836"/>
                  <a:pt x="992" y="17934"/>
                </a:cubicBezTo>
                <a:cubicBezTo>
                  <a:pt x="992" y="17965"/>
                  <a:pt x="940" y="18056"/>
                  <a:pt x="967" y="18083"/>
                </a:cubicBezTo>
                <a:cubicBezTo>
                  <a:pt x="975" y="18083"/>
                  <a:pt x="984" y="18083"/>
                  <a:pt x="992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4840" y="6134040"/>
            <a:ext cx="331560" cy="465120"/>
          </a:xfrm>
          <a:custGeom>
            <a:avLst/>
            <a:gdLst/>
            <a:ahLst/>
            <a:rect l="l" t="t" r="r" b="b"/>
            <a:pathLst>
              <a:path w="919" h="1291">
                <a:moveTo>
                  <a:pt x="4242" y="17041"/>
                </a:moveTo>
                <a:cubicBezTo>
                  <a:pt x="4222" y="17061"/>
                  <a:pt x="4182" y="17112"/>
                  <a:pt x="4142" y="17140"/>
                </a:cubicBezTo>
                <a:cubicBezTo>
                  <a:pt x="4069" y="17192"/>
                  <a:pt x="4009" y="17249"/>
                  <a:pt x="3944" y="17314"/>
                </a:cubicBezTo>
                <a:cubicBezTo>
                  <a:pt x="3852" y="17405"/>
                  <a:pt x="3824" y="17461"/>
                  <a:pt x="3820" y="17587"/>
                </a:cubicBezTo>
                <a:cubicBezTo>
                  <a:pt x="3816" y="17713"/>
                  <a:pt x="3833" y="17800"/>
                  <a:pt x="3894" y="17909"/>
                </a:cubicBezTo>
                <a:cubicBezTo>
                  <a:pt x="3938" y="17987"/>
                  <a:pt x="4010" y="18071"/>
                  <a:pt x="4093" y="18107"/>
                </a:cubicBezTo>
                <a:cubicBezTo>
                  <a:pt x="4170" y="18141"/>
                  <a:pt x="4255" y="18175"/>
                  <a:pt x="4341" y="18157"/>
                </a:cubicBezTo>
                <a:cubicBezTo>
                  <a:pt x="4428" y="18139"/>
                  <a:pt x="4576" y="18074"/>
                  <a:pt x="4638" y="18008"/>
                </a:cubicBezTo>
                <a:cubicBezTo>
                  <a:pt x="4691" y="17952"/>
                  <a:pt x="4734" y="17861"/>
                  <a:pt x="4738" y="17785"/>
                </a:cubicBezTo>
                <a:cubicBezTo>
                  <a:pt x="4741" y="17734"/>
                  <a:pt x="4712" y="17653"/>
                  <a:pt x="4688" y="17611"/>
                </a:cubicBezTo>
                <a:cubicBezTo>
                  <a:pt x="4671" y="17580"/>
                  <a:pt x="4593" y="17576"/>
                  <a:pt x="4564" y="17587"/>
                </a:cubicBezTo>
                <a:cubicBezTo>
                  <a:pt x="4478" y="17619"/>
                  <a:pt x="4478" y="17689"/>
                  <a:pt x="4440" y="17760"/>
                </a:cubicBezTo>
                <a:cubicBezTo>
                  <a:pt x="4375" y="17879"/>
                  <a:pt x="4390" y="17932"/>
                  <a:pt x="4366" y="18058"/>
                </a:cubicBezTo>
                <a:cubicBezTo>
                  <a:pt x="4351" y="18139"/>
                  <a:pt x="4341" y="18198"/>
                  <a:pt x="4341" y="18281"/>
                </a:cubicBezTo>
                <a:cubicBezTo>
                  <a:pt x="4341" y="18326"/>
                  <a:pt x="4339" y="18352"/>
                  <a:pt x="4316" y="18306"/>
                </a:cubicBezTo>
                <a:cubicBezTo>
                  <a:pt x="4316" y="18298"/>
                  <a:pt x="4316" y="18289"/>
                  <a:pt x="4316" y="182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1200" y="6215040"/>
            <a:ext cx="473040" cy="357120"/>
          </a:xfrm>
          <a:custGeom>
            <a:avLst/>
            <a:gdLst/>
            <a:ahLst/>
            <a:rect l="l" t="t" r="r" b="b"/>
            <a:pathLst>
              <a:path w="1315" h="993">
                <a:moveTo>
                  <a:pt x="7169" y="17289"/>
                </a:moveTo>
                <a:cubicBezTo>
                  <a:pt x="7197" y="17404"/>
                  <a:pt x="7217" y="17519"/>
                  <a:pt x="7243" y="17636"/>
                </a:cubicBezTo>
                <a:cubicBezTo>
                  <a:pt x="7270" y="17758"/>
                  <a:pt x="7286" y="17885"/>
                  <a:pt x="7293" y="18008"/>
                </a:cubicBezTo>
                <a:cubicBezTo>
                  <a:pt x="7297" y="18074"/>
                  <a:pt x="7313" y="18065"/>
                  <a:pt x="7342" y="18058"/>
                </a:cubicBezTo>
                <a:cubicBezTo>
                  <a:pt x="7370" y="18058"/>
                  <a:pt x="7381" y="18056"/>
                  <a:pt x="7392" y="18033"/>
                </a:cubicBezTo>
              </a:path>
              <a:path w="1315" h="993">
                <a:moveTo>
                  <a:pt x="7838" y="17338"/>
                </a:moveTo>
                <a:cubicBezTo>
                  <a:pt x="7987" y="17250"/>
                  <a:pt x="7981" y="17271"/>
                  <a:pt x="8136" y="17289"/>
                </a:cubicBezTo>
                <a:cubicBezTo>
                  <a:pt x="8232" y="17300"/>
                  <a:pt x="8314" y="17334"/>
                  <a:pt x="8409" y="17338"/>
                </a:cubicBezTo>
                <a:cubicBezTo>
                  <a:pt x="8434" y="17338"/>
                  <a:pt x="8458" y="17338"/>
                  <a:pt x="8483" y="17338"/>
                </a:cubicBezTo>
              </a:path>
              <a:path w="1315" h="993">
                <a:moveTo>
                  <a:pt x="7913" y="17363"/>
                </a:moveTo>
                <a:cubicBezTo>
                  <a:pt x="7860" y="17431"/>
                  <a:pt x="7813" y="17460"/>
                  <a:pt x="7813" y="17537"/>
                </a:cubicBezTo>
                <a:cubicBezTo>
                  <a:pt x="7813" y="17558"/>
                  <a:pt x="7882" y="17626"/>
                  <a:pt x="7913" y="17636"/>
                </a:cubicBezTo>
                <a:cubicBezTo>
                  <a:pt x="7971" y="17655"/>
                  <a:pt x="8028" y="17650"/>
                  <a:pt x="8086" y="17686"/>
                </a:cubicBezTo>
                <a:cubicBezTo>
                  <a:pt x="8172" y="17740"/>
                  <a:pt x="8190" y="17747"/>
                  <a:pt x="8260" y="17859"/>
                </a:cubicBezTo>
                <a:cubicBezTo>
                  <a:pt x="8313" y="17944"/>
                  <a:pt x="8316" y="17991"/>
                  <a:pt x="8285" y="18083"/>
                </a:cubicBezTo>
                <a:cubicBezTo>
                  <a:pt x="8251" y="18183"/>
                  <a:pt x="8232" y="18189"/>
                  <a:pt x="8161" y="18231"/>
                </a:cubicBezTo>
                <a:cubicBezTo>
                  <a:pt x="8134" y="18247"/>
                  <a:pt x="8075" y="18277"/>
                  <a:pt x="8037" y="18256"/>
                </a:cubicBezTo>
                <a:cubicBezTo>
                  <a:pt x="8002" y="18236"/>
                  <a:pt x="7946" y="18227"/>
                  <a:pt x="7913" y="18207"/>
                </a:cubicBezTo>
                <a:cubicBezTo>
                  <a:pt x="7881" y="18188"/>
                  <a:pt x="7839" y="18150"/>
                  <a:pt x="7813" y="18132"/>
                </a:cubicBezTo>
                <a:cubicBezTo>
                  <a:pt x="7779" y="18109"/>
                  <a:pt x="7779" y="18093"/>
                  <a:pt x="7739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52960" y="6197760"/>
            <a:ext cx="544320" cy="401400"/>
          </a:xfrm>
          <a:custGeom>
            <a:avLst/>
            <a:gdLst/>
            <a:ahLst/>
            <a:rect l="l" t="t" r="r" b="b"/>
            <a:pathLst>
              <a:path w="1514" h="1118">
                <a:moveTo>
                  <a:pt x="11534" y="17264"/>
                </a:moveTo>
                <a:cubicBezTo>
                  <a:pt x="11640" y="17237"/>
                  <a:pt x="11747" y="17219"/>
                  <a:pt x="11857" y="17214"/>
                </a:cubicBezTo>
                <a:cubicBezTo>
                  <a:pt x="11927" y="17211"/>
                  <a:pt x="12046" y="17242"/>
                  <a:pt x="12080" y="17314"/>
                </a:cubicBezTo>
                <a:cubicBezTo>
                  <a:pt x="12120" y="17399"/>
                  <a:pt x="12088" y="17465"/>
                  <a:pt x="12030" y="17537"/>
                </a:cubicBezTo>
                <a:cubicBezTo>
                  <a:pt x="11952" y="17634"/>
                  <a:pt x="11830" y="17665"/>
                  <a:pt x="11733" y="17735"/>
                </a:cubicBezTo>
                <a:cubicBezTo>
                  <a:pt x="11658" y="17789"/>
                  <a:pt x="11591" y="17869"/>
                  <a:pt x="11584" y="17959"/>
                </a:cubicBezTo>
                <a:cubicBezTo>
                  <a:pt x="11577" y="18041"/>
                  <a:pt x="11623" y="18128"/>
                  <a:pt x="11683" y="18182"/>
                </a:cubicBezTo>
                <a:cubicBezTo>
                  <a:pt x="11807" y="18293"/>
                  <a:pt x="11930" y="18326"/>
                  <a:pt x="12080" y="18306"/>
                </a:cubicBezTo>
              </a:path>
              <a:path w="1514" h="1118">
                <a:moveTo>
                  <a:pt x="12725" y="17413"/>
                </a:moveTo>
                <a:cubicBezTo>
                  <a:pt x="12672" y="17413"/>
                  <a:pt x="12664" y="17424"/>
                  <a:pt x="12626" y="17462"/>
                </a:cubicBezTo>
                <a:cubicBezTo>
                  <a:pt x="12537" y="17551"/>
                  <a:pt x="12525" y="17645"/>
                  <a:pt x="12502" y="17760"/>
                </a:cubicBezTo>
                <a:cubicBezTo>
                  <a:pt x="12486" y="17838"/>
                  <a:pt x="12454" y="17950"/>
                  <a:pt x="12477" y="18033"/>
                </a:cubicBezTo>
                <a:cubicBezTo>
                  <a:pt x="12496" y="18100"/>
                  <a:pt x="12497" y="18152"/>
                  <a:pt x="12576" y="18157"/>
                </a:cubicBezTo>
                <a:cubicBezTo>
                  <a:pt x="12653" y="18162"/>
                  <a:pt x="12734" y="18154"/>
                  <a:pt x="12799" y="18107"/>
                </a:cubicBezTo>
                <a:cubicBezTo>
                  <a:pt x="12891" y="18040"/>
                  <a:pt x="12944" y="17965"/>
                  <a:pt x="12973" y="17859"/>
                </a:cubicBezTo>
                <a:cubicBezTo>
                  <a:pt x="13015" y="17706"/>
                  <a:pt x="13047" y="17592"/>
                  <a:pt x="13047" y="17438"/>
                </a:cubicBezTo>
                <a:cubicBezTo>
                  <a:pt x="13047" y="17373"/>
                  <a:pt x="13036" y="17342"/>
                  <a:pt x="13022" y="17314"/>
                </a:cubicBezTo>
                <a:cubicBezTo>
                  <a:pt x="13022" y="17289"/>
                  <a:pt x="13022" y="17281"/>
                  <a:pt x="12998" y="172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56200" y="6215040"/>
            <a:ext cx="61920" cy="349200"/>
          </a:xfrm>
          <a:custGeom>
            <a:avLst/>
            <a:gdLst/>
            <a:ahLst/>
            <a:rect l="l" t="t" r="r" b="b"/>
            <a:pathLst>
              <a:path w="174" h="968">
                <a:moveTo>
                  <a:pt x="16545" y="17264"/>
                </a:moveTo>
                <a:cubicBezTo>
                  <a:pt x="16601" y="17377"/>
                  <a:pt x="16616" y="17480"/>
                  <a:pt x="16619" y="17611"/>
                </a:cubicBezTo>
                <a:cubicBezTo>
                  <a:pt x="16623" y="17788"/>
                  <a:pt x="16653" y="17958"/>
                  <a:pt x="16669" y="18132"/>
                </a:cubicBezTo>
                <a:cubicBezTo>
                  <a:pt x="16676" y="18208"/>
                  <a:pt x="16655" y="18238"/>
                  <a:pt x="16718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15040" y="6134040"/>
            <a:ext cx="285840" cy="420840"/>
          </a:xfrm>
          <a:custGeom>
            <a:avLst/>
            <a:gdLst/>
            <a:ahLst/>
            <a:rect l="l" t="t" r="r" b="b"/>
            <a:pathLst>
              <a:path w="795" h="1167">
                <a:moveTo>
                  <a:pt x="17264" y="17115"/>
                </a:moveTo>
                <a:cubicBezTo>
                  <a:pt x="17462" y="17087"/>
                  <a:pt x="17484" y="17104"/>
                  <a:pt x="17661" y="17165"/>
                </a:cubicBezTo>
                <a:cubicBezTo>
                  <a:pt x="17749" y="17196"/>
                  <a:pt x="17844" y="17212"/>
                  <a:pt x="17934" y="17239"/>
                </a:cubicBezTo>
              </a:path>
              <a:path w="795" h="1167">
                <a:moveTo>
                  <a:pt x="17785" y="17041"/>
                </a:moveTo>
                <a:cubicBezTo>
                  <a:pt x="17714" y="17041"/>
                  <a:pt x="17643" y="17032"/>
                  <a:pt x="17587" y="17066"/>
                </a:cubicBezTo>
                <a:cubicBezTo>
                  <a:pt x="17551" y="17088"/>
                  <a:pt x="17527" y="17122"/>
                  <a:pt x="17537" y="17165"/>
                </a:cubicBezTo>
                <a:cubicBezTo>
                  <a:pt x="17553" y="17234"/>
                  <a:pt x="17640" y="17291"/>
                  <a:pt x="17686" y="17338"/>
                </a:cubicBezTo>
                <a:cubicBezTo>
                  <a:pt x="17803" y="17456"/>
                  <a:pt x="17875" y="17536"/>
                  <a:pt x="17959" y="17686"/>
                </a:cubicBezTo>
                <a:cubicBezTo>
                  <a:pt x="18013" y="17784"/>
                  <a:pt x="18075" y="17918"/>
                  <a:pt x="18058" y="18033"/>
                </a:cubicBezTo>
                <a:cubicBezTo>
                  <a:pt x="18041" y="18153"/>
                  <a:pt x="17999" y="18152"/>
                  <a:pt x="17909" y="18182"/>
                </a:cubicBezTo>
                <a:cubicBezTo>
                  <a:pt x="17838" y="18206"/>
                  <a:pt x="17783" y="18189"/>
                  <a:pt x="17711" y="18157"/>
                </a:cubicBezTo>
                <a:cubicBezTo>
                  <a:pt x="17641" y="18125"/>
                  <a:pt x="17560" y="18090"/>
                  <a:pt x="17537" y="18008"/>
                </a:cubicBezTo>
                <a:cubicBezTo>
                  <a:pt x="17537" y="17950"/>
                  <a:pt x="17537" y="17925"/>
                  <a:pt x="17537" y="178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00960" y="6242040"/>
            <a:ext cx="241200" cy="401760"/>
          </a:xfrm>
          <a:custGeom>
            <a:avLst/>
            <a:gdLst/>
            <a:ahLst/>
            <a:rect l="l" t="t" r="r" b="b"/>
            <a:pathLst>
              <a:path w="671" h="1118">
                <a:moveTo>
                  <a:pt x="20960" y="17338"/>
                </a:moveTo>
                <a:cubicBezTo>
                  <a:pt x="20924" y="17426"/>
                  <a:pt x="20851" y="17515"/>
                  <a:pt x="20836" y="17611"/>
                </a:cubicBezTo>
                <a:cubicBezTo>
                  <a:pt x="20817" y="17731"/>
                  <a:pt x="20835" y="17867"/>
                  <a:pt x="20861" y="17983"/>
                </a:cubicBezTo>
                <a:cubicBezTo>
                  <a:pt x="20891" y="18119"/>
                  <a:pt x="20990" y="18234"/>
                  <a:pt x="21134" y="18256"/>
                </a:cubicBezTo>
                <a:cubicBezTo>
                  <a:pt x="21255" y="18275"/>
                  <a:pt x="21349" y="18206"/>
                  <a:pt x="21431" y="18132"/>
                </a:cubicBezTo>
                <a:cubicBezTo>
                  <a:pt x="21505" y="18065"/>
                  <a:pt x="21529" y="17958"/>
                  <a:pt x="21506" y="17859"/>
                </a:cubicBezTo>
                <a:cubicBezTo>
                  <a:pt x="21481" y="17810"/>
                  <a:pt x="21472" y="17793"/>
                  <a:pt x="21456" y="17760"/>
                </a:cubicBezTo>
                <a:cubicBezTo>
                  <a:pt x="21389" y="17770"/>
                  <a:pt x="21372" y="17768"/>
                  <a:pt x="21357" y="17859"/>
                </a:cubicBezTo>
                <a:cubicBezTo>
                  <a:pt x="21333" y="18009"/>
                  <a:pt x="21393" y="18118"/>
                  <a:pt x="21431" y="18256"/>
                </a:cubicBezTo>
                <a:cubicBezTo>
                  <a:pt x="21454" y="18368"/>
                  <a:pt x="21455" y="18399"/>
                  <a:pt x="21506" y="184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05880" y="6465960"/>
            <a:ext cx="54000" cy="347760"/>
          </a:xfrm>
          <a:custGeom>
            <a:avLst/>
            <a:gdLst/>
            <a:ahLst/>
            <a:rect l="l" t="t" r="r" b="b"/>
            <a:pathLst>
              <a:path w="149" h="968">
                <a:moveTo>
                  <a:pt x="24333" y="17959"/>
                </a:moveTo>
                <a:cubicBezTo>
                  <a:pt x="24306" y="18200"/>
                  <a:pt x="24186" y="18578"/>
                  <a:pt x="24185" y="18827"/>
                </a:cubicBezTo>
                <a:cubicBezTo>
                  <a:pt x="24193" y="18860"/>
                  <a:pt x="24201" y="18893"/>
                  <a:pt x="24209" y="189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Expand (x + y)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598760"/>
            <a:ext cx="1170000" cy="1544400"/>
          </a:xfrm>
          <a:custGeom>
            <a:avLst/>
            <a:gdLst/>
            <a:ahLst/>
            <a:rect l="l" t="t" r="r" b="b"/>
            <a:pathLst>
              <a:path w="3250" h="4292">
                <a:moveTo>
                  <a:pt x="1836" y="6077"/>
                </a:moveTo>
                <a:cubicBezTo>
                  <a:pt x="1887" y="6070"/>
                  <a:pt x="1872" y="6060"/>
                  <a:pt x="1910" y="6052"/>
                </a:cubicBezTo>
                <a:cubicBezTo>
                  <a:pt x="1969" y="6040"/>
                  <a:pt x="2006" y="6068"/>
                  <a:pt x="2059" y="6077"/>
                </a:cubicBezTo>
                <a:cubicBezTo>
                  <a:pt x="2240" y="6108"/>
                  <a:pt x="2447" y="6084"/>
                  <a:pt x="2629" y="6102"/>
                </a:cubicBezTo>
                <a:cubicBezTo>
                  <a:pt x="2890" y="6128"/>
                  <a:pt x="3162" y="6107"/>
                  <a:pt x="3423" y="6127"/>
                </a:cubicBezTo>
                <a:cubicBezTo>
                  <a:pt x="3573" y="6139"/>
                  <a:pt x="3723" y="6136"/>
                  <a:pt x="3870" y="6152"/>
                </a:cubicBezTo>
                <a:cubicBezTo>
                  <a:pt x="3999" y="6166"/>
                  <a:pt x="4136" y="6152"/>
                  <a:pt x="4266" y="6152"/>
                </a:cubicBezTo>
              </a:path>
              <a:path w="3250" h="4292">
                <a:moveTo>
                  <a:pt x="1141" y="8260"/>
                </a:moveTo>
                <a:cubicBezTo>
                  <a:pt x="1141" y="8312"/>
                  <a:pt x="1146" y="8312"/>
                  <a:pt x="1116" y="8334"/>
                </a:cubicBezTo>
                <a:cubicBezTo>
                  <a:pt x="1104" y="8343"/>
                  <a:pt x="1046" y="8422"/>
                  <a:pt x="1042" y="8434"/>
                </a:cubicBezTo>
                <a:cubicBezTo>
                  <a:pt x="1032" y="8465"/>
                  <a:pt x="1014" y="8520"/>
                  <a:pt x="1067" y="8483"/>
                </a:cubicBezTo>
                <a:cubicBezTo>
                  <a:pt x="1170" y="8410"/>
                  <a:pt x="1111" y="8430"/>
                  <a:pt x="1191" y="8483"/>
                </a:cubicBezTo>
                <a:cubicBezTo>
                  <a:pt x="1207" y="8494"/>
                  <a:pt x="1270" y="8483"/>
                  <a:pt x="1290" y="8483"/>
                </a:cubicBezTo>
              </a:path>
              <a:path w="3250" h="4292">
                <a:moveTo>
                  <a:pt x="1290" y="8186"/>
                </a:moveTo>
                <a:cubicBezTo>
                  <a:pt x="1320" y="8294"/>
                  <a:pt x="1294" y="8306"/>
                  <a:pt x="1290" y="8409"/>
                </a:cubicBezTo>
                <a:cubicBezTo>
                  <a:pt x="1287" y="8489"/>
                  <a:pt x="1298" y="8587"/>
                  <a:pt x="1315" y="8632"/>
                </a:cubicBezTo>
                <a:cubicBezTo>
                  <a:pt x="1323" y="8653"/>
                  <a:pt x="1315" y="8778"/>
                  <a:pt x="1315" y="8657"/>
                </a:cubicBezTo>
              </a:path>
              <a:path w="3250" h="4292">
                <a:moveTo>
                  <a:pt x="1910" y="7466"/>
                </a:moveTo>
                <a:cubicBezTo>
                  <a:pt x="1958" y="7514"/>
                  <a:pt x="1915" y="7442"/>
                  <a:pt x="1885" y="7392"/>
                </a:cubicBezTo>
                <a:cubicBezTo>
                  <a:pt x="1861" y="7352"/>
                  <a:pt x="1842" y="7309"/>
                  <a:pt x="1811" y="7268"/>
                </a:cubicBezTo>
                <a:cubicBezTo>
                  <a:pt x="1781" y="7228"/>
                  <a:pt x="1772" y="7185"/>
                  <a:pt x="1736" y="7144"/>
                </a:cubicBezTo>
                <a:cubicBezTo>
                  <a:pt x="1709" y="7113"/>
                  <a:pt x="1653" y="7108"/>
                  <a:pt x="1612" y="7119"/>
                </a:cubicBezTo>
                <a:cubicBezTo>
                  <a:pt x="1553" y="7136"/>
                  <a:pt x="1550" y="7169"/>
                  <a:pt x="1513" y="7218"/>
                </a:cubicBezTo>
                <a:cubicBezTo>
                  <a:pt x="1469" y="7276"/>
                  <a:pt x="1447" y="7367"/>
                  <a:pt x="1439" y="7441"/>
                </a:cubicBezTo>
                <a:cubicBezTo>
                  <a:pt x="1427" y="7547"/>
                  <a:pt x="1430" y="7658"/>
                  <a:pt x="1414" y="7764"/>
                </a:cubicBezTo>
                <a:cubicBezTo>
                  <a:pt x="1394" y="7897"/>
                  <a:pt x="1396" y="7982"/>
                  <a:pt x="1414" y="8111"/>
                </a:cubicBezTo>
                <a:cubicBezTo>
                  <a:pt x="1420" y="8156"/>
                  <a:pt x="1432" y="8265"/>
                  <a:pt x="1488" y="8285"/>
                </a:cubicBezTo>
                <a:cubicBezTo>
                  <a:pt x="1574" y="8316"/>
                  <a:pt x="1624" y="8298"/>
                  <a:pt x="1712" y="8285"/>
                </a:cubicBezTo>
                <a:cubicBezTo>
                  <a:pt x="1793" y="8273"/>
                  <a:pt x="1834" y="8268"/>
                  <a:pt x="1910" y="8235"/>
                </a:cubicBezTo>
              </a:path>
              <a:path w="3250" h="4292">
                <a:moveTo>
                  <a:pt x="1960" y="8508"/>
                </a:moveTo>
                <a:cubicBezTo>
                  <a:pt x="1935" y="8600"/>
                  <a:pt x="1922" y="8629"/>
                  <a:pt x="1935" y="8706"/>
                </a:cubicBezTo>
                <a:cubicBezTo>
                  <a:pt x="1946" y="8769"/>
                  <a:pt x="2020" y="8717"/>
                  <a:pt x="2059" y="8706"/>
                </a:cubicBezTo>
                <a:cubicBezTo>
                  <a:pt x="2117" y="8690"/>
                  <a:pt x="2129" y="8695"/>
                  <a:pt x="2158" y="8632"/>
                </a:cubicBezTo>
                <a:cubicBezTo>
                  <a:pt x="2190" y="8564"/>
                  <a:pt x="2186" y="8527"/>
                  <a:pt x="2158" y="8483"/>
                </a:cubicBezTo>
                <a:cubicBezTo>
                  <a:pt x="2131" y="8439"/>
                  <a:pt x="2112" y="8415"/>
                  <a:pt x="2059" y="8409"/>
                </a:cubicBezTo>
                <a:cubicBezTo>
                  <a:pt x="2034" y="8409"/>
                  <a:pt x="2026" y="8409"/>
                  <a:pt x="2009" y="8409"/>
                </a:cubicBezTo>
              </a:path>
              <a:path w="3250" h="4292">
                <a:moveTo>
                  <a:pt x="2108" y="7516"/>
                </a:moveTo>
                <a:cubicBezTo>
                  <a:pt x="2081" y="7552"/>
                  <a:pt x="2093" y="7554"/>
                  <a:pt x="2059" y="7565"/>
                </a:cubicBezTo>
                <a:cubicBezTo>
                  <a:pt x="2059" y="7446"/>
                  <a:pt x="2076" y="7333"/>
                  <a:pt x="2084" y="7218"/>
                </a:cubicBezTo>
                <a:cubicBezTo>
                  <a:pt x="2094" y="7084"/>
                  <a:pt x="2108" y="6955"/>
                  <a:pt x="2108" y="6821"/>
                </a:cubicBezTo>
                <a:cubicBezTo>
                  <a:pt x="2108" y="6754"/>
                  <a:pt x="2107" y="6612"/>
                  <a:pt x="2084" y="6548"/>
                </a:cubicBezTo>
                <a:cubicBezTo>
                  <a:pt x="2069" y="6507"/>
                  <a:pt x="2059" y="6500"/>
                  <a:pt x="2059" y="6449"/>
                </a:cubicBezTo>
                <a:cubicBezTo>
                  <a:pt x="2059" y="6415"/>
                  <a:pt x="2053" y="6403"/>
                  <a:pt x="2059" y="6449"/>
                </a:cubicBezTo>
                <a:cubicBezTo>
                  <a:pt x="2059" y="6474"/>
                  <a:pt x="2059" y="6482"/>
                  <a:pt x="2059" y="6499"/>
                </a:cubicBezTo>
              </a:path>
              <a:path w="3250" h="4292">
                <a:moveTo>
                  <a:pt x="1860" y="6598"/>
                </a:moveTo>
                <a:cubicBezTo>
                  <a:pt x="1888" y="6528"/>
                  <a:pt x="1932" y="6472"/>
                  <a:pt x="1960" y="6400"/>
                </a:cubicBezTo>
                <a:cubicBezTo>
                  <a:pt x="1982" y="6342"/>
                  <a:pt x="1991" y="6283"/>
                  <a:pt x="2059" y="6276"/>
                </a:cubicBezTo>
                <a:cubicBezTo>
                  <a:pt x="2129" y="6269"/>
                  <a:pt x="2128" y="6378"/>
                  <a:pt x="2183" y="6400"/>
                </a:cubicBezTo>
                <a:cubicBezTo>
                  <a:pt x="2224" y="6417"/>
                  <a:pt x="2286" y="6440"/>
                  <a:pt x="2332" y="6449"/>
                </a:cubicBezTo>
              </a:path>
              <a:path w="3250" h="4292">
                <a:moveTo>
                  <a:pt x="2183" y="5135"/>
                </a:moveTo>
                <a:cubicBezTo>
                  <a:pt x="2183" y="5127"/>
                  <a:pt x="2183" y="5118"/>
                  <a:pt x="2183" y="5110"/>
                </a:cubicBezTo>
                <a:cubicBezTo>
                  <a:pt x="2219" y="5122"/>
                  <a:pt x="2215" y="5145"/>
                  <a:pt x="2232" y="5184"/>
                </a:cubicBezTo>
                <a:cubicBezTo>
                  <a:pt x="2260" y="5249"/>
                  <a:pt x="2294" y="5350"/>
                  <a:pt x="2332" y="5407"/>
                </a:cubicBezTo>
                <a:cubicBezTo>
                  <a:pt x="2395" y="5502"/>
                  <a:pt x="2453" y="5600"/>
                  <a:pt x="2505" y="5705"/>
                </a:cubicBezTo>
                <a:cubicBezTo>
                  <a:pt x="2535" y="5765"/>
                  <a:pt x="2560" y="5829"/>
                  <a:pt x="2604" y="5879"/>
                </a:cubicBezTo>
                <a:cubicBezTo>
                  <a:pt x="2632" y="5907"/>
                  <a:pt x="2641" y="5911"/>
                  <a:pt x="2629" y="5854"/>
                </a:cubicBezTo>
              </a:path>
              <a:path w="3250" h="4292">
                <a:moveTo>
                  <a:pt x="2580" y="5110"/>
                </a:moveTo>
                <a:cubicBezTo>
                  <a:pt x="2571" y="5261"/>
                  <a:pt x="2538" y="5299"/>
                  <a:pt x="2480" y="5432"/>
                </a:cubicBezTo>
                <a:cubicBezTo>
                  <a:pt x="2427" y="5553"/>
                  <a:pt x="2358" y="5669"/>
                  <a:pt x="2282" y="5779"/>
                </a:cubicBezTo>
                <a:cubicBezTo>
                  <a:pt x="2241" y="5838"/>
                  <a:pt x="2211" y="5887"/>
                  <a:pt x="2257" y="5779"/>
                </a:cubicBezTo>
              </a:path>
              <a:path w="3250" h="4292">
                <a:moveTo>
                  <a:pt x="2753" y="4663"/>
                </a:moveTo>
                <a:cubicBezTo>
                  <a:pt x="2732" y="4715"/>
                  <a:pt x="2700" y="4741"/>
                  <a:pt x="2679" y="4787"/>
                </a:cubicBezTo>
                <a:cubicBezTo>
                  <a:pt x="2663" y="4822"/>
                  <a:pt x="2634" y="4856"/>
                  <a:pt x="2679" y="4887"/>
                </a:cubicBezTo>
                <a:cubicBezTo>
                  <a:pt x="2749" y="4934"/>
                  <a:pt x="2786" y="4903"/>
                  <a:pt x="2853" y="4887"/>
                </a:cubicBezTo>
                <a:cubicBezTo>
                  <a:pt x="2913" y="4872"/>
                  <a:pt x="2913" y="4859"/>
                  <a:pt x="2952" y="4812"/>
                </a:cubicBezTo>
                <a:cubicBezTo>
                  <a:pt x="2980" y="4784"/>
                  <a:pt x="2989" y="4771"/>
                  <a:pt x="2977" y="4738"/>
                </a:cubicBezTo>
              </a:path>
              <a:path w="3250" h="4292">
                <a:moveTo>
                  <a:pt x="2902" y="4440"/>
                </a:moveTo>
                <a:cubicBezTo>
                  <a:pt x="2902" y="4665"/>
                  <a:pt x="2891" y="4894"/>
                  <a:pt x="2927" y="5110"/>
                </a:cubicBezTo>
                <a:cubicBezTo>
                  <a:pt x="2932" y="5139"/>
                  <a:pt x="2927" y="5178"/>
                  <a:pt x="2927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660680"/>
            <a:ext cx="19080" cy="492120"/>
          </a:xfrm>
          <a:custGeom>
            <a:avLst/>
            <a:gdLst/>
            <a:ahLst/>
            <a:rect l="l" t="t" r="r" b="b"/>
            <a:pathLst>
              <a:path w="51" h="1365">
                <a:moveTo>
                  <a:pt x="1910" y="4614"/>
                </a:moveTo>
                <a:cubicBezTo>
                  <a:pt x="1923" y="4651"/>
                  <a:pt x="1935" y="4635"/>
                  <a:pt x="1935" y="4688"/>
                </a:cubicBezTo>
                <a:cubicBezTo>
                  <a:pt x="1935" y="5051"/>
                  <a:pt x="1859" y="5519"/>
                  <a:pt x="1960" y="5854"/>
                </a:cubicBezTo>
                <a:cubicBezTo>
                  <a:pt x="1966" y="5872"/>
                  <a:pt x="1960" y="6015"/>
                  <a:pt x="1960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2080" y="1509840"/>
            <a:ext cx="804960" cy="884160"/>
          </a:xfrm>
          <a:custGeom>
            <a:avLst/>
            <a:gdLst/>
            <a:ahLst/>
            <a:rect l="l" t="t" r="r" b="b"/>
            <a:pathLst>
              <a:path w="2233" h="2457">
                <a:moveTo>
                  <a:pt x="5879" y="4390"/>
                </a:moveTo>
                <a:cubicBezTo>
                  <a:pt x="5879" y="4324"/>
                  <a:pt x="5882" y="4431"/>
                  <a:pt x="5879" y="4440"/>
                </a:cubicBezTo>
                <a:cubicBezTo>
                  <a:pt x="5853" y="4538"/>
                  <a:pt x="5855" y="4643"/>
                  <a:pt x="5829" y="4738"/>
                </a:cubicBezTo>
                <a:cubicBezTo>
                  <a:pt x="5811" y="4803"/>
                  <a:pt x="5803" y="4874"/>
                  <a:pt x="5779" y="4936"/>
                </a:cubicBezTo>
                <a:cubicBezTo>
                  <a:pt x="5759" y="4987"/>
                  <a:pt x="5741" y="5033"/>
                  <a:pt x="5730" y="5085"/>
                </a:cubicBezTo>
                <a:cubicBezTo>
                  <a:pt x="5751" y="5078"/>
                  <a:pt x="5768" y="5040"/>
                  <a:pt x="5804" y="5060"/>
                </a:cubicBezTo>
                <a:cubicBezTo>
                  <a:pt x="5860" y="5091"/>
                  <a:pt x="5909" y="5085"/>
                  <a:pt x="5978" y="5085"/>
                </a:cubicBezTo>
                <a:cubicBezTo>
                  <a:pt x="6088" y="5085"/>
                  <a:pt x="6199" y="5098"/>
                  <a:pt x="6300" y="5060"/>
                </a:cubicBezTo>
                <a:cubicBezTo>
                  <a:pt x="6394" y="5023"/>
                  <a:pt x="6412" y="5030"/>
                  <a:pt x="6449" y="4986"/>
                </a:cubicBezTo>
              </a:path>
              <a:path w="2233" h="2457">
                <a:moveTo>
                  <a:pt x="6176" y="4192"/>
                </a:moveTo>
                <a:cubicBezTo>
                  <a:pt x="6176" y="4357"/>
                  <a:pt x="6163" y="4556"/>
                  <a:pt x="6176" y="4713"/>
                </a:cubicBezTo>
                <a:cubicBezTo>
                  <a:pt x="6191" y="4891"/>
                  <a:pt x="6203" y="5081"/>
                  <a:pt x="6226" y="5259"/>
                </a:cubicBezTo>
                <a:cubicBezTo>
                  <a:pt x="6244" y="5393"/>
                  <a:pt x="6282" y="5523"/>
                  <a:pt x="6300" y="5655"/>
                </a:cubicBezTo>
                <a:cubicBezTo>
                  <a:pt x="6309" y="5720"/>
                  <a:pt x="6315" y="5778"/>
                  <a:pt x="6350" y="5829"/>
                </a:cubicBezTo>
                <a:cubicBezTo>
                  <a:pt x="6358" y="5837"/>
                  <a:pt x="6367" y="5846"/>
                  <a:pt x="6375" y="5854"/>
                </a:cubicBezTo>
              </a:path>
              <a:path w="2233" h="2457">
                <a:moveTo>
                  <a:pt x="7516" y="5184"/>
                </a:moveTo>
                <a:cubicBezTo>
                  <a:pt x="7470" y="5260"/>
                  <a:pt x="7499" y="5320"/>
                  <a:pt x="7516" y="5407"/>
                </a:cubicBezTo>
                <a:cubicBezTo>
                  <a:pt x="7531" y="5483"/>
                  <a:pt x="7530" y="5680"/>
                  <a:pt x="7640" y="5705"/>
                </a:cubicBezTo>
                <a:cubicBezTo>
                  <a:pt x="7691" y="5717"/>
                  <a:pt x="7746" y="5705"/>
                  <a:pt x="7789" y="5680"/>
                </a:cubicBezTo>
                <a:cubicBezTo>
                  <a:pt x="7828" y="5657"/>
                  <a:pt x="7904" y="5580"/>
                  <a:pt x="7913" y="5531"/>
                </a:cubicBezTo>
                <a:cubicBezTo>
                  <a:pt x="7930" y="5439"/>
                  <a:pt x="7925" y="5292"/>
                  <a:pt x="7888" y="5209"/>
                </a:cubicBezTo>
                <a:cubicBezTo>
                  <a:pt x="7888" y="5181"/>
                  <a:pt x="7886" y="5170"/>
                  <a:pt x="7863" y="5159"/>
                </a:cubicBezTo>
                <a:cubicBezTo>
                  <a:pt x="7849" y="5183"/>
                  <a:pt x="7840" y="5181"/>
                  <a:pt x="7838" y="5234"/>
                </a:cubicBezTo>
                <a:cubicBezTo>
                  <a:pt x="7833" y="5340"/>
                  <a:pt x="7845" y="5453"/>
                  <a:pt x="7863" y="5556"/>
                </a:cubicBezTo>
                <a:cubicBezTo>
                  <a:pt x="7888" y="5698"/>
                  <a:pt x="7908" y="5839"/>
                  <a:pt x="7938" y="5978"/>
                </a:cubicBezTo>
                <a:cubicBezTo>
                  <a:pt x="7969" y="6125"/>
                  <a:pt x="7988" y="6301"/>
                  <a:pt x="7962" y="6449"/>
                </a:cubicBezTo>
                <a:cubicBezTo>
                  <a:pt x="7943" y="6554"/>
                  <a:pt x="7854" y="6597"/>
                  <a:pt x="7764" y="6623"/>
                </a:cubicBezTo>
                <a:cubicBezTo>
                  <a:pt x="7606" y="6669"/>
                  <a:pt x="7428" y="6601"/>
                  <a:pt x="7268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83000" y="1509840"/>
            <a:ext cx="223920" cy="571320"/>
          </a:xfrm>
          <a:custGeom>
            <a:avLst/>
            <a:gdLst/>
            <a:ahLst/>
            <a:rect l="l" t="t" r="r" b="b"/>
            <a:pathLst>
              <a:path w="621" h="1588">
                <a:moveTo>
                  <a:pt x="9699" y="4192"/>
                </a:moveTo>
                <a:cubicBezTo>
                  <a:pt x="9726" y="4268"/>
                  <a:pt x="9723" y="4319"/>
                  <a:pt x="9723" y="4415"/>
                </a:cubicBezTo>
                <a:cubicBezTo>
                  <a:pt x="9723" y="4543"/>
                  <a:pt x="9710" y="4663"/>
                  <a:pt x="9699" y="4787"/>
                </a:cubicBezTo>
                <a:cubicBezTo>
                  <a:pt x="9689" y="4899"/>
                  <a:pt x="9660" y="5050"/>
                  <a:pt x="9674" y="5159"/>
                </a:cubicBezTo>
                <a:cubicBezTo>
                  <a:pt x="9686" y="5253"/>
                  <a:pt x="9701" y="5365"/>
                  <a:pt x="9723" y="5457"/>
                </a:cubicBezTo>
                <a:cubicBezTo>
                  <a:pt x="9736" y="5512"/>
                  <a:pt x="9804" y="5640"/>
                  <a:pt x="9847" y="5680"/>
                </a:cubicBezTo>
                <a:cubicBezTo>
                  <a:pt x="9897" y="5727"/>
                  <a:pt x="9959" y="5727"/>
                  <a:pt x="10021" y="5730"/>
                </a:cubicBezTo>
                <a:cubicBezTo>
                  <a:pt x="10074" y="5733"/>
                  <a:pt x="10151" y="5689"/>
                  <a:pt x="10195" y="5655"/>
                </a:cubicBezTo>
                <a:cubicBezTo>
                  <a:pt x="10250" y="5612"/>
                  <a:pt x="10281" y="5547"/>
                  <a:pt x="10294" y="5482"/>
                </a:cubicBezTo>
                <a:cubicBezTo>
                  <a:pt x="10307" y="5415"/>
                  <a:pt x="10276" y="5356"/>
                  <a:pt x="10220" y="5333"/>
                </a:cubicBezTo>
                <a:cubicBezTo>
                  <a:pt x="10172" y="5314"/>
                  <a:pt x="10058" y="5378"/>
                  <a:pt x="10021" y="5407"/>
                </a:cubicBezTo>
                <a:cubicBezTo>
                  <a:pt x="9959" y="5455"/>
                  <a:pt x="9903" y="5525"/>
                  <a:pt x="9847" y="5581"/>
                </a:cubicBezTo>
                <a:cubicBezTo>
                  <a:pt x="9818" y="5610"/>
                  <a:pt x="9812" y="5664"/>
                  <a:pt x="9823" y="5705"/>
                </a:cubicBezTo>
                <a:cubicBezTo>
                  <a:pt x="9830" y="5732"/>
                  <a:pt x="9837" y="5753"/>
                  <a:pt x="9847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89240" y="1589040"/>
            <a:ext cx="366840" cy="804960"/>
          </a:xfrm>
          <a:custGeom>
            <a:avLst/>
            <a:gdLst/>
            <a:ahLst/>
            <a:rect l="l" t="t" r="r" b="b"/>
            <a:pathLst>
              <a:path w="1018" h="2234">
                <a:moveTo>
                  <a:pt x="11584" y="5110"/>
                </a:moveTo>
                <a:cubicBezTo>
                  <a:pt x="11598" y="5178"/>
                  <a:pt x="11647" y="5237"/>
                  <a:pt x="11658" y="5308"/>
                </a:cubicBezTo>
                <a:cubicBezTo>
                  <a:pt x="11675" y="5420"/>
                  <a:pt x="11689" y="5523"/>
                  <a:pt x="11733" y="5631"/>
                </a:cubicBezTo>
                <a:cubicBezTo>
                  <a:pt x="11752" y="5678"/>
                  <a:pt x="11781" y="5724"/>
                  <a:pt x="11832" y="5730"/>
                </a:cubicBezTo>
                <a:cubicBezTo>
                  <a:pt x="11889" y="5736"/>
                  <a:pt x="11903" y="5700"/>
                  <a:pt x="11931" y="5655"/>
                </a:cubicBezTo>
                <a:cubicBezTo>
                  <a:pt x="11985" y="5566"/>
                  <a:pt x="11938" y="5456"/>
                  <a:pt x="11931" y="5358"/>
                </a:cubicBezTo>
              </a:path>
              <a:path w="1018" h="2234">
                <a:moveTo>
                  <a:pt x="11857" y="5159"/>
                </a:moveTo>
                <a:cubicBezTo>
                  <a:pt x="11857" y="5230"/>
                  <a:pt x="11873" y="5289"/>
                  <a:pt x="11881" y="5358"/>
                </a:cubicBezTo>
                <a:cubicBezTo>
                  <a:pt x="11897" y="5505"/>
                  <a:pt x="11928" y="5657"/>
                  <a:pt x="11956" y="5804"/>
                </a:cubicBezTo>
                <a:cubicBezTo>
                  <a:pt x="11986" y="5959"/>
                  <a:pt x="12014" y="6074"/>
                  <a:pt x="12005" y="6226"/>
                </a:cubicBezTo>
                <a:cubicBezTo>
                  <a:pt x="11999" y="6341"/>
                  <a:pt x="11955" y="6471"/>
                  <a:pt x="11857" y="6548"/>
                </a:cubicBezTo>
                <a:cubicBezTo>
                  <a:pt x="11750" y="6633"/>
                  <a:pt x="11638" y="6694"/>
                  <a:pt x="11509" y="6623"/>
                </a:cubicBezTo>
                <a:cubicBezTo>
                  <a:pt x="11417" y="6572"/>
                  <a:pt x="11401" y="6538"/>
                  <a:pt x="11361" y="6449"/>
                </a:cubicBezTo>
              </a:path>
              <a:path w="1018" h="2234">
                <a:moveTo>
                  <a:pt x="11757" y="4490"/>
                </a:moveTo>
                <a:cubicBezTo>
                  <a:pt x="11828" y="4445"/>
                  <a:pt x="11899" y="4389"/>
                  <a:pt x="11981" y="4440"/>
                </a:cubicBezTo>
                <a:cubicBezTo>
                  <a:pt x="12033" y="4472"/>
                  <a:pt x="12076" y="4552"/>
                  <a:pt x="12055" y="4614"/>
                </a:cubicBezTo>
                <a:cubicBezTo>
                  <a:pt x="12041" y="4655"/>
                  <a:pt x="11991" y="4760"/>
                  <a:pt x="11956" y="4787"/>
                </a:cubicBezTo>
                <a:cubicBezTo>
                  <a:pt x="11931" y="4787"/>
                  <a:pt x="11923" y="4787"/>
                  <a:pt x="11931" y="4812"/>
                </a:cubicBezTo>
                <a:cubicBezTo>
                  <a:pt x="11944" y="4850"/>
                  <a:pt x="12006" y="4848"/>
                  <a:pt x="12055" y="4837"/>
                </a:cubicBezTo>
                <a:cubicBezTo>
                  <a:pt x="12137" y="4819"/>
                  <a:pt x="12223" y="4800"/>
                  <a:pt x="12303" y="4787"/>
                </a:cubicBezTo>
                <a:cubicBezTo>
                  <a:pt x="12356" y="4778"/>
                  <a:pt x="12367" y="4778"/>
                  <a:pt x="12378" y="48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5120" y="1598760"/>
            <a:ext cx="241560" cy="554040"/>
          </a:xfrm>
          <a:custGeom>
            <a:avLst/>
            <a:gdLst/>
            <a:ahLst/>
            <a:rect l="l" t="t" r="r" b="b"/>
            <a:pathLst>
              <a:path w="671" h="1539">
                <a:moveTo>
                  <a:pt x="13717" y="4787"/>
                </a:moveTo>
                <a:cubicBezTo>
                  <a:pt x="13717" y="4746"/>
                  <a:pt x="13717" y="4704"/>
                  <a:pt x="13717" y="4663"/>
                </a:cubicBezTo>
                <a:cubicBezTo>
                  <a:pt x="13677" y="4730"/>
                  <a:pt x="13707" y="4783"/>
                  <a:pt x="13692" y="4862"/>
                </a:cubicBezTo>
                <a:cubicBezTo>
                  <a:pt x="13670" y="4973"/>
                  <a:pt x="13668" y="5104"/>
                  <a:pt x="13618" y="5209"/>
                </a:cubicBezTo>
                <a:cubicBezTo>
                  <a:pt x="13595" y="5257"/>
                  <a:pt x="13553" y="5309"/>
                  <a:pt x="13543" y="5358"/>
                </a:cubicBezTo>
                <a:cubicBezTo>
                  <a:pt x="13535" y="5397"/>
                  <a:pt x="13548" y="5447"/>
                  <a:pt x="13568" y="5457"/>
                </a:cubicBezTo>
                <a:cubicBezTo>
                  <a:pt x="13643" y="5495"/>
                  <a:pt x="13794" y="5440"/>
                  <a:pt x="13866" y="5432"/>
                </a:cubicBezTo>
                <a:cubicBezTo>
                  <a:pt x="13955" y="5422"/>
                  <a:pt x="14062" y="5415"/>
                  <a:pt x="14139" y="5358"/>
                </a:cubicBezTo>
                <a:cubicBezTo>
                  <a:pt x="14155" y="5341"/>
                  <a:pt x="14172" y="5325"/>
                  <a:pt x="14188" y="5308"/>
                </a:cubicBezTo>
              </a:path>
              <a:path w="671" h="1539">
                <a:moveTo>
                  <a:pt x="14015" y="4440"/>
                </a:moveTo>
                <a:cubicBezTo>
                  <a:pt x="13983" y="4566"/>
                  <a:pt x="14004" y="4636"/>
                  <a:pt x="14015" y="4762"/>
                </a:cubicBezTo>
                <a:cubicBezTo>
                  <a:pt x="14028" y="4915"/>
                  <a:pt x="14052" y="5059"/>
                  <a:pt x="14089" y="5209"/>
                </a:cubicBezTo>
                <a:cubicBezTo>
                  <a:pt x="14121" y="5338"/>
                  <a:pt x="14135" y="5474"/>
                  <a:pt x="14139" y="5606"/>
                </a:cubicBezTo>
                <a:cubicBezTo>
                  <a:pt x="14143" y="5721"/>
                  <a:pt x="14190" y="5801"/>
                  <a:pt x="14213" y="5904"/>
                </a:cubicBezTo>
                <a:cubicBezTo>
                  <a:pt x="14218" y="5927"/>
                  <a:pt x="14210" y="5954"/>
                  <a:pt x="14213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02280" y="1554120"/>
            <a:ext cx="1081080" cy="1035000"/>
          </a:xfrm>
          <a:custGeom>
            <a:avLst/>
            <a:gdLst/>
            <a:ahLst/>
            <a:rect l="l" t="t" r="r" b="b"/>
            <a:pathLst>
              <a:path w="3002" h="2878">
                <a:moveTo>
                  <a:pt x="19174" y="6499"/>
                </a:moveTo>
                <a:cubicBezTo>
                  <a:pt x="19186" y="6509"/>
                  <a:pt x="19215" y="6540"/>
                  <a:pt x="19248" y="6548"/>
                </a:cubicBezTo>
                <a:cubicBezTo>
                  <a:pt x="19763" y="6666"/>
                  <a:pt x="20434" y="6549"/>
                  <a:pt x="20960" y="6573"/>
                </a:cubicBezTo>
                <a:cubicBezTo>
                  <a:pt x="21267" y="6587"/>
                  <a:pt x="21575" y="6604"/>
                  <a:pt x="21878" y="6648"/>
                </a:cubicBezTo>
                <a:cubicBezTo>
                  <a:pt x="21977" y="6662"/>
                  <a:pt x="22051" y="6697"/>
                  <a:pt x="22151" y="6697"/>
                </a:cubicBezTo>
                <a:cubicBezTo>
                  <a:pt x="22184" y="6697"/>
                  <a:pt x="22158" y="6679"/>
                  <a:pt x="22126" y="6672"/>
                </a:cubicBezTo>
                <a:cubicBezTo>
                  <a:pt x="22101" y="6672"/>
                  <a:pt x="22093" y="6672"/>
                  <a:pt x="22076" y="6672"/>
                </a:cubicBezTo>
              </a:path>
              <a:path w="3002" h="2878">
                <a:moveTo>
                  <a:pt x="19199" y="4341"/>
                </a:moveTo>
                <a:cubicBezTo>
                  <a:pt x="19207" y="4333"/>
                  <a:pt x="19216" y="4324"/>
                  <a:pt x="19224" y="4316"/>
                </a:cubicBezTo>
                <a:cubicBezTo>
                  <a:pt x="19224" y="4517"/>
                  <a:pt x="19216" y="4713"/>
                  <a:pt x="19199" y="4911"/>
                </a:cubicBezTo>
                <a:cubicBezTo>
                  <a:pt x="19179" y="5151"/>
                  <a:pt x="19209" y="5393"/>
                  <a:pt x="19224" y="5631"/>
                </a:cubicBezTo>
                <a:cubicBezTo>
                  <a:pt x="19231" y="5744"/>
                  <a:pt x="19214" y="5846"/>
                  <a:pt x="19248" y="5953"/>
                </a:cubicBezTo>
                <a:cubicBezTo>
                  <a:pt x="19278" y="6048"/>
                  <a:pt x="19320" y="6097"/>
                  <a:pt x="19372" y="6176"/>
                </a:cubicBezTo>
                <a:cubicBezTo>
                  <a:pt x="19400" y="6218"/>
                  <a:pt x="19411" y="6247"/>
                  <a:pt x="19422" y="6276"/>
                </a:cubicBezTo>
                <a:cubicBezTo>
                  <a:pt x="19422" y="6284"/>
                  <a:pt x="19422" y="6292"/>
                  <a:pt x="19422" y="6300"/>
                </a:cubicBezTo>
              </a:path>
              <a:path w="3002" h="2878">
                <a:moveTo>
                  <a:pt x="19720" y="5507"/>
                </a:moveTo>
                <a:cubicBezTo>
                  <a:pt x="19712" y="5569"/>
                  <a:pt x="19678" y="5617"/>
                  <a:pt x="19670" y="5680"/>
                </a:cubicBezTo>
                <a:cubicBezTo>
                  <a:pt x="19653" y="5807"/>
                  <a:pt x="19657" y="5904"/>
                  <a:pt x="19670" y="6028"/>
                </a:cubicBezTo>
                <a:cubicBezTo>
                  <a:pt x="19676" y="6082"/>
                  <a:pt x="19687" y="6191"/>
                  <a:pt x="19745" y="6226"/>
                </a:cubicBezTo>
                <a:cubicBezTo>
                  <a:pt x="19787" y="6251"/>
                  <a:pt x="19849" y="6241"/>
                  <a:pt x="19893" y="6226"/>
                </a:cubicBezTo>
                <a:cubicBezTo>
                  <a:pt x="19958" y="6203"/>
                  <a:pt x="20017" y="6141"/>
                  <a:pt x="20042" y="6077"/>
                </a:cubicBezTo>
                <a:cubicBezTo>
                  <a:pt x="20085" y="5969"/>
                  <a:pt x="20145" y="5822"/>
                  <a:pt x="20166" y="5705"/>
                </a:cubicBezTo>
                <a:cubicBezTo>
                  <a:pt x="20177" y="5645"/>
                  <a:pt x="20185" y="5593"/>
                  <a:pt x="20191" y="5531"/>
                </a:cubicBezTo>
                <a:cubicBezTo>
                  <a:pt x="20195" y="5488"/>
                  <a:pt x="20172" y="5563"/>
                  <a:pt x="20166" y="5606"/>
                </a:cubicBezTo>
                <a:cubicBezTo>
                  <a:pt x="20149" y="5733"/>
                  <a:pt x="20160" y="5854"/>
                  <a:pt x="20166" y="5978"/>
                </a:cubicBezTo>
                <a:cubicBezTo>
                  <a:pt x="20174" y="6139"/>
                  <a:pt x="20202" y="6289"/>
                  <a:pt x="20216" y="6449"/>
                </a:cubicBezTo>
                <a:cubicBezTo>
                  <a:pt x="20230" y="6606"/>
                  <a:pt x="20232" y="6793"/>
                  <a:pt x="20191" y="6945"/>
                </a:cubicBezTo>
                <a:cubicBezTo>
                  <a:pt x="20169" y="7027"/>
                  <a:pt x="20120" y="7125"/>
                  <a:pt x="20042" y="7169"/>
                </a:cubicBezTo>
                <a:cubicBezTo>
                  <a:pt x="19954" y="7219"/>
                  <a:pt x="19835" y="7195"/>
                  <a:pt x="19745" y="7169"/>
                </a:cubicBezTo>
                <a:cubicBezTo>
                  <a:pt x="19582" y="7121"/>
                  <a:pt x="19588" y="6995"/>
                  <a:pt x="19571" y="6846"/>
                </a:cubicBezTo>
              </a:path>
              <a:path w="3002" h="2878">
                <a:moveTo>
                  <a:pt x="20290" y="4936"/>
                </a:moveTo>
                <a:cubicBezTo>
                  <a:pt x="20290" y="4987"/>
                  <a:pt x="20263" y="5134"/>
                  <a:pt x="20315" y="5159"/>
                </a:cubicBezTo>
                <a:cubicBezTo>
                  <a:pt x="20358" y="5180"/>
                  <a:pt x="20408" y="5198"/>
                  <a:pt x="20464" y="5184"/>
                </a:cubicBezTo>
                <a:cubicBezTo>
                  <a:pt x="20529" y="5168"/>
                  <a:pt x="20579" y="5108"/>
                  <a:pt x="20613" y="5060"/>
                </a:cubicBezTo>
              </a:path>
              <a:path w="3002" h="2878">
                <a:moveTo>
                  <a:pt x="20563" y="4713"/>
                </a:moveTo>
                <a:cubicBezTo>
                  <a:pt x="20539" y="4928"/>
                  <a:pt x="20473" y="5169"/>
                  <a:pt x="20489" y="5383"/>
                </a:cubicBezTo>
                <a:cubicBezTo>
                  <a:pt x="20494" y="5457"/>
                  <a:pt x="20544" y="5544"/>
                  <a:pt x="20563" y="5606"/>
                </a:cubicBezTo>
                <a:cubicBezTo>
                  <a:pt x="20563" y="5614"/>
                  <a:pt x="20563" y="5623"/>
                  <a:pt x="20563" y="56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8840" y="1643040"/>
            <a:ext cx="1017360" cy="1812960"/>
          </a:xfrm>
          <a:custGeom>
            <a:avLst/>
            <a:gdLst/>
            <a:ahLst/>
            <a:rect l="l" t="t" r="r" b="b"/>
            <a:pathLst>
              <a:path w="2829" h="5036">
                <a:moveTo>
                  <a:pt x="14039" y="6375"/>
                </a:moveTo>
                <a:cubicBezTo>
                  <a:pt x="14100" y="6390"/>
                  <a:pt x="14117" y="6379"/>
                  <a:pt x="14188" y="6375"/>
                </a:cubicBezTo>
                <a:cubicBezTo>
                  <a:pt x="14680" y="6347"/>
                  <a:pt x="15189" y="6371"/>
                  <a:pt x="15677" y="6400"/>
                </a:cubicBezTo>
                <a:cubicBezTo>
                  <a:pt x="15820" y="6409"/>
                  <a:pt x="15981" y="6401"/>
                  <a:pt x="16123" y="6424"/>
                </a:cubicBezTo>
                <a:cubicBezTo>
                  <a:pt x="16215" y="6439"/>
                  <a:pt x="16332" y="6424"/>
                  <a:pt x="16421" y="6449"/>
                </a:cubicBezTo>
                <a:cubicBezTo>
                  <a:pt x="16484" y="6467"/>
                  <a:pt x="16468" y="6459"/>
                  <a:pt x="16545" y="6449"/>
                </a:cubicBezTo>
              </a:path>
              <a:path w="2829" h="5036">
                <a:moveTo>
                  <a:pt x="13866" y="8806"/>
                </a:moveTo>
                <a:cubicBezTo>
                  <a:pt x="13841" y="8874"/>
                  <a:pt x="13815" y="8937"/>
                  <a:pt x="13791" y="9004"/>
                </a:cubicBezTo>
                <a:cubicBezTo>
                  <a:pt x="13767" y="9072"/>
                  <a:pt x="13767" y="9087"/>
                  <a:pt x="13767" y="9153"/>
                </a:cubicBezTo>
                <a:cubicBezTo>
                  <a:pt x="13845" y="9153"/>
                  <a:pt x="13843" y="9162"/>
                  <a:pt x="13891" y="9103"/>
                </a:cubicBezTo>
                <a:cubicBezTo>
                  <a:pt x="13913" y="9081"/>
                  <a:pt x="13918" y="9073"/>
                  <a:pt x="13940" y="9079"/>
                </a:cubicBezTo>
              </a:path>
              <a:path w="2829" h="5036">
                <a:moveTo>
                  <a:pt x="13940" y="8930"/>
                </a:moveTo>
                <a:cubicBezTo>
                  <a:pt x="13913" y="9032"/>
                  <a:pt x="13912" y="9128"/>
                  <a:pt x="13891" y="9227"/>
                </a:cubicBezTo>
                <a:cubicBezTo>
                  <a:pt x="13876" y="9298"/>
                  <a:pt x="13866" y="9330"/>
                  <a:pt x="13866" y="9401"/>
                </a:cubicBezTo>
                <a:cubicBezTo>
                  <a:pt x="13866" y="9457"/>
                  <a:pt x="13851" y="9462"/>
                  <a:pt x="13891" y="9475"/>
                </a:cubicBezTo>
              </a:path>
              <a:path w="2829" h="5036">
                <a:moveTo>
                  <a:pt x="14635" y="8285"/>
                </a:moveTo>
                <a:cubicBezTo>
                  <a:pt x="14643" y="8301"/>
                  <a:pt x="14652" y="8318"/>
                  <a:pt x="14660" y="8334"/>
                </a:cubicBezTo>
                <a:cubicBezTo>
                  <a:pt x="14675" y="8286"/>
                  <a:pt x="14694" y="8245"/>
                  <a:pt x="14684" y="8186"/>
                </a:cubicBezTo>
                <a:cubicBezTo>
                  <a:pt x="14668" y="8091"/>
                  <a:pt x="14586" y="8024"/>
                  <a:pt x="14536" y="7962"/>
                </a:cubicBezTo>
                <a:cubicBezTo>
                  <a:pt x="14484" y="7897"/>
                  <a:pt x="14451" y="7868"/>
                  <a:pt x="14362" y="7863"/>
                </a:cubicBezTo>
                <a:cubicBezTo>
                  <a:pt x="14287" y="7859"/>
                  <a:pt x="14164" y="7902"/>
                  <a:pt x="14114" y="7962"/>
                </a:cubicBezTo>
                <a:cubicBezTo>
                  <a:pt x="13996" y="8103"/>
                  <a:pt x="13964" y="8240"/>
                  <a:pt x="13915" y="8409"/>
                </a:cubicBezTo>
                <a:cubicBezTo>
                  <a:pt x="13877" y="8541"/>
                  <a:pt x="13919" y="8600"/>
                  <a:pt x="13940" y="8731"/>
                </a:cubicBezTo>
                <a:cubicBezTo>
                  <a:pt x="13956" y="8834"/>
                  <a:pt x="13986" y="8946"/>
                  <a:pt x="14089" y="9004"/>
                </a:cubicBezTo>
                <a:cubicBezTo>
                  <a:pt x="14133" y="9029"/>
                  <a:pt x="14247" y="8993"/>
                  <a:pt x="14288" y="9029"/>
                </a:cubicBezTo>
                <a:cubicBezTo>
                  <a:pt x="14357" y="9088"/>
                  <a:pt x="14306" y="9059"/>
                  <a:pt x="14387" y="9079"/>
                </a:cubicBezTo>
              </a:path>
              <a:path w="2829" h="5036">
                <a:moveTo>
                  <a:pt x="14362" y="9079"/>
                </a:moveTo>
                <a:cubicBezTo>
                  <a:pt x="14402" y="9079"/>
                  <a:pt x="14455" y="9069"/>
                  <a:pt x="14486" y="9103"/>
                </a:cubicBezTo>
                <a:cubicBezTo>
                  <a:pt x="14506" y="9125"/>
                  <a:pt x="14567" y="9185"/>
                  <a:pt x="14536" y="9227"/>
                </a:cubicBezTo>
                <a:cubicBezTo>
                  <a:pt x="14526" y="9241"/>
                  <a:pt x="14469" y="9310"/>
                  <a:pt x="14436" y="9327"/>
                </a:cubicBezTo>
                <a:cubicBezTo>
                  <a:pt x="14404" y="9327"/>
                  <a:pt x="14396" y="9335"/>
                  <a:pt x="14412" y="9376"/>
                </a:cubicBezTo>
                <a:cubicBezTo>
                  <a:pt x="14479" y="9376"/>
                  <a:pt x="14473" y="9418"/>
                  <a:pt x="14511" y="9451"/>
                </a:cubicBezTo>
                <a:cubicBezTo>
                  <a:pt x="14556" y="9490"/>
                  <a:pt x="14534" y="9510"/>
                  <a:pt x="14511" y="9550"/>
                </a:cubicBezTo>
                <a:cubicBezTo>
                  <a:pt x="14464" y="9630"/>
                  <a:pt x="14429" y="9606"/>
                  <a:pt x="14362" y="9550"/>
                </a:cubicBezTo>
                <a:cubicBezTo>
                  <a:pt x="14293" y="9492"/>
                  <a:pt x="14246" y="9457"/>
                  <a:pt x="14213" y="9376"/>
                </a:cubicBezTo>
                <a:cubicBezTo>
                  <a:pt x="14205" y="9351"/>
                  <a:pt x="14196" y="9327"/>
                  <a:pt x="14188" y="9302"/>
                </a:cubicBezTo>
              </a:path>
              <a:path w="2829" h="5036">
                <a:moveTo>
                  <a:pt x="13940" y="7739"/>
                </a:moveTo>
                <a:cubicBezTo>
                  <a:pt x="13965" y="7739"/>
                  <a:pt x="13990" y="7739"/>
                  <a:pt x="14015" y="7739"/>
                </a:cubicBezTo>
                <a:cubicBezTo>
                  <a:pt x="14015" y="7687"/>
                  <a:pt x="14031" y="7665"/>
                  <a:pt x="14039" y="7615"/>
                </a:cubicBezTo>
                <a:cubicBezTo>
                  <a:pt x="14059" y="7499"/>
                  <a:pt x="14027" y="7380"/>
                  <a:pt x="14015" y="7268"/>
                </a:cubicBezTo>
                <a:cubicBezTo>
                  <a:pt x="13992" y="7053"/>
                  <a:pt x="14042" y="6830"/>
                  <a:pt x="13990" y="6623"/>
                </a:cubicBezTo>
                <a:cubicBezTo>
                  <a:pt x="13990" y="6615"/>
                  <a:pt x="13990" y="6606"/>
                  <a:pt x="13990" y="6598"/>
                </a:cubicBezTo>
              </a:path>
              <a:path w="2829" h="5036">
                <a:moveTo>
                  <a:pt x="13717" y="6871"/>
                </a:moveTo>
                <a:cubicBezTo>
                  <a:pt x="13801" y="6811"/>
                  <a:pt x="13820" y="6787"/>
                  <a:pt x="13866" y="6697"/>
                </a:cubicBezTo>
                <a:cubicBezTo>
                  <a:pt x="13898" y="6635"/>
                  <a:pt x="13888" y="6558"/>
                  <a:pt x="13915" y="6499"/>
                </a:cubicBezTo>
                <a:cubicBezTo>
                  <a:pt x="13923" y="6491"/>
                  <a:pt x="13932" y="6482"/>
                  <a:pt x="13940" y="6474"/>
                </a:cubicBezTo>
                <a:cubicBezTo>
                  <a:pt x="13951" y="6518"/>
                  <a:pt x="13981" y="6538"/>
                  <a:pt x="14015" y="6573"/>
                </a:cubicBezTo>
                <a:cubicBezTo>
                  <a:pt x="14056" y="6615"/>
                  <a:pt x="14153" y="6620"/>
                  <a:pt x="14213" y="6648"/>
                </a:cubicBezTo>
                <a:cubicBezTo>
                  <a:pt x="14230" y="6656"/>
                  <a:pt x="14246" y="6664"/>
                  <a:pt x="14263" y="6672"/>
                </a:cubicBezTo>
              </a:path>
              <a:path w="2829" h="5036">
                <a:moveTo>
                  <a:pt x="14436" y="5308"/>
                </a:moveTo>
                <a:cubicBezTo>
                  <a:pt x="14504" y="5401"/>
                  <a:pt x="14549" y="5485"/>
                  <a:pt x="14610" y="5581"/>
                </a:cubicBezTo>
                <a:cubicBezTo>
                  <a:pt x="14666" y="5669"/>
                  <a:pt x="14721" y="5773"/>
                  <a:pt x="14784" y="5854"/>
                </a:cubicBezTo>
                <a:cubicBezTo>
                  <a:pt x="14804" y="5879"/>
                  <a:pt x="14874" y="5963"/>
                  <a:pt x="14908" y="5978"/>
                </a:cubicBezTo>
                <a:cubicBezTo>
                  <a:pt x="14976" y="6009"/>
                  <a:pt x="14934" y="5872"/>
                  <a:pt x="14932" y="5854"/>
                </a:cubicBezTo>
              </a:path>
              <a:path w="2829" h="5036">
                <a:moveTo>
                  <a:pt x="14808" y="5407"/>
                </a:moveTo>
                <a:cubicBezTo>
                  <a:pt x="14702" y="5520"/>
                  <a:pt x="14608" y="5635"/>
                  <a:pt x="14486" y="5730"/>
                </a:cubicBezTo>
                <a:cubicBezTo>
                  <a:pt x="14413" y="5787"/>
                  <a:pt x="14339" y="5854"/>
                  <a:pt x="14263" y="5904"/>
                </a:cubicBezTo>
                <a:cubicBezTo>
                  <a:pt x="14229" y="5927"/>
                  <a:pt x="14175" y="5987"/>
                  <a:pt x="14139" y="6003"/>
                </a:cubicBezTo>
                <a:cubicBezTo>
                  <a:pt x="14111" y="6003"/>
                  <a:pt x="14100" y="6005"/>
                  <a:pt x="14089" y="6028"/>
                </a:cubicBezTo>
              </a:path>
              <a:path w="2829" h="5036">
                <a:moveTo>
                  <a:pt x="15180" y="5457"/>
                </a:moveTo>
                <a:cubicBezTo>
                  <a:pt x="15180" y="5578"/>
                  <a:pt x="15191" y="5643"/>
                  <a:pt x="15230" y="5755"/>
                </a:cubicBezTo>
                <a:cubicBezTo>
                  <a:pt x="15258" y="5834"/>
                  <a:pt x="15270" y="5894"/>
                  <a:pt x="15329" y="5953"/>
                </a:cubicBezTo>
                <a:cubicBezTo>
                  <a:pt x="15356" y="5980"/>
                  <a:pt x="15456" y="5952"/>
                  <a:pt x="15478" y="5904"/>
                </a:cubicBezTo>
                <a:cubicBezTo>
                  <a:pt x="15514" y="5826"/>
                  <a:pt x="15543" y="5692"/>
                  <a:pt x="15553" y="5606"/>
                </a:cubicBezTo>
                <a:cubicBezTo>
                  <a:pt x="15564" y="5509"/>
                  <a:pt x="15553" y="5406"/>
                  <a:pt x="15553" y="5308"/>
                </a:cubicBezTo>
                <a:cubicBezTo>
                  <a:pt x="15553" y="5509"/>
                  <a:pt x="15563" y="5706"/>
                  <a:pt x="15577" y="5904"/>
                </a:cubicBezTo>
                <a:cubicBezTo>
                  <a:pt x="15587" y="6053"/>
                  <a:pt x="15581" y="6202"/>
                  <a:pt x="15602" y="6350"/>
                </a:cubicBezTo>
                <a:cubicBezTo>
                  <a:pt x="15622" y="6489"/>
                  <a:pt x="15632" y="6609"/>
                  <a:pt x="15602" y="6747"/>
                </a:cubicBezTo>
                <a:cubicBezTo>
                  <a:pt x="15586" y="6822"/>
                  <a:pt x="15537" y="6926"/>
                  <a:pt x="15453" y="6945"/>
                </a:cubicBezTo>
                <a:cubicBezTo>
                  <a:pt x="15381" y="6962"/>
                  <a:pt x="15266" y="6937"/>
                  <a:pt x="15205" y="6896"/>
                </a:cubicBezTo>
                <a:cubicBezTo>
                  <a:pt x="15103" y="6827"/>
                  <a:pt x="15107" y="6732"/>
                  <a:pt x="15081" y="6623"/>
                </a:cubicBezTo>
              </a:path>
              <a:path w="2829" h="5036">
                <a:moveTo>
                  <a:pt x="15553" y="4638"/>
                </a:moveTo>
                <a:cubicBezTo>
                  <a:pt x="15628" y="4573"/>
                  <a:pt x="15653" y="4564"/>
                  <a:pt x="15751" y="4564"/>
                </a:cubicBezTo>
                <a:cubicBezTo>
                  <a:pt x="15840" y="4564"/>
                  <a:pt x="15857" y="4557"/>
                  <a:pt x="15900" y="4638"/>
                </a:cubicBezTo>
                <a:cubicBezTo>
                  <a:pt x="15932" y="4699"/>
                  <a:pt x="15925" y="4726"/>
                  <a:pt x="15900" y="4787"/>
                </a:cubicBezTo>
                <a:cubicBezTo>
                  <a:pt x="15891" y="4810"/>
                  <a:pt x="15823" y="4894"/>
                  <a:pt x="15801" y="4911"/>
                </a:cubicBezTo>
                <a:cubicBezTo>
                  <a:pt x="15793" y="4911"/>
                  <a:pt x="15784" y="4911"/>
                  <a:pt x="15776" y="4911"/>
                </a:cubicBezTo>
                <a:cubicBezTo>
                  <a:pt x="15825" y="4931"/>
                  <a:pt x="15898" y="4976"/>
                  <a:pt x="15949" y="5011"/>
                </a:cubicBezTo>
                <a:cubicBezTo>
                  <a:pt x="15990" y="5039"/>
                  <a:pt x="15985" y="5126"/>
                  <a:pt x="15949" y="5159"/>
                </a:cubicBezTo>
                <a:cubicBezTo>
                  <a:pt x="15882" y="5221"/>
                  <a:pt x="15782" y="5221"/>
                  <a:pt x="15701" y="5234"/>
                </a:cubicBezTo>
                <a:cubicBezTo>
                  <a:pt x="15585" y="5257"/>
                  <a:pt x="15552" y="5268"/>
                  <a:pt x="15478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3720" y="1616040"/>
            <a:ext cx="1206360" cy="1768680"/>
          </a:xfrm>
          <a:custGeom>
            <a:avLst/>
            <a:gdLst/>
            <a:ahLst/>
            <a:rect l="l" t="t" r="r" b="b"/>
            <a:pathLst>
              <a:path w="3349" h="4912">
                <a:moveTo>
                  <a:pt x="9847" y="6201"/>
                </a:moveTo>
                <a:cubicBezTo>
                  <a:pt x="9908" y="6218"/>
                  <a:pt x="9955" y="6226"/>
                  <a:pt x="10021" y="6226"/>
                </a:cubicBezTo>
                <a:cubicBezTo>
                  <a:pt x="10345" y="6226"/>
                  <a:pt x="10666" y="6231"/>
                  <a:pt x="10988" y="6251"/>
                </a:cubicBezTo>
                <a:cubicBezTo>
                  <a:pt x="11260" y="6268"/>
                  <a:pt x="11536" y="6258"/>
                  <a:pt x="11807" y="6276"/>
                </a:cubicBezTo>
                <a:cubicBezTo>
                  <a:pt x="11993" y="6289"/>
                  <a:pt x="12336" y="6330"/>
                  <a:pt x="12502" y="6251"/>
                </a:cubicBezTo>
                <a:cubicBezTo>
                  <a:pt x="12526" y="6251"/>
                  <a:pt x="12534" y="6251"/>
                  <a:pt x="12526" y="6226"/>
                </a:cubicBezTo>
              </a:path>
              <a:path w="3349" h="4912">
                <a:moveTo>
                  <a:pt x="9302" y="8582"/>
                </a:moveTo>
                <a:cubicBezTo>
                  <a:pt x="9239" y="8614"/>
                  <a:pt x="9254" y="8651"/>
                  <a:pt x="9227" y="8706"/>
                </a:cubicBezTo>
                <a:cubicBezTo>
                  <a:pt x="9202" y="8758"/>
                  <a:pt x="9187" y="8796"/>
                  <a:pt x="9178" y="8855"/>
                </a:cubicBezTo>
                <a:cubicBezTo>
                  <a:pt x="9226" y="8855"/>
                  <a:pt x="9255" y="8896"/>
                  <a:pt x="9302" y="8880"/>
                </a:cubicBezTo>
                <a:cubicBezTo>
                  <a:pt x="9357" y="8862"/>
                  <a:pt x="9328" y="8855"/>
                  <a:pt x="9401" y="8855"/>
                </a:cubicBezTo>
              </a:path>
              <a:path w="3349" h="4912">
                <a:moveTo>
                  <a:pt x="9351" y="8781"/>
                </a:moveTo>
                <a:cubicBezTo>
                  <a:pt x="9351" y="8940"/>
                  <a:pt x="9353" y="9107"/>
                  <a:pt x="9327" y="9252"/>
                </a:cubicBezTo>
                <a:cubicBezTo>
                  <a:pt x="9322" y="9279"/>
                  <a:pt x="9351" y="9352"/>
                  <a:pt x="9351" y="9302"/>
                </a:cubicBezTo>
              </a:path>
              <a:path w="3349" h="4912">
                <a:moveTo>
                  <a:pt x="10046" y="7441"/>
                </a:moveTo>
                <a:cubicBezTo>
                  <a:pt x="10061" y="7417"/>
                  <a:pt x="10069" y="7420"/>
                  <a:pt x="10071" y="7367"/>
                </a:cubicBezTo>
                <a:cubicBezTo>
                  <a:pt x="10074" y="7299"/>
                  <a:pt x="10068" y="7256"/>
                  <a:pt x="10046" y="7193"/>
                </a:cubicBezTo>
                <a:cubicBezTo>
                  <a:pt x="10034" y="7158"/>
                  <a:pt x="10019" y="7083"/>
                  <a:pt x="9971" y="7069"/>
                </a:cubicBezTo>
                <a:cubicBezTo>
                  <a:pt x="9914" y="7052"/>
                  <a:pt x="9848" y="7102"/>
                  <a:pt x="9823" y="7144"/>
                </a:cubicBezTo>
                <a:cubicBezTo>
                  <a:pt x="9751" y="7263"/>
                  <a:pt x="9670" y="7408"/>
                  <a:pt x="9624" y="7541"/>
                </a:cubicBezTo>
                <a:cubicBezTo>
                  <a:pt x="9571" y="7696"/>
                  <a:pt x="9530" y="7875"/>
                  <a:pt x="9525" y="8037"/>
                </a:cubicBezTo>
                <a:cubicBezTo>
                  <a:pt x="9522" y="8141"/>
                  <a:pt x="9518" y="8238"/>
                  <a:pt x="9550" y="8334"/>
                </a:cubicBezTo>
                <a:cubicBezTo>
                  <a:pt x="9579" y="8420"/>
                  <a:pt x="9646" y="8449"/>
                  <a:pt x="9723" y="8483"/>
                </a:cubicBezTo>
                <a:cubicBezTo>
                  <a:pt x="9793" y="8514"/>
                  <a:pt x="9882" y="8536"/>
                  <a:pt x="9947" y="8558"/>
                </a:cubicBezTo>
                <a:cubicBezTo>
                  <a:pt x="9963" y="8558"/>
                  <a:pt x="9980" y="8558"/>
                  <a:pt x="9996" y="8558"/>
                </a:cubicBezTo>
              </a:path>
              <a:path w="3349" h="4912">
                <a:moveTo>
                  <a:pt x="9947" y="8930"/>
                </a:moveTo>
                <a:cubicBezTo>
                  <a:pt x="10036" y="8964"/>
                  <a:pt x="10114" y="8973"/>
                  <a:pt x="10096" y="9079"/>
                </a:cubicBezTo>
                <a:cubicBezTo>
                  <a:pt x="10079" y="9180"/>
                  <a:pt x="10028" y="9232"/>
                  <a:pt x="9971" y="9302"/>
                </a:cubicBezTo>
                <a:cubicBezTo>
                  <a:pt x="9942" y="9332"/>
                  <a:pt x="9931" y="9346"/>
                  <a:pt x="9922" y="9376"/>
                </a:cubicBezTo>
                <a:cubicBezTo>
                  <a:pt x="9960" y="9399"/>
                  <a:pt x="10020" y="9416"/>
                  <a:pt x="10071" y="9401"/>
                </a:cubicBezTo>
                <a:cubicBezTo>
                  <a:pt x="10129" y="9384"/>
                  <a:pt x="10234" y="9357"/>
                  <a:pt x="10269" y="9302"/>
                </a:cubicBezTo>
                <a:cubicBezTo>
                  <a:pt x="10277" y="9277"/>
                  <a:pt x="10286" y="9252"/>
                  <a:pt x="10294" y="9227"/>
                </a:cubicBezTo>
              </a:path>
              <a:path w="3349" h="4912">
                <a:moveTo>
                  <a:pt x="9971" y="6424"/>
                </a:moveTo>
                <a:cubicBezTo>
                  <a:pt x="9971" y="6647"/>
                  <a:pt x="10098" y="7228"/>
                  <a:pt x="9971" y="7045"/>
                </a:cubicBezTo>
                <a:cubicBezTo>
                  <a:pt x="9963" y="7037"/>
                  <a:pt x="9955" y="7028"/>
                  <a:pt x="9947" y="7020"/>
                </a:cubicBezTo>
              </a:path>
              <a:path w="3349" h="4912">
                <a:moveTo>
                  <a:pt x="9674" y="6598"/>
                </a:moveTo>
                <a:cubicBezTo>
                  <a:pt x="9681" y="6552"/>
                  <a:pt x="9699" y="6490"/>
                  <a:pt x="9723" y="6449"/>
                </a:cubicBezTo>
                <a:cubicBezTo>
                  <a:pt x="9747" y="6408"/>
                  <a:pt x="9768" y="6358"/>
                  <a:pt x="9798" y="6325"/>
                </a:cubicBezTo>
                <a:cubicBezTo>
                  <a:pt x="9806" y="6317"/>
                  <a:pt x="9815" y="6308"/>
                  <a:pt x="9823" y="6300"/>
                </a:cubicBezTo>
                <a:cubicBezTo>
                  <a:pt x="9865" y="6343"/>
                  <a:pt x="9897" y="6368"/>
                  <a:pt x="9947" y="6400"/>
                </a:cubicBezTo>
                <a:cubicBezTo>
                  <a:pt x="10015" y="6443"/>
                  <a:pt x="10030" y="6446"/>
                  <a:pt x="10096" y="6474"/>
                </a:cubicBezTo>
              </a:path>
              <a:path w="3349" h="4912">
                <a:moveTo>
                  <a:pt x="10418" y="4837"/>
                </a:moveTo>
                <a:cubicBezTo>
                  <a:pt x="10418" y="4898"/>
                  <a:pt x="10440" y="4950"/>
                  <a:pt x="10443" y="5011"/>
                </a:cubicBezTo>
                <a:cubicBezTo>
                  <a:pt x="10448" y="5126"/>
                  <a:pt x="10461" y="5248"/>
                  <a:pt x="10492" y="5358"/>
                </a:cubicBezTo>
                <a:cubicBezTo>
                  <a:pt x="10515" y="5440"/>
                  <a:pt x="10543" y="5534"/>
                  <a:pt x="10592" y="5606"/>
                </a:cubicBezTo>
                <a:cubicBezTo>
                  <a:pt x="10616" y="5642"/>
                  <a:pt x="10616" y="5637"/>
                  <a:pt x="10616" y="5680"/>
                </a:cubicBezTo>
                <a:cubicBezTo>
                  <a:pt x="10660" y="5665"/>
                  <a:pt x="10641" y="5609"/>
                  <a:pt x="10641" y="5556"/>
                </a:cubicBezTo>
              </a:path>
              <a:path w="3349" h="4912">
                <a:moveTo>
                  <a:pt x="10641" y="5011"/>
                </a:moveTo>
                <a:cubicBezTo>
                  <a:pt x="10556" y="5168"/>
                  <a:pt x="10505" y="5354"/>
                  <a:pt x="10418" y="5507"/>
                </a:cubicBezTo>
                <a:cubicBezTo>
                  <a:pt x="10389" y="5558"/>
                  <a:pt x="10335" y="5635"/>
                  <a:pt x="10294" y="5680"/>
                </a:cubicBezTo>
                <a:cubicBezTo>
                  <a:pt x="10246" y="5733"/>
                  <a:pt x="10262" y="5730"/>
                  <a:pt x="10294" y="5655"/>
                </a:cubicBezTo>
              </a:path>
              <a:path w="3349" h="4912">
                <a:moveTo>
                  <a:pt x="10815" y="4564"/>
                </a:moveTo>
                <a:cubicBezTo>
                  <a:pt x="10844" y="4549"/>
                  <a:pt x="11007" y="4417"/>
                  <a:pt x="11013" y="4539"/>
                </a:cubicBezTo>
                <a:cubicBezTo>
                  <a:pt x="11017" y="4621"/>
                  <a:pt x="11020" y="4676"/>
                  <a:pt x="10964" y="4738"/>
                </a:cubicBezTo>
                <a:cubicBezTo>
                  <a:pt x="10933" y="4772"/>
                  <a:pt x="10897" y="4804"/>
                  <a:pt x="10864" y="4837"/>
                </a:cubicBezTo>
                <a:cubicBezTo>
                  <a:pt x="10953" y="4837"/>
                  <a:pt x="11026" y="4822"/>
                  <a:pt x="11112" y="4812"/>
                </a:cubicBezTo>
                <a:cubicBezTo>
                  <a:pt x="11134" y="4809"/>
                  <a:pt x="11345" y="4812"/>
                  <a:pt x="11286" y="4812"/>
                </a:cubicBezTo>
                <a:cubicBezTo>
                  <a:pt x="11244" y="4812"/>
                  <a:pt x="11248" y="4802"/>
                  <a:pt x="11237" y="48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3960" y="1571760"/>
            <a:ext cx="1098360" cy="1643040"/>
          </a:xfrm>
          <a:custGeom>
            <a:avLst/>
            <a:gdLst/>
            <a:ahLst/>
            <a:rect l="l" t="t" r="r" b="b"/>
            <a:pathLst>
              <a:path w="3052" h="4565">
                <a:moveTo>
                  <a:pt x="5928" y="6226"/>
                </a:moveTo>
                <a:cubicBezTo>
                  <a:pt x="5983" y="6246"/>
                  <a:pt x="5997" y="6249"/>
                  <a:pt x="6052" y="6251"/>
                </a:cubicBezTo>
                <a:cubicBezTo>
                  <a:pt x="6150" y="6255"/>
                  <a:pt x="6232" y="6237"/>
                  <a:pt x="6325" y="6226"/>
                </a:cubicBezTo>
                <a:cubicBezTo>
                  <a:pt x="6518" y="6204"/>
                  <a:pt x="6727" y="6214"/>
                  <a:pt x="6921" y="6201"/>
                </a:cubicBezTo>
                <a:cubicBezTo>
                  <a:pt x="7153" y="6185"/>
                  <a:pt x="7387" y="6207"/>
                  <a:pt x="7615" y="6226"/>
                </a:cubicBezTo>
                <a:cubicBezTo>
                  <a:pt x="7813" y="6242"/>
                  <a:pt x="8015" y="6232"/>
                  <a:pt x="8210" y="6251"/>
                </a:cubicBezTo>
                <a:cubicBezTo>
                  <a:pt x="8260" y="6256"/>
                  <a:pt x="8285" y="6176"/>
                  <a:pt x="8285" y="6226"/>
                </a:cubicBezTo>
                <a:cubicBezTo>
                  <a:pt x="8285" y="6234"/>
                  <a:pt x="8285" y="6243"/>
                  <a:pt x="8285" y="6251"/>
                </a:cubicBezTo>
              </a:path>
              <a:path w="3052" h="4565">
                <a:moveTo>
                  <a:pt x="5283" y="8483"/>
                </a:moveTo>
                <a:cubicBezTo>
                  <a:pt x="5283" y="8547"/>
                  <a:pt x="5273" y="8573"/>
                  <a:pt x="5259" y="8632"/>
                </a:cubicBezTo>
                <a:cubicBezTo>
                  <a:pt x="5259" y="8665"/>
                  <a:pt x="5259" y="8681"/>
                  <a:pt x="5259" y="8706"/>
                </a:cubicBezTo>
                <a:cubicBezTo>
                  <a:pt x="5286" y="8687"/>
                  <a:pt x="5282" y="8643"/>
                  <a:pt x="5333" y="8632"/>
                </a:cubicBezTo>
                <a:cubicBezTo>
                  <a:pt x="5374" y="8632"/>
                  <a:pt x="5382" y="8632"/>
                  <a:pt x="5407" y="8632"/>
                </a:cubicBezTo>
              </a:path>
              <a:path w="3052" h="4565">
                <a:moveTo>
                  <a:pt x="5432" y="8434"/>
                </a:moveTo>
                <a:cubicBezTo>
                  <a:pt x="5432" y="8545"/>
                  <a:pt x="5445" y="8541"/>
                  <a:pt x="5432" y="8632"/>
                </a:cubicBezTo>
                <a:cubicBezTo>
                  <a:pt x="5426" y="8673"/>
                  <a:pt x="5432" y="8920"/>
                  <a:pt x="5432" y="8806"/>
                </a:cubicBezTo>
              </a:path>
              <a:path w="3052" h="4565">
                <a:moveTo>
                  <a:pt x="5953" y="7863"/>
                </a:moveTo>
                <a:cubicBezTo>
                  <a:pt x="5973" y="7904"/>
                  <a:pt x="5992" y="7920"/>
                  <a:pt x="5953" y="7913"/>
                </a:cubicBezTo>
                <a:cubicBezTo>
                  <a:pt x="5946" y="7861"/>
                  <a:pt x="5936" y="7877"/>
                  <a:pt x="5928" y="7838"/>
                </a:cubicBezTo>
                <a:cubicBezTo>
                  <a:pt x="5918" y="7788"/>
                  <a:pt x="5923" y="7713"/>
                  <a:pt x="5904" y="7665"/>
                </a:cubicBezTo>
                <a:cubicBezTo>
                  <a:pt x="5885" y="7616"/>
                  <a:pt x="5857" y="7537"/>
                  <a:pt x="5829" y="7491"/>
                </a:cubicBezTo>
                <a:cubicBezTo>
                  <a:pt x="5805" y="7452"/>
                  <a:pt x="5745" y="7396"/>
                  <a:pt x="5705" y="7392"/>
                </a:cubicBezTo>
                <a:cubicBezTo>
                  <a:pt x="5666" y="7388"/>
                  <a:pt x="5600" y="7464"/>
                  <a:pt x="5581" y="7491"/>
                </a:cubicBezTo>
                <a:cubicBezTo>
                  <a:pt x="5530" y="7563"/>
                  <a:pt x="5509" y="7657"/>
                  <a:pt x="5482" y="7739"/>
                </a:cubicBezTo>
                <a:cubicBezTo>
                  <a:pt x="5447" y="7842"/>
                  <a:pt x="5436" y="7954"/>
                  <a:pt x="5432" y="8062"/>
                </a:cubicBezTo>
                <a:cubicBezTo>
                  <a:pt x="5429" y="8154"/>
                  <a:pt x="5454" y="8250"/>
                  <a:pt x="5482" y="8334"/>
                </a:cubicBezTo>
                <a:cubicBezTo>
                  <a:pt x="5513" y="8425"/>
                  <a:pt x="5564" y="8449"/>
                  <a:pt x="5631" y="8508"/>
                </a:cubicBezTo>
                <a:cubicBezTo>
                  <a:pt x="5703" y="8572"/>
                  <a:pt x="5690" y="8547"/>
                  <a:pt x="5779" y="8558"/>
                </a:cubicBezTo>
                <a:cubicBezTo>
                  <a:pt x="5787" y="8558"/>
                  <a:pt x="5796" y="8558"/>
                  <a:pt x="5804" y="8558"/>
                </a:cubicBezTo>
              </a:path>
              <a:path w="3052" h="4565">
                <a:moveTo>
                  <a:pt x="6003" y="8632"/>
                </a:moveTo>
                <a:cubicBezTo>
                  <a:pt x="5994" y="8716"/>
                  <a:pt x="5969" y="8768"/>
                  <a:pt x="5953" y="8855"/>
                </a:cubicBezTo>
                <a:cubicBezTo>
                  <a:pt x="5944" y="8902"/>
                  <a:pt x="5951" y="8912"/>
                  <a:pt x="5978" y="8930"/>
                </a:cubicBezTo>
              </a:path>
              <a:path w="3052" h="4565">
                <a:moveTo>
                  <a:pt x="6176" y="8310"/>
                </a:moveTo>
                <a:cubicBezTo>
                  <a:pt x="6176" y="8359"/>
                  <a:pt x="6176" y="8376"/>
                  <a:pt x="6176" y="8409"/>
                </a:cubicBezTo>
                <a:cubicBezTo>
                  <a:pt x="6176" y="8183"/>
                  <a:pt x="6182" y="7961"/>
                  <a:pt x="6201" y="7739"/>
                </a:cubicBezTo>
                <a:cubicBezTo>
                  <a:pt x="6232" y="7372"/>
                  <a:pt x="6201" y="6991"/>
                  <a:pt x="6201" y="6623"/>
                </a:cubicBezTo>
              </a:path>
              <a:path w="3052" h="4565">
                <a:moveTo>
                  <a:pt x="5953" y="6846"/>
                </a:moveTo>
                <a:cubicBezTo>
                  <a:pt x="5917" y="6846"/>
                  <a:pt x="5956" y="6835"/>
                  <a:pt x="5978" y="6796"/>
                </a:cubicBezTo>
                <a:cubicBezTo>
                  <a:pt x="6015" y="6732"/>
                  <a:pt x="6030" y="6690"/>
                  <a:pt x="6052" y="6623"/>
                </a:cubicBezTo>
                <a:cubicBezTo>
                  <a:pt x="6060" y="6600"/>
                  <a:pt x="6104" y="6510"/>
                  <a:pt x="6127" y="6499"/>
                </a:cubicBezTo>
                <a:cubicBezTo>
                  <a:pt x="6163" y="6481"/>
                  <a:pt x="6201" y="6557"/>
                  <a:pt x="6226" y="6573"/>
                </a:cubicBezTo>
                <a:cubicBezTo>
                  <a:pt x="6284" y="6610"/>
                  <a:pt x="6359" y="6616"/>
                  <a:pt x="6424" y="6648"/>
                </a:cubicBezTo>
                <a:cubicBezTo>
                  <a:pt x="6441" y="6656"/>
                  <a:pt x="6457" y="6664"/>
                  <a:pt x="6474" y="6672"/>
                </a:cubicBezTo>
              </a:path>
              <a:path w="3052" h="4565">
                <a:moveTo>
                  <a:pt x="6697" y="5035"/>
                </a:moveTo>
                <a:cubicBezTo>
                  <a:pt x="6707" y="5124"/>
                  <a:pt x="6708" y="5219"/>
                  <a:pt x="6722" y="5308"/>
                </a:cubicBezTo>
                <a:cubicBezTo>
                  <a:pt x="6738" y="5412"/>
                  <a:pt x="6806" y="5548"/>
                  <a:pt x="6871" y="5631"/>
                </a:cubicBezTo>
                <a:cubicBezTo>
                  <a:pt x="6920" y="5694"/>
                  <a:pt x="6989" y="5747"/>
                  <a:pt x="7045" y="5804"/>
                </a:cubicBezTo>
                <a:cubicBezTo>
                  <a:pt x="7094" y="5854"/>
                  <a:pt x="7069" y="5771"/>
                  <a:pt x="7069" y="5730"/>
                </a:cubicBezTo>
              </a:path>
              <a:path w="3052" h="4565">
                <a:moveTo>
                  <a:pt x="7045" y="5135"/>
                </a:moveTo>
                <a:cubicBezTo>
                  <a:pt x="7010" y="5266"/>
                  <a:pt x="6961" y="5341"/>
                  <a:pt x="6896" y="5457"/>
                </a:cubicBezTo>
                <a:cubicBezTo>
                  <a:pt x="6842" y="5553"/>
                  <a:pt x="6816" y="5668"/>
                  <a:pt x="6747" y="5755"/>
                </a:cubicBezTo>
                <a:cubicBezTo>
                  <a:pt x="6723" y="5785"/>
                  <a:pt x="6667" y="5912"/>
                  <a:pt x="6648" y="5928"/>
                </a:cubicBezTo>
                <a:cubicBezTo>
                  <a:pt x="6615" y="5955"/>
                  <a:pt x="6636" y="5870"/>
                  <a:pt x="6648" y="5829"/>
                </a:cubicBezTo>
              </a:path>
              <a:path w="3052" h="4565">
                <a:moveTo>
                  <a:pt x="7144" y="4465"/>
                </a:moveTo>
                <a:cubicBezTo>
                  <a:pt x="7191" y="4418"/>
                  <a:pt x="7223" y="4371"/>
                  <a:pt x="7293" y="4366"/>
                </a:cubicBezTo>
                <a:cubicBezTo>
                  <a:pt x="7347" y="4362"/>
                  <a:pt x="7386" y="4386"/>
                  <a:pt x="7392" y="4440"/>
                </a:cubicBezTo>
                <a:cubicBezTo>
                  <a:pt x="7398" y="4496"/>
                  <a:pt x="7345" y="4552"/>
                  <a:pt x="7293" y="4564"/>
                </a:cubicBezTo>
                <a:cubicBezTo>
                  <a:pt x="7234" y="4578"/>
                  <a:pt x="7220" y="4560"/>
                  <a:pt x="7193" y="4614"/>
                </a:cubicBezTo>
                <a:cubicBezTo>
                  <a:pt x="7247" y="4656"/>
                  <a:pt x="7311" y="4674"/>
                  <a:pt x="7367" y="4713"/>
                </a:cubicBezTo>
                <a:cubicBezTo>
                  <a:pt x="7392" y="4730"/>
                  <a:pt x="7450" y="4778"/>
                  <a:pt x="7441" y="4812"/>
                </a:cubicBezTo>
                <a:cubicBezTo>
                  <a:pt x="7420" y="4888"/>
                  <a:pt x="7377" y="4883"/>
                  <a:pt x="7317" y="4911"/>
                </a:cubicBezTo>
                <a:cubicBezTo>
                  <a:pt x="7256" y="4940"/>
                  <a:pt x="7211" y="4936"/>
                  <a:pt x="7144" y="4936"/>
                </a:cubicBezTo>
                <a:cubicBezTo>
                  <a:pt x="7099" y="4936"/>
                  <a:pt x="7082" y="4923"/>
                  <a:pt x="7069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99160" y="2419200"/>
            <a:ext cx="384120" cy="1090800"/>
          </a:xfrm>
          <a:custGeom>
            <a:avLst/>
            <a:gdLst/>
            <a:ahLst/>
            <a:rect l="l" t="t" r="r" b="b"/>
            <a:pathLst>
              <a:path w="1067" h="3027">
                <a:moveTo>
                  <a:pt x="18455" y="8930"/>
                </a:moveTo>
                <a:cubicBezTo>
                  <a:pt x="18415" y="8960"/>
                  <a:pt x="18393" y="9028"/>
                  <a:pt x="18355" y="9079"/>
                </a:cubicBezTo>
                <a:cubicBezTo>
                  <a:pt x="18327" y="9107"/>
                  <a:pt x="18319" y="9120"/>
                  <a:pt x="18331" y="9153"/>
                </a:cubicBezTo>
                <a:cubicBezTo>
                  <a:pt x="18381" y="9153"/>
                  <a:pt x="18389" y="9164"/>
                  <a:pt x="18430" y="9178"/>
                </a:cubicBezTo>
                <a:cubicBezTo>
                  <a:pt x="18472" y="9192"/>
                  <a:pt x="18519" y="9182"/>
                  <a:pt x="18529" y="9153"/>
                </a:cubicBezTo>
              </a:path>
              <a:path w="1067" h="3027">
                <a:moveTo>
                  <a:pt x="18504" y="8954"/>
                </a:moveTo>
                <a:cubicBezTo>
                  <a:pt x="18490" y="9049"/>
                  <a:pt x="18487" y="9211"/>
                  <a:pt x="18455" y="9302"/>
                </a:cubicBezTo>
                <a:cubicBezTo>
                  <a:pt x="18449" y="9320"/>
                  <a:pt x="18399" y="9429"/>
                  <a:pt x="18405" y="9451"/>
                </a:cubicBezTo>
                <a:cubicBezTo>
                  <a:pt x="18413" y="9451"/>
                  <a:pt x="18422" y="9451"/>
                  <a:pt x="18430" y="9451"/>
                </a:cubicBezTo>
              </a:path>
              <a:path w="1067" h="3027">
                <a:moveTo>
                  <a:pt x="19248" y="8210"/>
                </a:moveTo>
                <a:cubicBezTo>
                  <a:pt x="19212" y="8092"/>
                  <a:pt x="19246" y="8085"/>
                  <a:pt x="19149" y="8062"/>
                </a:cubicBezTo>
                <a:cubicBezTo>
                  <a:pt x="19124" y="8056"/>
                  <a:pt x="19014" y="8168"/>
                  <a:pt x="19000" y="8186"/>
                </a:cubicBezTo>
                <a:cubicBezTo>
                  <a:pt x="18904" y="8310"/>
                  <a:pt x="18834" y="8425"/>
                  <a:pt x="18752" y="8558"/>
                </a:cubicBezTo>
                <a:cubicBezTo>
                  <a:pt x="18680" y="8675"/>
                  <a:pt x="18658" y="8793"/>
                  <a:pt x="18653" y="8930"/>
                </a:cubicBezTo>
                <a:cubicBezTo>
                  <a:pt x="18651" y="8999"/>
                  <a:pt x="18660" y="9170"/>
                  <a:pt x="18703" y="9227"/>
                </a:cubicBezTo>
                <a:cubicBezTo>
                  <a:pt x="18748" y="9286"/>
                  <a:pt x="18823" y="9343"/>
                  <a:pt x="18876" y="9376"/>
                </a:cubicBezTo>
                <a:cubicBezTo>
                  <a:pt x="18909" y="9397"/>
                  <a:pt x="18950" y="9433"/>
                  <a:pt x="18976" y="9451"/>
                </a:cubicBezTo>
              </a:path>
              <a:path w="1067" h="3027">
                <a:moveTo>
                  <a:pt x="19199" y="9302"/>
                </a:moveTo>
                <a:cubicBezTo>
                  <a:pt x="19176" y="9339"/>
                  <a:pt x="19114" y="9427"/>
                  <a:pt x="19100" y="9451"/>
                </a:cubicBezTo>
                <a:cubicBezTo>
                  <a:pt x="19100" y="9459"/>
                  <a:pt x="19100" y="9467"/>
                  <a:pt x="19100" y="9475"/>
                </a:cubicBezTo>
                <a:cubicBezTo>
                  <a:pt x="19164" y="9475"/>
                  <a:pt x="19222" y="9488"/>
                  <a:pt x="19273" y="9451"/>
                </a:cubicBezTo>
              </a:path>
              <a:path w="1067" h="3027">
                <a:moveTo>
                  <a:pt x="19397" y="9302"/>
                </a:moveTo>
                <a:cubicBezTo>
                  <a:pt x="19379" y="9412"/>
                  <a:pt x="19372" y="9491"/>
                  <a:pt x="19372" y="9599"/>
                </a:cubicBezTo>
                <a:cubicBezTo>
                  <a:pt x="19372" y="9657"/>
                  <a:pt x="19368" y="9802"/>
                  <a:pt x="19348" y="9748"/>
                </a:cubicBezTo>
                <a:cubicBezTo>
                  <a:pt x="19348" y="9732"/>
                  <a:pt x="19348" y="9715"/>
                  <a:pt x="19348" y="9699"/>
                </a:cubicBezTo>
              </a:path>
              <a:path w="1067" h="3027">
                <a:moveTo>
                  <a:pt x="19025" y="7913"/>
                </a:moveTo>
                <a:cubicBezTo>
                  <a:pt x="19054" y="7903"/>
                  <a:pt x="19070" y="7879"/>
                  <a:pt x="19075" y="7838"/>
                </a:cubicBezTo>
                <a:cubicBezTo>
                  <a:pt x="19083" y="7768"/>
                  <a:pt x="19097" y="7711"/>
                  <a:pt x="19100" y="7640"/>
                </a:cubicBezTo>
                <a:cubicBezTo>
                  <a:pt x="19104" y="7527"/>
                  <a:pt x="19158" y="6798"/>
                  <a:pt x="19075" y="6772"/>
                </a:cubicBezTo>
              </a:path>
              <a:path w="1067" h="3027">
                <a:moveTo>
                  <a:pt x="18802" y="7020"/>
                </a:moveTo>
                <a:cubicBezTo>
                  <a:pt x="18862" y="6960"/>
                  <a:pt x="18886" y="6900"/>
                  <a:pt x="18926" y="6821"/>
                </a:cubicBezTo>
                <a:cubicBezTo>
                  <a:pt x="18950" y="6774"/>
                  <a:pt x="18948" y="6760"/>
                  <a:pt x="18976" y="6722"/>
                </a:cubicBezTo>
                <a:cubicBezTo>
                  <a:pt x="19015" y="6763"/>
                  <a:pt x="19046" y="6799"/>
                  <a:pt x="19100" y="6821"/>
                </a:cubicBezTo>
                <a:cubicBezTo>
                  <a:pt x="19194" y="6859"/>
                  <a:pt x="19269" y="6884"/>
                  <a:pt x="19348" y="69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6960" y="3776760"/>
            <a:ext cx="4071960" cy="1117440"/>
          </a:xfrm>
          <a:custGeom>
            <a:avLst/>
            <a:gdLst/>
            <a:ahLst/>
            <a:rect l="l" t="t" r="r" b="b"/>
            <a:pathLst>
              <a:path w="11312" h="3102">
                <a:moveTo>
                  <a:pt x="1935" y="11286"/>
                </a:moveTo>
                <a:cubicBezTo>
                  <a:pt x="1955" y="11332"/>
                  <a:pt x="1998" y="11387"/>
                  <a:pt x="2009" y="11435"/>
                </a:cubicBezTo>
                <a:cubicBezTo>
                  <a:pt x="2027" y="11514"/>
                  <a:pt x="2070" y="11536"/>
                  <a:pt x="2108" y="11609"/>
                </a:cubicBezTo>
                <a:cubicBezTo>
                  <a:pt x="2164" y="11717"/>
                  <a:pt x="2242" y="11804"/>
                  <a:pt x="2307" y="11906"/>
                </a:cubicBezTo>
                <a:cubicBezTo>
                  <a:pt x="2339" y="11957"/>
                  <a:pt x="2379" y="12007"/>
                  <a:pt x="2406" y="12030"/>
                </a:cubicBezTo>
                <a:cubicBezTo>
                  <a:pt x="2431" y="12055"/>
                  <a:pt x="2439" y="12063"/>
                  <a:pt x="2456" y="12030"/>
                </a:cubicBezTo>
              </a:path>
              <a:path w="11312" h="3102">
                <a:moveTo>
                  <a:pt x="2381" y="11137"/>
                </a:moveTo>
                <a:cubicBezTo>
                  <a:pt x="2344" y="11211"/>
                  <a:pt x="2315" y="11286"/>
                  <a:pt x="2282" y="11361"/>
                </a:cubicBezTo>
                <a:cubicBezTo>
                  <a:pt x="2244" y="11449"/>
                  <a:pt x="2181" y="11526"/>
                  <a:pt x="2133" y="11609"/>
                </a:cubicBezTo>
                <a:cubicBezTo>
                  <a:pt x="2095" y="11676"/>
                  <a:pt x="2026" y="11755"/>
                  <a:pt x="2009" y="11832"/>
                </a:cubicBezTo>
                <a:cubicBezTo>
                  <a:pt x="1998" y="11879"/>
                  <a:pt x="1993" y="11991"/>
                  <a:pt x="1960" y="11956"/>
                </a:cubicBezTo>
                <a:cubicBezTo>
                  <a:pt x="1960" y="11931"/>
                  <a:pt x="1960" y="11923"/>
                  <a:pt x="1960" y="11906"/>
                </a:cubicBezTo>
              </a:path>
              <a:path w="11312" h="3102">
                <a:moveTo>
                  <a:pt x="2604" y="10790"/>
                </a:moveTo>
                <a:cubicBezTo>
                  <a:pt x="2604" y="10854"/>
                  <a:pt x="2596" y="10863"/>
                  <a:pt x="2580" y="10914"/>
                </a:cubicBezTo>
                <a:cubicBezTo>
                  <a:pt x="2567" y="10954"/>
                  <a:pt x="2564" y="10977"/>
                  <a:pt x="2530" y="10988"/>
                </a:cubicBezTo>
                <a:cubicBezTo>
                  <a:pt x="2584" y="10988"/>
                  <a:pt x="2609" y="11008"/>
                  <a:pt x="2654" y="11013"/>
                </a:cubicBezTo>
                <a:cubicBezTo>
                  <a:pt x="2699" y="11018"/>
                  <a:pt x="2731" y="11038"/>
                  <a:pt x="2778" y="11038"/>
                </a:cubicBezTo>
                <a:cubicBezTo>
                  <a:pt x="2820" y="11038"/>
                  <a:pt x="2828" y="11038"/>
                  <a:pt x="2853" y="11038"/>
                </a:cubicBezTo>
              </a:path>
              <a:path w="11312" h="3102">
                <a:moveTo>
                  <a:pt x="2803" y="10492"/>
                </a:moveTo>
                <a:cubicBezTo>
                  <a:pt x="2780" y="10597"/>
                  <a:pt x="2778" y="10682"/>
                  <a:pt x="2778" y="10790"/>
                </a:cubicBezTo>
                <a:cubicBezTo>
                  <a:pt x="2778" y="10872"/>
                  <a:pt x="2759" y="10936"/>
                  <a:pt x="2753" y="11013"/>
                </a:cubicBezTo>
                <a:cubicBezTo>
                  <a:pt x="2747" y="11087"/>
                  <a:pt x="2753" y="11163"/>
                  <a:pt x="2753" y="11237"/>
                </a:cubicBezTo>
              </a:path>
              <a:path w="11312" h="3102">
                <a:moveTo>
                  <a:pt x="3249" y="11088"/>
                </a:moveTo>
                <a:cubicBezTo>
                  <a:pt x="3249" y="11152"/>
                  <a:pt x="3220" y="11257"/>
                  <a:pt x="3225" y="11311"/>
                </a:cubicBezTo>
                <a:cubicBezTo>
                  <a:pt x="3230" y="11365"/>
                  <a:pt x="3234" y="11480"/>
                  <a:pt x="3249" y="11534"/>
                </a:cubicBezTo>
                <a:cubicBezTo>
                  <a:pt x="3266" y="11594"/>
                  <a:pt x="3274" y="11650"/>
                  <a:pt x="3299" y="11708"/>
                </a:cubicBezTo>
              </a:path>
              <a:path w="11312" h="3102">
                <a:moveTo>
                  <a:pt x="3026" y="11460"/>
                </a:moveTo>
                <a:cubicBezTo>
                  <a:pt x="3095" y="11460"/>
                  <a:pt x="3161" y="11466"/>
                  <a:pt x="3225" y="11485"/>
                </a:cubicBezTo>
                <a:cubicBezTo>
                  <a:pt x="3293" y="11505"/>
                  <a:pt x="3322" y="11509"/>
                  <a:pt x="3398" y="11509"/>
                </a:cubicBezTo>
              </a:path>
              <a:path w="11312" h="3102">
                <a:moveTo>
                  <a:pt x="3696" y="11187"/>
                </a:moveTo>
                <a:cubicBezTo>
                  <a:pt x="3689" y="11238"/>
                  <a:pt x="3677" y="11289"/>
                  <a:pt x="3646" y="11336"/>
                </a:cubicBezTo>
                <a:cubicBezTo>
                  <a:pt x="3625" y="11367"/>
                  <a:pt x="3616" y="11407"/>
                  <a:pt x="3597" y="11435"/>
                </a:cubicBezTo>
                <a:cubicBezTo>
                  <a:pt x="3582" y="11458"/>
                  <a:pt x="3553" y="11500"/>
                  <a:pt x="3572" y="11534"/>
                </a:cubicBezTo>
                <a:cubicBezTo>
                  <a:pt x="3594" y="11573"/>
                  <a:pt x="3686" y="11574"/>
                  <a:pt x="3721" y="11584"/>
                </a:cubicBezTo>
                <a:cubicBezTo>
                  <a:pt x="3802" y="11606"/>
                  <a:pt x="3861" y="11609"/>
                  <a:pt x="3944" y="11609"/>
                </a:cubicBezTo>
              </a:path>
              <a:path w="11312" h="3102">
                <a:moveTo>
                  <a:pt x="3919" y="11038"/>
                </a:moveTo>
                <a:cubicBezTo>
                  <a:pt x="3919" y="11374"/>
                  <a:pt x="3893" y="11730"/>
                  <a:pt x="3944" y="12055"/>
                </a:cubicBezTo>
                <a:cubicBezTo>
                  <a:pt x="3947" y="12075"/>
                  <a:pt x="3923" y="12202"/>
                  <a:pt x="3969" y="12179"/>
                </a:cubicBezTo>
                <a:cubicBezTo>
                  <a:pt x="3977" y="12171"/>
                  <a:pt x="3986" y="12162"/>
                  <a:pt x="3994" y="12154"/>
                </a:cubicBezTo>
              </a:path>
              <a:path w="11312" h="3102">
                <a:moveTo>
                  <a:pt x="4118" y="11633"/>
                </a:moveTo>
                <a:cubicBezTo>
                  <a:pt x="4143" y="11702"/>
                  <a:pt x="4164" y="11762"/>
                  <a:pt x="4192" y="11832"/>
                </a:cubicBezTo>
                <a:cubicBezTo>
                  <a:pt x="4236" y="11943"/>
                  <a:pt x="4298" y="11993"/>
                  <a:pt x="4366" y="12080"/>
                </a:cubicBezTo>
                <a:cubicBezTo>
                  <a:pt x="4414" y="12141"/>
                  <a:pt x="4491" y="12215"/>
                  <a:pt x="4564" y="12254"/>
                </a:cubicBezTo>
                <a:cubicBezTo>
                  <a:pt x="4589" y="12254"/>
                  <a:pt x="4597" y="12254"/>
                  <a:pt x="4614" y="12254"/>
                </a:cubicBezTo>
              </a:path>
              <a:path w="11312" h="3102">
                <a:moveTo>
                  <a:pt x="4415" y="11584"/>
                </a:moveTo>
                <a:cubicBezTo>
                  <a:pt x="4386" y="11672"/>
                  <a:pt x="4360" y="11775"/>
                  <a:pt x="4316" y="11857"/>
                </a:cubicBezTo>
                <a:cubicBezTo>
                  <a:pt x="4276" y="11930"/>
                  <a:pt x="4211" y="12021"/>
                  <a:pt x="4192" y="12105"/>
                </a:cubicBezTo>
                <a:cubicBezTo>
                  <a:pt x="4182" y="12150"/>
                  <a:pt x="4123" y="12245"/>
                  <a:pt x="4167" y="12179"/>
                </a:cubicBezTo>
              </a:path>
              <a:path w="11312" h="3102">
                <a:moveTo>
                  <a:pt x="4440" y="10914"/>
                </a:moveTo>
                <a:cubicBezTo>
                  <a:pt x="4552" y="10893"/>
                  <a:pt x="4583" y="10865"/>
                  <a:pt x="4663" y="10939"/>
                </a:cubicBezTo>
                <a:cubicBezTo>
                  <a:pt x="4720" y="10991"/>
                  <a:pt x="4733" y="11029"/>
                  <a:pt x="4688" y="11063"/>
                </a:cubicBezTo>
                <a:cubicBezTo>
                  <a:pt x="4645" y="11096"/>
                  <a:pt x="4645" y="11112"/>
                  <a:pt x="4589" y="11112"/>
                </a:cubicBezTo>
                <a:cubicBezTo>
                  <a:pt x="4564" y="11112"/>
                  <a:pt x="4556" y="11112"/>
                  <a:pt x="4539" y="11112"/>
                </a:cubicBezTo>
                <a:cubicBezTo>
                  <a:pt x="4550" y="11156"/>
                  <a:pt x="4580" y="11177"/>
                  <a:pt x="4614" y="11212"/>
                </a:cubicBezTo>
                <a:cubicBezTo>
                  <a:pt x="4649" y="11248"/>
                  <a:pt x="4697" y="11313"/>
                  <a:pt x="4713" y="11361"/>
                </a:cubicBezTo>
                <a:cubicBezTo>
                  <a:pt x="4726" y="11399"/>
                  <a:pt x="4711" y="11434"/>
                  <a:pt x="4688" y="11460"/>
                </a:cubicBezTo>
                <a:cubicBezTo>
                  <a:pt x="4654" y="11498"/>
                  <a:pt x="4612" y="11485"/>
                  <a:pt x="4564" y="11485"/>
                </a:cubicBezTo>
                <a:cubicBezTo>
                  <a:pt x="4539" y="11485"/>
                  <a:pt x="4515" y="11485"/>
                  <a:pt x="4490" y="11485"/>
                </a:cubicBezTo>
              </a:path>
              <a:path w="11312" h="3102">
                <a:moveTo>
                  <a:pt x="4762" y="11683"/>
                </a:moveTo>
                <a:cubicBezTo>
                  <a:pt x="4779" y="11818"/>
                  <a:pt x="4778" y="11914"/>
                  <a:pt x="4837" y="12030"/>
                </a:cubicBezTo>
                <a:cubicBezTo>
                  <a:pt x="4874" y="12104"/>
                  <a:pt x="4888" y="12140"/>
                  <a:pt x="4961" y="12179"/>
                </a:cubicBezTo>
                <a:cubicBezTo>
                  <a:pt x="5017" y="12209"/>
                  <a:pt x="5059" y="12220"/>
                  <a:pt x="5110" y="12179"/>
                </a:cubicBezTo>
                <a:cubicBezTo>
                  <a:pt x="5142" y="12154"/>
                  <a:pt x="5199" y="12091"/>
                  <a:pt x="5209" y="12055"/>
                </a:cubicBezTo>
                <a:cubicBezTo>
                  <a:pt x="5226" y="11990"/>
                  <a:pt x="5210" y="11893"/>
                  <a:pt x="5234" y="11832"/>
                </a:cubicBezTo>
                <a:cubicBezTo>
                  <a:pt x="5248" y="11795"/>
                  <a:pt x="5254" y="11778"/>
                  <a:pt x="5259" y="11733"/>
                </a:cubicBezTo>
                <a:cubicBezTo>
                  <a:pt x="5236" y="11733"/>
                  <a:pt x="5238" y="11679"/>
                  <a:pt x="5234" y="11782"/>
                </a:cubicBezTo>
                <a:cubicBezTo>
                  <a:pt x="5222" y="12089"/>
                  <a:pt x="5332" y="12543"/>
                  <a:pt x="5209" y="12824"/>
                </a:cubicBezTo>
                <a:cubicBezTo>
                  <a:pt x="5178" y="12894"/>
                  <a:pt x="5114" y="13000"/>
                  <a:pt x="5035" y="13022"/>
                </a:cubicBezTo>
                <a:cubicBezTo>
                  <a:pt x="4961" y="13042"/>
                  <a:pt x="4918" y="13006"/>
                  <a:pt x="4862" y="12973"/>
                </a:cubicBezTo>
                <a:cubicBezTo>
                  <a:pt x="4779" y="12923"/>
                  <a:pt x="4767" y="12869"/>
                  <a:pt x="4762" y="12774"/>
                </a:cubicBezTo>
                <a:cubicBezTo>
                  <a:pt x="4758" y="12690"/>
                  <a:pt x="4789" y="12662"/>
                  <a:pt x="4837" y="12601"/>
                </a:cubicBezTo>
              </a:path>
              <a:path w="11312" h="3102">
                <a:moveTo>
                  <a:pt x="5804" y="11435"/>
                </a:moveTo>
                <a:cubicBezTo>
                  <a:pt x="5804" y="11552"/>
                  <a:pt x="5816" y="11646"/>
                  <a:pt x="5829" y="11757"/>
                </a:cubicBezTo>
                <a:cubicBezTo>
                  <a:pt x="5840" y="11849"/>
                  <a:pt x="5848" y="11908"/>
                  <a:pt x="5854" y="12005"/>
                </a:cubicBezTo>
              </a:path>
              <a:path w="11312" h="3102">
                <a:moveTo>
                  <a:pt x="5581" y="11708"/>
                </a:moveTo>
                <a:cubicBezTo>
                  <a:pt x="5651" y="11726"/>
                  <a:pt x="5782" y="11762"/>
                  <a:pt x="5854" y="11757"/>
                </a:cubicBezTo>
                <a:cubicBezTo>
                  <a:pt x="5919" y="11752"/>
                  <a:pt x="5992" y="11728"/>
                  <a:pt x="6052" y="11708"/>
                </a:cubicBezTo>
              </a:path>
              <a:path w="11312" h="3102">
                <a:moveTo>
                  <a:pt x="6400" y="11187"/>
                </a:moveTo>
                <a:cubicBezTo>
                  <a:pt x="6400" y="11119"/>
                  <a:pt x="6403" y="11227"/>
                  <a:pt x="6400" y="11237"/>
                </a:cubicBezTo>
                <a:cubicBezTo>
                  <a:pt x="6377" y="11324"/>
                  <a:pt x="6338" y="11420"/>
                  <a:pt x="6325" y="11509"/>
                </a:cubicBezTo>
                <a:cubicBezTo>
                  <a:pt x="6305" y="11642"/>
                  <a:pt x="6300" y="11768"/>
                  <a:pt x="6300" y="11906"/>
                </a:cubicBezTo>
                <a:cubicBezTo>
                  <a:pt x="6300" y="11972"/>
                  <a:pt x="6303" y="12129"/>
                  <a:pt x="6350" y="12179"/>
                </a:cubicBezTo>
                <a:cubicBezTo>
                  <a:pt x="6379" y="12210"/>
                  <a:pt x="6458" y="12251"/>
                  <a:pt x="6499" y="12254"/>
                </a:cubicBezTo>
                <a:cubicBezTo>
                  <a:pt x="6569" y="12259"/>
                  <a:pt x="6615" y="12211"/>
                  <a:pt x="6648" y="12154"/>
                </a:cubicBezTo>
                <a:cubicBezTo>
                  <a:pt x="6693" y="12076"/>
                  <a:pt x="6718" y="11993"/>
                  <a:pt x="6722" y="11906"/>
                </a:cubicBezTo>
                <a:cubicBezTo>
                  <a:pt x="6724" y="11854"/>
                  <a:pt x="6701" y="11782"/>
                  <a:pt x="6648" y="11757"/>
                </a:cubicBezTo>
                <a:cubicBezTo>
                  <a:pt x="6582" y="11726"/>
                  <a:pt x="6539" y="11719"/>
                  <a:pt x="6499" y="11782"/>
                </a:cubicBezTo>
                <a:cubicBezTo>
                  <a:pt x="6469" y="11829"/>
                  <a:pt x="6458" y="11926"/>
                  <a:pt x="6474" y="11981"/>
                </a:cubicBezTo>
                <a:cubicBezTo>
                  <a:pt x="6499" y="12069"/>
                  <a:pt x="6557" y="12103"/>
                  <a:pt x="6623" y="12154"/>
                </a:cubicBezTo>
                <a:cubicBezTo>
                  <a:pt x="6631" y="12162"/>
                  <a:pt x="6640" y="12171"/>
                  <a:pt x="6648" y="12179"/>
                </a:cubicBezTo>
              </a:path>
              <a:path w="11312" h="3102">
                <a:moveTo>
                  <a:pt x="6896" y="11683"/>
                </a:moveTo>
                <a:cubicBezTo>
                  <a:pt x="6950" y="11862"/>
                  <a:pt x="6980" y="11886"/>
                  <a:pt x="7069" y="12030"/>
                </a:cubicBezTo>
                <a:cubicBezTo>
                  <a:pt x="7115" y="12104"/>
                  <a:pt x="7191" y="12160"/>
                  <a:pt x="7268" y="12204"/>
                </a:cubicBezTo>
                <a:cubicBezTo>
                  <a:pt x="7308" y="12224"/>
                  <a:pt x="7314" y="12233"/>
                  <a:pt x="7342" y="12229"/>
                </a:cubicBezTo>
              </a:path>
              <a:path w="11312" h="3102">
                <a:moveTo>
                  <a:pt x="7293" y="11584"/>
                </a:moveTo>
                <a:cubicBezTo>
                  <a:pt x="7186" y="11599"/>
                  <a:pt x="7227" y="11625"/>
                  <a:pt x="7169" y="11708"/>
                </a:cubicBezTo>
                <a:cubicBezTo>
                  <a:pt x="7105" y="11799"/>
                  <a:pt x="7055" y="11886"/>
                  <a:pt x="6995" y="11981"/>
                </a:cubicBezTo>
                <a:cubicBezTo>
                  <a:pt x="6939" y="12069"/>
                  <a:pt x="6882" y="12185"/>
                  <a:pt x="6846" y="12278"/>
                </a:cubicBezTo>
                <a:cubicBezTo>
                  <a:pt x="6833" y="12312"/>
                  <a:pt x="6810" y="12357"/>
                  <a:pt x="6846" y="12303"/>
                </a:cubicBezTo>
              </a:path>
              <a:path w="11312" h="3102">
                <a:moveTo>
                  <a:pt x="7243" y="11088"/>
                </a:moveTo>
                <a:cubicBezTo>
                  <a:pt x="7299" y="11054"/>
                  <a:pt x="7367" y="11009"/>
                  <a:pt x="7441" y="11038"/>
                </a:cubicBezTo>
                <a:cubicBezTo>
                  <a:pt x="7504" y="11063"/>
                  <a:pt x="7447" y="11179"/>
                  <a:pt x="7441" y="11212"/>
                </a:cubicBezTo>
                <a:cubicBezTo>
                  <a:pt x="7433" y="11257"/>
                  <a:pt x="7399" y="11300"/>
                  <a:pt x="7367" y="11336"/>
                </a:cubicBezTo>
                <a:cubicBezTo>
                  <a:pt x="7323" y="11384"/>
                  <a:pt x="7351" y="11394"/>
                  <a:pt x="7392" y="11435"/>
                </a:cubicBezTo>
                <a:cubicBezTo>
                  <a:pt x="7452" y="11495"/>
                  <a:pt x="7510" y="11485"/>
                  <a:pt x="7590" y="11485"/>
                </a:cubicBezTo>
              </a:path>
              <a:path w="11312" h="3102">
                <a:moveTo>
                  <a:pt x="7689" y="11757"/>
                </a:moveTo>
                <a:cubicBezTo>
                  <a:pt x="7640" y="11921"/>
                  <a:pt x="7617" y="11943"/>
                  <a:pt x="7640" y="12080"/>
                </a:cubicBezTo>
                <a:cubicBezTo>
                  <a:pt x="7649" y="12132"/>
                  <a:pt x="7675" y="12191"/>
                  <a:pt x="7739" y="12204"/>
                </a:cubicBezTo>
                <a:cubicBezTo>
                  <a:pt x="7791" y="12214"/>
                  <a:pt x="7825" y="12206"/>
                  <a:pt x="7863" y="12179"/>
                </a:cubicBezTo>
                <a:cubicBezTo>
                  <a:pt x="7914" y="12142"/>
                  <a:pt x="7935" y="12085"/>
                  <a:pt x="7962" y="12030"/>
                </a:cubicBezTo>
                <a:cubicBezTo>
                  <a:pt x="8003" y="11948"/>
                  <a:pt x="8000" y="11895"/>
                  <a:pt x="8037" y="11807"/>
                </a:cubicBezTo>
                <a:cubicBezTo>
                  <a:pt x="8060" y="11784"/>
                  <a:pt x="8068" y="11780"/>
                  <a:pt x="8062" y="11757"/>
                </a:cubicBezTo>
                <a:cubicBezTo>
                  <a:pt x="8048" y="11798"/>
                  <a:pt x="8044" y="11790"/>
                  <a:pt x="8037" y="11832"/>
                </a:cubicBezTo>
                <a:cubicBezTo>
                  <a:pt x="7974" y="12205"/>
                  <a:pt x="8093" y="12601"/>
                  <a:pt x="8012" y="12973"/>
                </a:cubicBezTo>
                <a:cubicBezTo>
                  <a:pt x="7982" y="13109"/>
                  <a:pt x="7963" y="13183"/>
                  <a:pt x="7863" y="13271"/>
                </a:cubicBezTo>
                <a:cubicBezTo>
                  <a:pt x="7800" y="13327"/>
                  <a:pt x="7744" y="13343"/>
                  <a:pt x="7665" y="13295"/>
                </a:cubicBezTo>
                <a:cubicBezTo>
                  <a:pt x="7598" y="13254"/>
                  <a:pt x="7592" y="13114"/>
                  <a:pt x="7590" y="13047"/>
                </a:cubicBezTo>
                <a:cubicBezTo>
                  <a:pt x="7590" y="13014"/>
                  <a:pt x="7590" y="12981"/>
                  <a:pt x="7590" y="12948"/>
                </a:cubicBezTo>
              </a:path>
              <a:path w="11312" h="3102">
                <a:moveTo>
                  <a:pt x="8161" y="10988"/>
                </a:moveTo>
                <a:cubicBezTo>
                  <a:pt x="8215" y="10981"/>
                  <a:pt x="8352" y="10948"/>
                  <a:pt x="8384" y="11038"/>
                </a:cubicBezTo>
                <a:cubicBezTo>
                  <a:pt x="8409" y="11107"/>
                  <a:pt x="8415" y="11169"/>
                  <a:pt x="8384" y="11237"/>
                </a:cubicBezTo>
                <a:cubicBezTo>
                  <a:pt x="8357" y="11298"/>
                  <a:pt x="8305" y="11344"/>
                  <a:pt x="8285" y="11410"/>
                </a:cubicBezTo>
                <a:cubicBezTo>
                  <a:pt x="8273" y="11448"/>
                  <a:pt x="8260" y="11466"/>
                  <a:pt x="8260" y="11509"/>
                </a:cubicBezTo>
                <a:cubicBezTo>
                  <a:pt x="8260" y="11550"/>
                  <a:pt x="8305" y="11540"/>
                  <a:pt x="8334" y="11559"/>
                </a:cubicBezTo>
                <a:cubicBezTo>
                  <a:pt x="8380" y="11590"/>
                  <a:pt x="8477" y="11604"/>
                  <a:pt x="8533" y="11609"/>
                </a:cubicBezTo>
                <a:cubicBezTo>
                  <a:pt x="8574" y="11609"/>
                  <a:pt x="8616" y="11609"/>
                  <a:pt x="8657" y="11609"/>
                </a:cubicBezTo>
              </a:path>
              <a:path w="11312" h="3102">
                <a:moveTo>
                  <a:pt x="9004" y="11733"/>
                </a:moveTo>
                <a:cubicBezTo>
                  <a:pt x="8985" y="11898"/>
                  <a:pt x="8981" y="11982"/>
                  <a:pt x="9004" y="12129"/>
                </a:cubicBezTo>
                <a:cubicBezTo>
                  <a:pt x="9012" y="12179"/>
                  <a:pt x="9021" y="12228"/>
                  <a:pt x="9029" y="12278"/>
                </a:cubicBezTo>
              </a:path>
              <a:path w="11312" h="3102">
                <a:moveTo>
                  <a:pt x="8731" y="12005"/>
                </a:moveTo>
                <a:cubicBezTo>
                  <a:pt x="8826" y="12031"/>
                  <a:pt x="8904" y="12030"/>
                  <a:pt x="9004" y="12030"/>
                </a:cubicBezTo>
                <a:cubicBezTo>
                  <a:pt x="9078" y="12030"/>
                  <a:pt x="9153" y="12030"/>
                  <a:pt x="9227" y="12030"/>
                </a:cubicBezTo>
              </a:path>
              <a:path w="11312" h="3102">
                <a:moveTo>
                  <a:pt x="9500" y="11633"/>
                </a:moveTo>
                <a:cubicBezTo>
                  <a:pt x="9474" y="11697"/>
                  <a:pt x="9416" y="11798"/>
                  <a:pt x="9401" y="11832"/>
                </a:cubicBezTo>
                <a:cubicBezTo>
                  <a:pt x="9382" y="11877"/>
                  <a:pt x="9420" y="11895"/>
                  <a:pt x="9426" y="11906"/>
                </a:cubicBezTo>
                <a:cubicBezTo>
                  <a:pt x="9446" y="11946"/>
                  <a:pt x="9491" y="11953"/>
                  <a:pt x="9550" y="11956"/>
                </a:cubicBezTo>
                <a:cubicBezTo>
                  <a:pt x="9647" y="11961"/>
                  <a:pt x="9730" y="11954"/>
                  <a:pt x="9823" y="11931"/>
                </a:cubicBezTo>
              </a:path>
              <a:path w="11312" h="3102">
                <a:moveTo>
                  <a:pt x="9723" y="11063"/>
                </a:moveTo>
                <a:cubicBezTo>
                  <a:pt x="9723" y="11338"/>
                  <a:pt x="9728" y="11610"/>
                  <a:pt x="9748" y="11881"/>
                </a:cubicBezTo>
                <a:cubicBezTo>
                  <a:pt x="9758" y="12021"/>
                  <a:pt x="9768" y="12164"/>
                  <a:pt x="9773" y="12303"/>
                </a:cubicBezTo>
                <a:cubicBezTo>
                  <a:pt x="9776" y="12387"/>
                  <a:pt x="9771" y="12473"/>
                  <a:pt x="9798" y="12551"/>
                </a:cubicBezTo>
                <a:cubicBezTo>
                  <a:pt x="9809" y="12582"/>
                  <a:pt x="9817" y="12510"/>
                  <a:pt x="9823" y="12477"/>
                </a:cubicBezTo>
              </a:path>
              <a:path w="11312" h="3102">
                <a:moveTo>
                  <a:pt x="10021" y="11807"/>
                </a:moveTo>
                <a:cubicBezTo>
                  <a:pt x="10076" y="11946"/>
                  <a:pt x="10117" y="12067"/>
                  <a:pt x="10220" y="12179"/>
                </a:cubicBezTo>
                <a:cubicBezTo>
                  <a:pt x="10317" y="12285"/>
                  <a:pt x="10412" y="12378"/>
                  <a:pt x="10517" y="12477"/>
                </a:cubicBezTo>
                <a:cubicBezTo>
                  <a:pt x="10545" y="12505"/>
                  <a:pt x="10559" y="12514"/>
                  <a:pt x="10592" y="12502"/>
                </a:cubicBezTo>
              </a:path>
              <a:path w="11312" h="3102">
                <a:moveTo>
                  <a:pt x="10418" y="11733"/>
                </a:moveTo>
                <a:cubicBezTo>
                  <a:pt x="10325" y="11826"/>
                  <a:pt x="10282" y="11894"/>
                  <a:pt x="10220" y="12005"/>
                </a:cubicBezTo>
                <a:cubicBezTo>
                  <a:pt x="10164" y="12106"/>
                  <a:pt x="10093" y="12198"/>
                  <a:pt x="10046" y="12303"/>
                </a:cubicBezTo>
                <a:cubicBezTo>
                  <a:pt x="10015" y="12372"/>
                  <a:pt x="9996" y="12428"/>
                  <a:pt x="9996" y="12502"/>
                </a:cubicBezTo>
                <a:cubicBezTo>
                  <a:pt x="9996" y="12526"/>
                  <a:pt x="9996" y="12534"/>
                  <a:pt x="10021" y="12526"/>
                </a:cubicBezTo>
              </a:path>
              <a:path w="11312" h="3102">
                <a:moveTo>
                  <a:pt x="10567" y="11832"/>
                </a:moveTo>
                <a:cubicBezTo>
                  <a:pt x="10567" y="11979"/>
                  <a:pt x="10550" y="12135"/>
                  <a:pt x="10592" y="12278"/>
                </a:cubicBezTo>
                <a:cubicBezTo>
                  <a:pt x="10613" y="12351"/>
                  <a:pt x="10663" y="12362"/>
                  <a:pt x="10716" y="12402"/>
                </a:cubicBezTo>
                <a:cubicBezTo>
                  <a:pt x="10767" y="12440"/>
                  <a:pt x="10770" y="12422"/>
                  <a:pt x="10815" y="12378"/>
                </a:cubicBezTo>
                <a:cubicBezTo>
                  <a:pt x="10852" y="12342"/>
                  <a:pt x="10905" y="12256"/>
                  <a:pt x="10914" y="12204"/>
                </a:cubicBezTo>
                <a:cubicBezTo>
                  <a:pt x="10927" y="12128"/>
                  <a:pt x="10952" y="12055"/>
                  <a:pt x="10964" y="11981"/>
                </a:cubicBezTo>
                <a:cubicBezTo>
                  <a:pt x="10968" y="11960"/>
                  <a:pt x="10964" y="11780"/>
                  <a:pt x="10964" y="11906"/>
                </a:cubicBezTo>
                <a:cubicBezTo>
                  <a:pt x="10934" y="11997"/>
                  <a:pt x="10939" y="12081"/>
                  <a:pt x="10939" y="12179"/>
                </a:cubicBezTo>
                <a:cubicBezTo>
                  <a:pt x="10939" y="12321"/>
                  <a:pt x="10914" y="12456"/>
                  <a:pt x="10914" y="12601"/>
                </a:cubicBezTo>
                <a:cubicBezTo>
                  <a:pt x="10914" y="12786"/>
                  <a:pt x="10909" y="13073"/>
                  <a:pt x="10815" y="13246"/>
                </a:cubicBezTo>
                <a:cubicBezTo>
                  <a:pt x="10792" y="13288"/>
                  <a:pt x="10714" y="13382"/>
                  <a:pt x="10666" y="13395"/>
                </a:cubicBezTo>
                <a:cubicBezTo>
                  <a:pt x="10649" y="13395"/>
                  <a:pt x="10633" y="13395"/>
                  <a:pt x="10616" y="13395"/>
                </a:cubicBezTo>
                <a:cubicBezTo>
                  <a:pt x="10560" y="13323"/>
                  <a:pt x="10545" y="13262"/>
                  <a:pt x="10542" y="13171"/>
                </a:cubicBezTo>
                <a:cubicBezTo>
                  <a:pt x="10542" y="13071"/>
                  <a:pt x="10542" y="13037"/>
                  <a:pt x="10567" y="12973"/>
                </a:cubicBezTo>
              </a:path>
              <a:path w="11312" h="3102">
                <a:moveTo>
                  <a:pt x="11013" y="11063"/>
                </a:moveTo>
                <a:cubicBezTo>
                  <a:pt x="11112" y="11030"/>
                  <a:pt x="11232" y="10973"/>
                  <a:pt x="11336" y="11038"/>
                </a:cubicBezTo>
                <a:cubicBezTo>
                  <a:pt x="11352" y="11048"/>
                  <a:pt x="11449" y="11131"/>
                  <a:pt x="11435" y="11162"/>
                </a:cubicBezTo>
                <a:cubicBezTo>
                  <a:pt x="11408" y="11223"/>
                  <a:pt x="11353" y="11217"/>
                  <a:pt x="11311" y="11237"/>
                </a:cubicBezTo>
                <a:cubicBezTo>
                  <a:pt x="11273" y="11255"/>
                  <a:pt x="11282" y="11261"/>
                  <a:pt x="11237" y="11261"/>
                </a:cubicBezTo>
                <a:cubicBezTo>
                  <a:pt x="11260" y="11319"/>
                  <a:pt x="11319" y="11362"/>
                  <a:pt x="11361" y="11410"/>
                </a:cubicBezTo>
                <a:cubicBezTo>
                  <a:pt x="11395" y="11449"/>
                  <a:pt x="11468" y="11494"/>
                  <a:pt x="11435" y="11559"/>
                </a:cubicBezTo>
                <a:cubicBezTo>
                  <a:pt x="11410" y="11610"/>
                  <a:pt x="11360" y="11630"/>
                  <a:pt x="11311" y="11633"/>
                </a:cubicBezTo>
                <a:cubicBezTo>
                  <a:pt x="11294" y="11634"/>
                  <a:pt x="11167" y="11649"/>
                  <a:pt x="11187" y="11609"/>
                </a:cubicBezTo>
                <a:cubicBezTo>
                  <a:pt x="11210" y="11586"/>
                  <a:pt x="11214" y="11578"/>
                  <a:pt x="11237" y="11584"/>
                </a:cubicBezTo>
              </a:path>
              <a:path w="11312" h="3102">
                <a:moveTo>
                  <a:pt x="11956" y="11757"/>
                </a:moveTo>
                <a:cubicBezTo>
                  <a:pt x="11956" y="11919"/>
                  <a:pt x="11955" y="12075"/>
                  <a:pt x="11981" y="12229"/>
                </a:cubicBezTo>
                <a:cubicBezTo>
                  <a:pt x="11989" y="12274"/>
                  <a:pt x="11995" y="12288"/>
                  <a:pt x="12005" y="12328"/>
                </a:cubicBezTo>
              </a:path>
              <a:path w="11312" h="3102">
                <a:moveTo>
                  <a:pt x="11733" y="11956"/>
                </a:moveTo>
                <a:cubicBezTo>
                  <a:pt x="11859" y="11920"/>
                  <a:pt x="11983" y="11914"/>
                  <a:pt x="12105" y="11881"/>
                </a:cubicBezTo>
                <a:cubicBezTo>
                  <a:pt x="12121" y="11873"/>
                  <a:pt x="12138" y="11865"/>
                  <a:pt x="12154" y="11857"/>
                </a:cubicBezTo>
              </a:path>
              <a:path w="11312" h="3102">
                <a:moveTo>
                  <a:pt x="12378" y="11956"/>
                </a:moveTo>
                <a:cubicBezTo>
                  <a:pt x="12358" y="12087"/>
                  <a:pt x="12327" y="12131"/>
                  <a:pt x="12402" y="12229"/>
                </a:cubicBezTo>
                <a:cubicBezTo>
                  <a:pt x="12456" y="12300"/>
                  <a:pt x="12525" y="12345"/>
                  <a:pt x="12601" y="12353"/>
                </a:cubicBezTo>
                <a:cubicBezTo>
                  <a:pt x="12665" y="12360"/>
                  <a:pt x="12726" y="12350"/>
                  <a:pt x="12774" y="12303"/>
                </a:cubicBezTo>
                <a:cubicBezTo>
                  <a:pt x="12816" y="12261"/>
                  <a:pt x="12863" y="12136"/>
                  <a:pt x="12874" y="12080"/>
                </a:cubicBezTo>
                <a:cubicBezTo>
                  <a:pt x="12886" y="12016"/>
                  <a:pt x="12916" y="11924"/>
                  <a:pt x="12898" y="11857"/>
                </a:cubicBezTo>
                <a:cubicBezTo>
                  <a:pt x="12876" y="11834"/>
                  <a:pt x="12868" y="11829"/>
                  <a:pt x="12874" y="11807"/>
                </a:cubicBezTo>
                <a:cubicBezTo>
                  <a:pt x="12863" y="11823"/>
                  <a:pt x="12828" y="11860"/>
                  <a:pt x="12824" y="11906"/>
                </a:cubicBezTo>
                <a:cubicBezTo>
                  <a:pt x="12812" y="12055"/>
                  <a:pt x="12811" y="12205"/>
                  <a:pt x="12799" y="12353"/>
                </a:cubicBezTo>
                <a:cubicBezTo>
                  <a:pt x="12785" y="12526"/>
                  <a:pt x="12794" y="12701"/>
                  <a:pt x="12774" y="12874"/>
                </a:cubicBezTo>
                <a:cubicBezTo>
                  <a:pt x="12754" y="13051"/>
                  <a:pt x="12703" y="13205"/>
                  <a:pt x="12650" y="13370"/>
                </a:cubicBezTo>
                <a:cubicBezTo>
                  <a:pt x="12623" y="13453"/>
                  <a:pt x="12590" y="13547"/>
                  <a:pt x="12502" y="13593"/>
                </a:cubicBezTo>
                <a:cubicBezTo>
                  <a:pt x="12408" y="13642"/>
                  <a:pt x="12352" y="13494"/>
                  <a:pt x="12328" y="13444"/>
                </a:cubicBezTo>
                <a:cubicBezTo>
                  <a:pt x="12274" y="13334"/>
                  <a:pt x="12273" y="13244"/>
                  <a:pt x="12254" y="13122"/>
                </a:cubicBezTo>
              </a:path>
              <a:path w="11312" h="3102">
                <a:moveTo>
                  <a:pt x="12973" y="11212"/>
                </a:moveTo>
                <a:cubicBezTo>
                  <a:pt x="13002" y="11308"/>
                  <a:pt x="12961" y="11312"/>
                  <a:pt x="12973" y="11385"/>
                </a:cubicBezTo>
                <a:cubicBezTo>
                  <a:pt x="12979" y="11421"/>
                  <a:pt x="12989" y="11444"/>
                  <a:pt x="13022" y="11460"/>
                </a:cubicBezTo>
                <a:cubicBezTo>
                  <a:pt x="13061" y="11480"/>
                  <a:pt x="13114" y="11443"/>
                  <a:pt x="13146" y="11435"/>
                </a:cubicBezTo>
                <a:cubicBezTo>
                  <a:pt x="13190" y="11424"/>
                  <a:pt x="13212" y="11394"/>
                  <a:pt x="13246" y="11361"/>
                </a:cubicBezTo>
              </a:path>
              <a:path w="11312" h="3102">
                <a:moveTo>
                  <a:pt x="13196" y="10889"/>
                </a:moveTo>
                <a:cubicBezTo>
                  <a:pt x="13153" y="10987"/>
                  <a:pt x="13132" y="11080"/>
                  <a:pt x="13122" y="11187"/>
                </a:cubicBezTo>
                <a:cubicBezTo>
                  <a:pt x="13108" y="11346"/>
                  <a:pt x="13135" y="11501"/>
                  <a:pt x="13146" y="11658"/>
                </a:cubicBezTo>
                <a:cubicBezTo>
                  <a:pt x="13148" y="11687"/>
                  <a:pt x="13123" y="11981"/>
                  <a:pt x="13171" y="11981"/>
                </a:cubicBezTo>
                <a:cubicBezTo>
                  <a:pt x="13179" y="11973"/>
                  <a:pt x="13188" y="11964"/>
                  <a:pt x="13196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7760" y="3411360"/>
            <a:ext cx="4662360" cy="1509840"/>
          </a:xfrm>
          <a:custGeom>
            <a:avLst/>
            <a:gdLst/>
            <a:ahLst/>
            <a:rect l="l" t="t" r="r" b="b"/>
            <a:pathLst>
              <a:path w="12949" h="4193">
                <a:moveTo>
                  <a:pt x="13915" y="10790"/>
                </a:moveTo>
                <a:cubicBezTo>
                  <a:pt x="13806" y="10713"/>
                  <a:pt x="13708" y="10631"/>
                  <a:pt x="13593" y="10567"/>
                </a:cubicBezTo>
                <a:cubicBezTo>
                  <a:pt x="13480" y="10505"/>
                  <a:pt x="13369" y="10458"/>
                  <a:pt x="13246" y="10418"/>
                </a:cubicBezTo>
                <a:cubicBezTo>
                  <a:pt x="13100" y="10370"/>
                  <a:pt x="12971" y="10336"/>
                  <a:pt x="12824" y="10294"/>
                </a:cubicBezTo>
                <a:cubicBezTo>
                  <a:pt x="12625" y="10238"/>
                  <a:pt x="12429" y="10175"/>
                  <a:pt x="12229" y="10145"/>
                </a:cubicBezTo>
                <a:cubicBezTo>
                  <a:pt x="11930" y="10100"/>
                  <a:pt x="11614" y="10058"/>
                  <a:pt x="11311" y="10046"/>
                </a:cubicBezTo>
                <a:cubicBezTo>
                  <a:pt x="11065" y="10036"/>
                  <a:pt x="10836" y="10016"/>
                  <a:pt x="10592" y="9996"/>
                </a:cubicBezTo>
                <a:cubicBezTo>
                  <a:pt x="10260" y="9969"/>
                  <a:pt x="9930" y="9917"/>
                  <a:pt x="9599" y="9897"/>
                </a:cubicBezTo>
                <a:cubicBezTo>
                  <a:pt x="9168" y="9871"/>
                  <a:pt x="8738" y="9876"/>
                  <a:pt x="8310" y="9847"/>
                </a:cubicBezTo>
                <a:cubicBezTo>
                  <a:pt x="7773" y="9811"/>
                  <a:pt x="7231" y="9800"/>
                  <a:pt x="6697" y="9773"/>
                </a:cubicBezTo>
                <a:cubicBezTo>
                  <a:pt x="5940" y="9735"/>
                  <a:pt x="5166" y="9728"/>
                  <a:pt x="4415" y="9699"/>
                </a:cubicBezTo>
                <a:cubicBezTo>
                  <a:pt x="4150" y="9689"/>
                  <a:pt x="3885" y="9699"/>
                  <a:pt x="3621" y="9674"/>
                </a:cubicBezTo>
                <a:cubicBezTo>
                  <a:pt x="3380" y="9651"/>
                  <a:pt x="3145" y="9630"/>
                  <a:pt x="2902" y="9599"/>
                </a:cubicBezTo>
                <a:cubicBezTo>
                  <a:pt x="2703" y="9574"/>
                  <a:pt x="2509" y="9544"/>
                  <a:pt x="2307" y="9525"/>
                </a:cubicBezTo>
                <a:cubicBezTo>
                  <a:pt x="2131" y="9509"/>
                  <a:pt x="1961" y="9483"/>
                  <a:pt x="1786" y="9475"/>
                </a:cubicBezTo>
                <a:cubicBezTo>
                  <a:pt x="1486" y="9461"/>
                  <a:pt x="1351" y="9469"/>
                  <a:pt x="1166" y="9674"/>
                </a:cubicBezTo>
                <a:cubicBezTo>
                  <a:pt x="1117" y="9728"/>
                  <a:pt x="1090" y="9854"/>
                  <a:pt x="1067" y="9922"/>
                </a:cubicBezTo>
                <a:cubicBezTo>
                  <a:pt x="1002" y="10114"/>
                  <a:pt x="1001" y="10366"/>
                  <a:pt x="992" y="10567"/>
                </a:cubicBezTo>
                <a:cubicBezTo>
                  <a:pt x="984" y="10758"/>
                  <a:pt x="973" y="10946"/>
                  <a:pt x="967" y="11137"/>
                </a:cubicBezTo>
                <a:cubicBezTo>
                  <a:pt x="956" y="11498"/>
                  <a:pt x="968" y="11874"/>
                  <a:pt x="1017" y="12229"/>
                </a:cubicBezTo>
                <a:cubicBezTo>
                  <a:pt x="1031" y="12333"/>
                  <a:pt x="1039" y="12451"/>
                  <a:pt x="1067" y="12551"/>
                </a:cubicBezTo>
                <a:cubicBezTo>
                  <a:pt x="1076" y="12582"/>
                  <a:pt x="1096" y="12700"/>
                  <a:pt x="1116" y="12725"/>
                </a:cubicBezTo>
                <a:cubicBezTo>
                  <a:pt x="1149" y="12765"/>
                  <a:pt x="1145" y="12772"/>
                  <a:pt x="1191" y="12799"/>
                </a:cubicBezTo>
                <a:cubicBezTo>
                  <a:pt x="1237" y="12826"/>
                  <a:pt x="1292" y="12810"/>
                  <a:pt x="1339" y="12824"/>
                </a:cubicBezTo>
                <a:cubicBezTo>
                  <a:pt x="1509" y="12876"/>
                  <a:pt x="1756" y="12859"/>
                  <a:pt x="1935" y="12874"/>
                </a:cubicBezTo>
                <a:cubicBezTo>
                  <a:pt x="2115" y="12889"/>
                  <a:pt x="2300" y="12904"/>
                  <a:pt x="2480" y="12923"/>
                </a:cubicBezTo>
                <a:cubicBezTo>
                  <a:pt x="2655" y="12942"/>
                  <a:pt x="2826" y="12981"/>
                  <a:pt x="3001" y="12998"/>
                </a:cubicBezTo>
                <a:cubicBezTo>
                  <a:pt x="3182" y="13015"/>
                  <a:pt x="3366" y="13031"/>
                  <a:pt x="3547" y="13047"/>
                </a:cubicBezTo>
                <a:cubicBezTo>
                  <a:pt x="3919" y="13079"/>
                  <a:pt x="4292" y="13127"/>
                  <a:pt x="4663" y="13171"/>
                </a:cubicBezTo>
                <a:cubicBezTo>
                  <a:pt x="5907" y="13319"/>
                  <a:pt x="7134" y="13448"/>
                  <a:pt x="8384" y="13519"/>
                </a:cubicBezTo>
                <a:cubicBezTo>
                  <a:pt x="8748" y="13540"/>
                  <a:pt x="9111" y="13570"/>
                  <a:pt x="9475" y="13593"/>
                </a:cubicBezTo>
                <a:cubicBezTo>
                  <a:pt x="9765" y="13612"/>
                  <a:pt x="10054" y="13606"/>
                  <a:pt x="10344" y="13618"/>
                </a:cubicBezTo>
                <a:cubicBezTo>
                  <a:pt x="10674" y="13631"/>
                  <a:pt x="11005" y="13660"/>
                  <a:pt x="11336" y="13667"/>
                </a:cubicBezTo>
                <a:cubicBezTo>
                  <a:pt x="11925" y="13680"/>
                  <a:pt x="12491" y="13605"/>
                  <a:pt x="13072" y="13568"/>
                </a:cubicBezTo>
                <a:cubicBezTo>
                  <a:pt x="13200" y="13560"/>
                  <a:pt x="13324" y="13568"/>
                  <a:pt x="13444" y="13593"/>
                </a:cubicBezTo>
                <a:cubicBezTo>
                  <a:pt x="13486" y="13602"/>
                  <a:pt x="13513" y="13635"/>
                  <a:pt x="13543" y="13643"/>
                </a:cubicBezTo>
                <a:cubicBezTo>
                  <a:pt x="13551" y="13651"/>
                  <a:pt x="13560" y="13659"/>
                  <a:pt x="13568" y="13667"/>
                </a:cubicBezTo>
                <a:cubicBezTo>
                  <a:pt x="13579" y="13621"/>
                  <a:pt x="13580" y="13588"/>
                  <a:pt x="13593" y="13543"/>
                </a:cubicBezTo>
                <a:cubicBezTo>
                  <a:pt x="13616" y="13463"/>
                  <a:pt x="13650" y="13380"/>
                  <a:pt x="13667" y="13295"/>
                </a:cubicBezTo>
                <a:cubicBezTo>
                  <a:pt x="13704" y="13108"/>
                  <a:pt x="13721" y="12913"/>
                  <a:pt x="13742" y="12725"/>
                </a:cubicBezTo>
                <a:cubicBezTo>
                  <a:pt x="13763" y="12538"/>
                  <a:pt x="13774" y="12343"/>
                  <a:pt x="13767" y="12154"/>
                </a:cubicBezTo>
                <a:cubicBezTo>
                  <a:pt x="13756" y="11833"/>
                  <a:pt x="13707" y="11520"/>
                  <a:pt x="13618" y="11212"/>
                </a:cubicBezTo>
                <a:cubicBezTo>
                  <a:pt x="13562" y="11019"/>
                  <a:pt x="13470" y="10822"/>
                  <a:pt x="13395" y="10641"/>
                </a:cubicBezTo>
                <a:cubicBezTo>
                  <a:pt x="13359" y="10554"/>
                  <a:pt x="13339" y="10511"/>
                  <a:pt x="13295" y="10443"/>
                </a:cubicBezTo>
                <a:cubicBezTo>
                  <a:pt x="13295" y="10410"/>
                  <a:pt x="13287" y="10402"/>
                  <a:pt x="13246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269" t="45792" r="33775" b="25112"/>
          <a:stretch/>
        </p:blipFill>
        <p:spPr>
          <a:xfrm>
            <a:off x="228600" y="457200"/>
            <a:ext cx="8763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1:47Z</dcterms:created>
  <dc:creator>jnewman</dc:creator>
  <dc:description/>
  <dc:language>en-US</dc:language>
  <cp:lastModifiedBy>abeason</cp:lastModifiedBy>
  <dcterms:modified xsi:type="dcterms:W3CDTF">2009-03-26T16:53:48Z</dcterms:modified>
  <cp:revision>10</cp:revision>
  <dc:subject/>
  <dc:title>Lesson 9.5 part two</dc:title>
</cp:coreProperties>
</file>